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CA9F01-6169-4573-A1CA-73A118DA4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70866C-FC2A-4AC3-9BA1-211C05BB5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5DD15-94A0-440B-B071-2AC7EE15C1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F2B97-E95E-4430-ADD1-6C99C132F2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537944-5F29-4995-8BCA-3807548535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C0ED6C-D0F9-4492-B724-5750A5C420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AB0D53-81D6-40CC-92DB-8A49C035AA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CDFBE-7DE4-4771-AFDF-8A685E5CA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D30CE-6B7E-4701-BCA6-DE236F7AD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98830-74D0-403A-9367-9F05A4EC8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9914A-7B2E-4F77-8AFB-A5B8DB9300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3C0436-13EC-496D-ABE6-9D2911BB8B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ECA137-75E3-4F51-A741-95B11E41F6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888D2B-23D3-4168-B5FE-E1A3F1947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4E1BBF-B83D-4F14-8FC3-42A99ED9E0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F683E5-39B8-4297-89C7-6FCA615540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5FEC19-1E32-4660-8B92-5CEE7CB424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CCF090C-63FB-4DA7-BDD9-321213F0B1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A3FF83-FAE7-4CDD-8FDB-384197BC6A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776554F-15BD-425E-95C8-5D98FC7D4B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322976-E944-406C-9445-E5EEBE4BB7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048BFC-7A1E-465E-AB65-9C0B709C1F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2AE637-5949-42F3-AF2A-223450F7AA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F44942-CC12-4FB9-94A9-12DE7DBC72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9E87D0-DDE8-4659-B9C5-29607ECA74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06E2AB-5734-4653-B168-1B7C5EF269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B0F75F-F008-4626-8464-BB742E0DB1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284D2B-A132-4CBB-BE7D-2E8CE4B61C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BC276BC-6F14-4365-8679-BA3617A4F88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989D8C7-AA63-449D-B78A-40E09511DE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991DB1-3171-4D50-8DF3-F11A16598DC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EABCB0-065E-461F-8F12-FBB6FE9428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C37B5C-E85F-4874-A76C-6014F132AD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29A0F0-403B-4716-9C0F-FDCB25A678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FAB3F3-F5F7-4BB1-AD55-0920787388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E27054-0B0F-407C-83B1-D2163BBE1B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EDEFEF-C899-4A8D-BC34-0308E09204E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55F9E76-A79E-4901-AA6E-2E6C44DDC9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7EE6FD-7E0B-4695-8E39-8FFB21F222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B758F0-51DA-4B18-B6B9-C5CF2DEEBE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4CF2D29-97E9-4FD1-B400-7CC2AB2A2C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EEDA8A-6A78-4798-97D1-95EDF000D60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DC0CE5-3AD3-4B9C-8F15-EF1C120099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74AF1A-5DCF-4C66-8A86-BB5C04781D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7222A0-AC97-45BE-BDFA-F299063B15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61D5C7-94AB-4758-B367-937BBE8EFE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EC8DFE-7B04-42EF-9B4E-2AF8C99DC9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93DC3E-BDC4-4298-81DB-63ECCE3300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802BAF-0C79-49E7-B4DD-C1893A7EC3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DF1FE7-9462-4DFE-84DB-5E189E1F54F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7EA4B7-DA61-42F2-9225-4F5062770B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357BA5-FF8E-4FB5-A48E-89D5737542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147639-EA31-4BDF-912C-E62B1FA8B2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F388E8-2C38-49EF-843D-7089CB30A3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14A6A4-A1FC-496A-A678-9D2C1DA1C5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FC60BD-0F10-423C-90E6-C1DAC9C64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DD4010-D526-4CA3-8882-DD43C9C1E5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4896203-B3E8-4B9A-866D-47967CCC21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EB846E-1533-4B49-8194-CB46F02AACE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1CE3DB-3432-4582-B853-E2292C79469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E6D25F4-E224-456C-A014-809D1799F1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EA08C49-8581-42AA-AD34-36FA601B9D7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A99E3F-BC1C-4BBC-9E72-A1F6FB40C6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BD034A-CED7-4646-96AC-E8135492E7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C02CCA-5425-49F2-96D7-3ED19AFE8B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D3AEDE-24DE-49D8-A8A7-34EB548B41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5FC2F-3FE4-42CB-AFC7-802B1C67AF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F8C558-48EE-4FF3-9E9C-D19FF61F41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1E100C-9ACA-4374-A7FA-BD5B591724E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D0D482E-ECC8-421E-BB3A-B58AA3D7F5F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4A2ED8-1F80-4F57-9238-DD8469365E3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6C78BCC-3A25-41C1-B9CE-73BC8256967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820D04-4AF7-45F3-A4EF-A19EF05E05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F8233B1-3675-4F7C-B553-E256E8E35A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281252-3659-4D93-B2EE-24476BB1F1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620FD4-854B-483E-B818-F6F57B49AE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8D45BE-74F8-4BAC-A992-416C98D31C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E0ABD-50D2-4702-BEEA-9F1674158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BECCA8-D724-4897-8012-929C08BC25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B215CE-E5FD-4F2C-9849-2208AA349C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F6C17B-2785-40F1-8AD5-D501227E25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6746A7D-7C93-4340-ADF4-BF8542EAC5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25CB1C-F870-45F4-9ACD-7C3B5DC3CC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E1450F5-8CB1-453F-9777-CEB454E325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2ED59A-4B2E-4625-BFA1-311BC21636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1B6798-A7A2-4439-86A1-82E48572C2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05EB3C-7FA4-4CF4-B666-BF99F5C279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4AEB15-F8B2-4EEE-9B8A-0C4F6F2C1C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55A05-0FE9-413C-957E-53F4161B0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D1B4E4-3951-465A-A96E-FE3AC3BFFD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48ABD8-4197-47EF-AD73-CC796C8294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B0552C-825D-416B-A95B-E7EB216FAE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1ECD81-193B-4F94-A3E8-043E4D1325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6A2490B-8D8D-4C08-817B-139E304703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9F1DC9-8EA8-413D-9ACA-EDE48AD40D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8F40196-8857-4D2F-97BD-46A156BB814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A556CC-9D26-4793-B44C-72575BA5D0D3}"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9A359-8958-4180-829F-59C35A635EA8}"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40C623-732D-4C08-90D5-55A25F3D0EC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D3B214-D0C8-40FD-AC8B-9108032C1D09}"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BB73ED-0112-48AC-9CFF-AB429F36A1F2}"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6BF7C-0937-48AA-AB6E-88832706B678}"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F76478-8D67-481A-A8AC-68977098C0CC}"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75F283-1887-4972-8BF4-A8B6FD03FC5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2.2 AIRFRAME CONSTRUCTION</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Calibri Light"/>
                <a:ea typeface="等线"/>
              </a:rPr>
              <a:t>机身机构认知</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786040"/>
            <a:ext cx="5851440" cy="150480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2232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2"/>
          <p:cNvSpPr/>
          <p:nvPr/>
        </p:nvSpPr>
        <p:spPr>
          <a:xfrm>
            <a:off x="179280" y="603360"/>
            <a:ext cx="3816360" cy="25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airframe of a fixed-wing aircraft is generally considered to consist of five principal units</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the fuselage, wing, stabilizers, flight control surface, and landing gear (The power plant of the airplane is normally optional.) (Figure 1-1, Figure 1-2). Helicopter airframes consist of the fuselage, main rotor and related gearbox, tail rotor (on helicopters with a single main rotor), and the landing gear.</a:t>
            </a:r>
            <a:endParaRPr b="0" lang="en-US" sz="1600" spc="-1" strike="noStrike">
              <a:solidFill>
                <a:srgbClr val="000000"/>
              </a:solidFill>
              <a:latin typeface="Calibri"/>
            </a:endParaRPr>
          </a:p>
        </p:txBody>
      </p:sp>
      <p:pic>
        <p:nvPicPr>
          <p:cNvPr id="355" name="图片 4" descr=""/>
          <p:cNvPicPr/>
          <p:nvPr/>
        </p:nvPicPr>
        <p:blipFill>
          <a:blip r:embed="rId1"/>
          <a:stretch/>
        </p:blipFill>
        <p:spPr>
          <a:xfrm>
            <a:off x="4152960" y="295200"/>
            <a:ext cx="4848120" cy="3133800"/>
          </a:xfrm>
          <a:prstGeom prst="rect">
            <a:avLst/>
          </a:prstGeom>
          <a:ln w="0">
            <a:noFill/>
          </a:ln>
        </p:spPr>
      </p:pic>
      <p:sp>
        <p:nvSpPr>
          <p:cNvPr id="356" name="文本框 6"/>
          <p:cNvSpPr/>
          <p:nvPr/>
        </p:nvSpPr>
        <p:spPr>
          <a:xfrm>
            <a:off x="4554360" y="3860640"/>
            <a:ext cx="44294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airframe components are constructed from a wide variety of materials and are joined by riveting, bolting, screwing, welding or adhesive. The aircraft components are composed of various parts called structural members (i. e., stringers, longerons, ribs, bulkheads, etc.)</a:t>
            </a:r>
            <a:endParaRPr b="0" lang="en-US" sz="1600" spc="-1" strike="noStrike">
              <a:solidFill>
                <a:srgbClr val="000000"/>
              </a:solidFill>
              <a:latin typeface="Calibri"/>
            </a:endParaRPr>
          </a:p>
        </p:txBody>
      </p:sp>
      <p:pic>
        <p:nvPicPr>
          <p:cNvPr id="357" name="图片 10" descr=""/>
          <p:cNvPicPr/>
          <p:nvPr/>
        </p:nvPicPr>
        <p:blipFill>
          <a:blip r:embed="rId2"/>
          <a:stretch/>
        </p:blipFill>
        <p:spPr>
          <a:xfrm>
            <a:off x="209520" y="3254400"/>
            <a:ext cx="4075200" cy="3076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文本框 9"/>
          <p:cNvSpPr/>
          <p:nvPr/>
        </p:nvSpPr>
        <p:spPr>
          <a:xfrm>
            <a:off x="12600" y="263520"/>
            <a:ext cx="4577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9" name="文本框 2"/>
          <p:cNvSpPr/>
          <p:nvPr/>
        </p:nvSpPr>
        <p:spPr>
          <a:xfrm>
            <a:off x="179280" y="576360"/>
            <a:ext cx="561672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The fuselage is the main structure or body of the aircraft. It provides space for cargo, controls, accessories, passengers, and other equipment. In single engine aircraft, it also houses the power plant. In multi-engine aircraft, the engines may either be in the fuselage, attached to the fuselage, or suspended from the wing structure. They vary principally in size and arrangement of the different compartment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The typical design of fuselage may be divided into three classes:(1)monocoque, (2)semi-monocoque, or(3)reinforced shell. The true monocoque construction (Figure 1-3) uses formers, frame assemblies, and bulkheads to give shape to the fuselage, but the skin carries the primary stresses. Since no bracing members are present, the skin must be strong enough to keep the fuselage rigid. thus, the biggest problem involved in monocoque construction is maintaining enough strength while keeping the weight within allowable limits.</a:t>
            </a:r>
            <a:endParaRPr b="0" lang="en-US" sz="1600" spc="-1" strike="noStrike">
              <a:solidFill>
                <a:srgbClr val="000000"/>
              </a:solidFill>
              <a:latin typeface="Calibri"/>
            </a:endParaRPr>
          </a:p>
        </p:txBody>
      </p:sp>
      <p:pic>
        <p:nvPicPr>
          <p:cNvPr id="360" name="图片 4" descr=""/>
          <p:cNvPicPr/>
          <p:nvPr/>
        </p:nvPicPr>
        <p:blipFill>
          <a:blip r:embed="rId1"/>
          <a:stretch/>
        </p:blipFill>
        <p:spPr>
          <a:xfrm>
            <a:off x="5867280" y="752400"/>
            <a:ext cx="2952720" cy="2676600"/>
          </a:xfrm>
          <a:prstGeom prst="rect">
            <a:avLst/>
          </a:prstGeom>
          <a:ln w="0">
            <a:noFill/>
          </a:ln>
        </p:spPr>
      </p:pic>
      <p:sp>
        <p:nvSpPr>
          <p:cNvPr id="361" name="文本框 6"/>
          <p:cNvSpPr/>
          <p:nvPr/>
        </p:nvSpPr>
        <p:spPr>
          <a:xfrm>
            <a:off x="179280" y="4724280"/>
            <a:ext cx="8640720" cy="2040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o overcome the strength/weight problem of monocoque construction, a modification called semi-monocoque construction (Figure 1-4) was developed. In addition to formers, frame assemblies, and bulkheads, the semi-monocoque construction has the skin reinforced by longitudinal member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reinforced shell has the skin reinforced by a complete framework of structural member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Different portions of the same fuselage may belong to any one of the three classes, but most aircraft are considered to be of semi-monocoque type construc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semi-monocoque fuselage is constructed primarily of the alloys of aluminum magnesium, although steel and titanium are found in areas of high temperature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63" name="图片 3" descr=""/>
          <p:cNvPicPr/>
          <p:nvPr/>
        </p:nvPicPr>
        <p:blipFill>
          <a:blip r:embed="rId1"/>
          <a:stretch/>
        </p:blipFill>
        <p:spPr>
          <a:xfrm>
            <a:off x="5364000" y="455760"/>
            <a:ext cx="3767400" cy="3720960"/>
          </a:xfrm>
          <a:prstGeom prst="rect">
            <a:avLst/>
          </a:prstGeom>
          <a:ln w="0">
            <a:noFill/>
          </a:ln>
        </p:spPr>
      </p:pic>
      <p:sp>
        <p:nvSpPr>
          <p:cNvPr id="364" name="文本框 5"/>
          <p:cNvSpPr/>
          <p:nvPr/>
        </p:nvSpPr>
        <p:spPr>
          <a:xfrm>
            <a:off x="250920" y="596880"/>
            <a:ext cx="511308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rimary bending loads are taken by the longerons, which usually extend across several points of support. The longerons are supplemented by other longitudinal members, called stringers. Stringers are more numerous and lighter in weight than longerons. The stringers are served as fillings. They have some rigidity, but are chiefly used for giving shape and for attachment of the skin. Stringers and longerons prevent tension and compression from bending the fuselag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vertical structural members are referred to as bulkheads, frames, and formers. The heaviest of these vertical members are located at intervals to carry concentrated loads and at points where fittings are used to attach other units, such as the wings, power plants, and stabilizer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strong, heavy longerons hold the bulkheads and formers, and these, in turn, hold the stringers. All of these joined together form a rigid fuselage framework.</a:t>
            </a:r>
            <a:endParaRPr b="0" lang="en-US" sz="1600" spc="-1" strike="noStrike">
              <a:solidFill>
                <a:srgbClr val="000000"/>
              </a:solidFill>
              <a:latin typeface="Calibri"/>
            </a:endParaRPr>
          </a:p>
        </p:txBody>
      </p:sp>
      <p:sp>
        <p:nvSpPr>
          <p:cNvPr id="365" name="文本框 7"/>
          <p:cNvSpPr/>
          <p:nvPr/>
        </p:nvSpPr>
        <p:spPr>
          <a:xfrm>
            <a:off x="349200" y="5122800"/>
            <a:ext cx="847080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metal skin or covering is riveted to the longerons, bulkheads, and other structural members and carries part of the loa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7" name="文本框 3"/>
          <p:cNvSpPr/>
          <p:nvPr/>
        </p:nvSpPr>
        <p:spPr>
          <a:xfrm>
            <a:off x="431640" y="628560"/>
            <a:ext cx="8280720" cy="277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re are a number of advantages in the use of the semi-monocoque fuselage. The bulkheads, frames, stringers, and longerons facilitate the design and construction of a streamlined fuselage, and add to the strength and rigidity of the structure. The main advantage</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however, lies in the fact that it does not depend on a few members for strength and rigidity. This means that a semi-monocoque fuselage, because of its stressed-skin construction, may withstand considerable damage and still be strong enough to hold togethe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uselages are generally constructed in two or more sections. On small aircraft, they are generally made in two or three sections, while larger aircraft may be made up of as many as six section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Quick access to the accessories and other equipment carried in the fuselage is provided by numerous access doors, inspection plates, landing gear wheel wells, and other openings.</a:t>
            </a:r>
            <a:endParaRPr b="0" lang="en-US" sz="1600" spc="-1" strike="noStrike">
              <a:solidFill>
                <a:srgbClr val="000000"/>
              </a:solidFill>
              <a:latin typeface="Calibri"/>
            </a:endParaRPr>
          </a:p>
        </p:txBody>
      </p:sp>
      <p:sp>
        <p:nvSpPr>
          <p:cNvPr id="368" name="文本框 5"/>
          <p:cNvSpPr/>
          <p:nvPr/>
        </p:nvSpPr>
        <p:spPr>
          <a:xfrm>
            <a:off x="431640" y="3408480"/>
            <a:ext cx="8280720" cy="252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W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structure of a typical wing consists of a spar-rib framework enclosed by a thin covering of metal sheet. The spar, or beam, extends from the fuselage to the wing-tip. One or more spars may be used in the wing, but the two-spar design is most common. The ribs, normally at right angles to the spars, give the wing its external shape. If the covering is of metal sheet, it contributes its own share of strength to the wing. This “stressed skin” type of wing is used in all large plan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size and shape of wing vary widely, depending on specific aerodynamic considerations. Wings of many supersonic planes have a high degree of sweepback (arrowhead tapering from the nose of the plane) and are as thin as possible, with a knife-like leading edge. Such a shape helps to reduce the shock of compression when the plane approaches the speed of soun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0" name="文本框 2"/>
          <p:cNvSpPr/>
          <p:nvPr/>
        </p:nvSpPr>
        <p:spPr>
          <a:xfrm>
            <a:off x="395280" y="673200"/>
            <a:ext cx="3456000" cy="5571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airframe  n.   </a:t>
            </a:r>
            <a:r>
              <a:rPr b="0" lang="zh-CN" sz="1500" spc="-1" strike="noStrike">
                <a:solidFill>
                  <a:srgbClr val="000000"/>
                </a:solidFill>
                <a:latin typeface="Times New Roman"/>
                <a:ea typeface="宋体"/>
              </a:rPr>
              <a:t>机体，飞机骨架</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fixed-wing   n.  </a:t>
            </a:r>
            <a:r>
              <a:rPr b="0" lang="zh-CN" sz="1500" spc="-1" strike="noStrike">
                <a:solidFill>
                  <a:srgbClr val="000000"/>
                </a:solidFill>
                <a:latin typeface="Times New Roman"/>
                <a:ea typeface="宋体"/>
              </a:rPr>
              <a:t>固定翼</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fuselage   n.   </a:t>
            </a:r>
            <a:r>
              <a:rPr b="0" lang="zh-CN" sz="1500" spc="-1" strike="noStrike">
                <a:solidFill>
                  <a:srgbClr val="000000"/>
                </a:solidFill>
                <a:latin typeface="Times New Roman"/>
                <a:ea typeface="宋体"/>
              </a:rPr>
              <a:t>机身</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tabilizer   n.  </a:t>
            </a:r>
            <a:r>
              <a:rPr b="0" lang="zh-CN" sz="1500" spc="-1" strike="noStrike">
                <a:solidFill>
                  <a:srgbClr val="000000"/>
                </a:solidFill>
                <a:latin typeface="Times New Roman"/>
                <a:ea typeface="宋体"/>
              </a:rPr>
              <a:t>安定面</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ontrol surface  </a:t>
            </a:r>
            <a:r>
              <a:rPr b="0" lang="zh-CN" sz="1500" spc="-1" strike="noStrike">
                <a:solidFill>
                  <a:srgbClr val="000000"/>
                </a:solidFill>
                <a:latin typeface="Times New Roman"/>
                <a:ea typeface="宋体"/>
              </a:rPr>
              <a:t>操纵面（舵面）</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landing gear  </a:t>
            </a:r>
            <a:r>
              <a:rPr b="0" lang="zh-CN" sz="1500" spc="-1" strike="noStrike">
                <a:solidFill>
                  <a:srgbClr val="000000"/>
                </a:solidFill>
                <a:latin typeface="Times New Roman"/>
                <a:ea typeface="宋体"/>
              </a:rPr>
              <a:t>起落架</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helicopter   a.   </a:t>
            </a:r>
            <a:r>
              <a:rPr b="0" lang="zh-CN" sz="1500" spc="-1" strike="noStrike">
                <a:solidFill>
                  <a:srgbClr val="000000"/>
                </a:solidFill>
                <a:latin typeface="Times New Roman"/>
                <a:ea typeface="宋体"/>
              </a:rPr>
              <a:t>直升机</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omponent   n.  </a:t>
            </a:r>
            <a:r>
              <a:rPr b="0" lang="zh-CN" sz="1500" spc="-1" strike="noStrike">
                <a:solidFill>
                  <a:srgbClr val="000000"/>
                </a:solidFill>
                <a:latin typeface="Times New Roman"/>
                <a:ea typeface="宋体"/>
              </a:rPr>
              <a:t>元件，部件</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tructural member   </a:t>
            </a:r>
            <a:r>
              <a:rPr b="0" lang="zh-CN" sz="1500" spc="-1" strike="noStrike">
                <a:solidFill>
                  <a:srgbClr val="000000"/>
                </a:solidFill>
                <a:latin typeface="Times New Roman"/>
                <a:ea typeface="宋体"/>
              </a:rPr>
              <a:t>结构件</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tringer  n.   </a:t>
            </a:r>
            <a:r>
              <a:rPr b="0" lang="zh-CN" sz="1500" spc="-1" strike="noStrike">
                <a:solidFill>
                  <a:srgbClr val="000000"/>
                </a:solidFill>
                <a:latin typeface="Times New Roman"/>
                <a:ea typeface="宋体"/>
              </a:rPr>
              <a:t>纵材，桁条，长桁</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longeron   n.   </a:t>
            </a:r>
            <a:r>
              <a:rPr b="0" lang="zh-CN" sz="1500" spc="-1" strike="noStrike">
                <a:solidFill>
                  <a:srgbClr val="000000"/>
                </a:solidFill>
                <a:latin typeface="Times New Roman"/>
                <a:ea typeface="宋体"/>
              </a:rPr>
              <a:t>纵梁，大梁</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bulkhead    n.   </a:t>
            </a:r>
            <a:r>
              <a:rPr b="0" lang="zh-CN" sz="1500" spc="-1" strike="noStrike">
                <a:solidFill>
                  <a:srgbClr val="000000"/>
                </a:solidFill>
                <a:latin typeface="Times New Roman"/>
                <a:ea typeface="宋体"/>
              </a:rPr>
              <a:t>隔框（通常指封闭的或半封闭的隔框）</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rudder    n.   </a:t>
            </a:r>
            <a:r>
              <a:rPr b="0" lang="zh-CN" sz="1500" spc="-1" strike="noStrike">
                <a:solidFill>
                  <a:srgbClr val="000000"/>
                </a:solidFill>
                <a:latin typeface="Times New Roman"/>
                <a:ea typeface="宋体"/>
              </a:rPr>
              <a:t>方向舵</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elevator  n.</a:t>
            </a:r>
            <a:r>
              <a:rPr b="0" lang="en-US" sz="1500" spc="-1" strike="noStrike">
                <a:solidFill>
                  <a:srgbClr val="000000"/>
                </a:solidFill>
                <a:latin typeface="Times New Roman"/>
                <a:ea typeface="宋体"/>
              </a:rPr>
              <a:t>	</a:t>
            </a:r>
            <a:r>
              <a:rPr b="0" lang="en-US" sz="1500" spc="-1" strike="noStrike">
                <a:solidFill>
                  <a:srgbClr val="000000"/>
                </a:solidFill>
                <a:latin typeface="Times New Roman"/>
                <a:ea typeface="宋体"/>
              </a:rPr>
              <a:t>  </a:t>
            </a:r>
            <a:r>
              <a:rPr b="0" lang="zh-CN" sz="1500" spc="-1" strike="noStrike">
                <a:solidFill>
                  <a:srgbClr val="000000"/>
                </a:solidFill>
                <a:latin typeface="Times New Roman"/>
                <a:ea typeface="宋体"/>
              </a:rPr>
              <a:t>升降舵</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flap   n.   </a:t>
            </a:r>
            <a:r>
              <a:rPr b="0" lang="zh-CN" sz="1500" spc="-1" strike="noStrike">
                <a:solidFill>
                  <a:srgbClr val="000000"/>
                </a:solidFill>
                <a:latin typeface="Times New Roman"/>
                <a:ea typeface="宋体"/>
              </a:rPr>
              <a:t>襟翼</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aileron  n.   </a:t>
            </a:r>
            <a:r>
              <a:rPr b="0" lang="zh-CN" sz="1500" spc="-1" strike="noStrike">
                <a:solidFill>
                  <a:srgbClr val="000000"/>
                </a:solidFill>
                <a:latin typeface="Times New Roman"/>
                <a:ea typeface="宋体"/>
              </a:rPr>
              <a:t>副翼</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poiler  n.  </a:t>
            </a:r>
            <a:r>
              <a:rPr b="0" lang="zh-CN" sz="1500" spc="-1" strike="noStrike">
                <a:solidFill>
                  <a:srgbClr val="000000"/>
                </a:solidFill>
                <a:latin typeface="Times New Roman"/>
                <a:ea typeface="宋体"/>
              </a:rPr>
              <a:t>扰流板</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lat   n.  </a:t>
            </a:r>
            <a:r>
              <a:rPr b="0" lang="zh-CN" sz="1500" spc="-1" strike="noStrike">
                <a:solidFill>
                  <a:srgbClr val="000000"/>
                </a:solidFill>
                <a:latin typeface="Times New Roman"/>
                <a:ea typeface="宋体"/>
              </a:rPr>
              <a:t>缝翼</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ail cone  </a:t>
            </a:r>
            <a:r>
              <a:rPr b="0" lang="zh-CN" sz="1500" spc="-1" strike="noStrike">
                <a:solidFill>
                  <a:srgbClr val="000000"/>
                </a:solidFill>
                <a:latin typeface="Times New Roman"/>
                <a:ea typeface="宋体"/>
              </a:rPr>
              <a:t>尾锥</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wing tip  </a:t>
            </a:r>
            <a:r>
              <a:rPr b="0" lang="zh-CN" sz="1500" spc="-1" strike="noStrike">
                <a:solidFill>
                  <a:srgbClr val="000000"/>
                </a:solidFill>
                <a:latin typeface="Times New Roman"/>
                <a:ea typeface="宋体"/>
              </a:rPr>
              <a:t>翼尖</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engine strut   </a:t>
            </a:r>
            <a:r>
              <a:rPr b="0" lang="zh-CN" sz="1500" spc="-1" strike="noStrike">
                <a:solidFill>
                  <a:srgbClr val="000000"/>
                </a:solidFill>
                <a:latin typeface="Times New Roman"/>
                <a:ea typeface="宋体"/>
              </a:rPr>
              <a:t>发动机挂架</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pylon  </a:t>
            </a:r>
            <a:r>
              <a:rPr b="0" lang="zh-CN" sz="1500" spc="-1" strike="noStrike">
                <a:solidFill>
                  <a:srgbClr val="000000"/>
                </a:solidFill>
                <a:latin typeface="Times New Roman"/>
                <a:ea typeface="宋体"/>
              </a:rPr>
              <a:t>（发动机）吊架，挂架</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ain landing gear  </a:t>
            </a:r>
            <a:r>
              <a:rPr b="0" lang="zh-CN" sz="1500" spc="-1" strike="noStrike">
                <a:solidFill>
                  <a:srgbClr val="000000"/>
                </a:solidFill>
                <a:latin typeface="Times New Roman"/>
                <a:ea typeface="宋体"/>
              </a:rPr>
              <a:t>主起落架</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nose landing gear   </a:t>
            </a:r>
            <a:r>
              <a:rPr b="0" lang="zh-CN" sz="1500" spc="-1" strike="noStrike">
                <a:solidFill>
                  <a:srgbClr val="000000"/>
                </a:solidFill>
                <a:latin typeface="Times New Roman"/>
                <a:ea typeface="宋体"/>
              </a:rPr>
              <a:t>前起落架</a:t>
            </a:r>
            <a:endParaRPr b="0" lang="en-US" sz="1500" spc="-1" strike="noStrike">
              <a:solidFill>
                <a:srgbClr val="000000"/>
              </a:solidFill>
              <a:latin typeface="Calibri"/>
            </a:endParaRPr>
          </a:p>
        </p:txBody>
      </p:sp>
      <p:sp>
        <p:nvSpPr>
          <p:cNvPr id="371" name="文本框 6"/>
          <p:cNvSpPr/>
          <p:nvPr/>
        </p:nvSpPr>
        <p:spPr>
          <a:xfrm>
            <a:off x="4183200" y="299880"/>
            <a:ext cx="4709880" cy="625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argo  </a:t>
            </a:r>
            <a:r>
              <a:rPr b="0" lang="zh-CN" sz="1500" spc="-1" strike="noStrike">
                <a:solidFill>
                  <a:srgbClr val="000000"/>
                </a:solidFill>
                <a:latin typeface="Times New Roman"/>
                <a:ea typeface="宋体"/>
              </a:rPr>
              <a:t>货物</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onocoque   </a:t>
            </a:r>
            <a:r>
              <a:rPr b="0" lang="zh-CN" sz="1500" spc="-1" strike="noStrike">
                <a:solidFill>
                  <a:srgbClr val="000000"/>
                </a:solidFill>
                <a:latin typeface="Times New Roman"/>
                <a:ea typeface="宋体"/>
              </a:rPr>
              <a:t>硬壳式（结构）</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emi -monocoque  </a:t>
            </a:r>
            <a:r>
              <a:rPr b="0" lang="zh-CN" sz="1500" spc="-1" strike="noStrike">
                <a:solidFill>
                  <a:srgbClr val="000000"/>
                </a:solidFill>
                <a:latin typeface="Times New Roman"/>
                <a:ea typeface="宋体"/>
              </a:rPr>
              <a:t>半硬壳式</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frames/former   </a:t>
            </a:r>
            <a:r>
              <a:rPr b="0" lang="zh-CN" sz="1500" spc="-1" strike="noStrike">
                <a:solidFill>
                  <a:srgbClr val="000000"/>
                </a:solidFill>
                <a:latin typeface="Times New Roman"/>
                <a:ea typeface="宋体"/>
              </a:rPr>
              <a:t>构架</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assembly  </a:t>
            </a:r>
            <a:r>
              <a:rPr b="0" lang="zh-CN" sz="1500" spc="-1" strike="noStrike">
                <a:solidFill>
                  <a:srgbClr val="000000"/>
                </a:solidFill>
                <a:latin typeface="Times New Roman"/>
                <a:ea typeface="宋体"/>
              </a:rPr>
              <a:t>组装，组件 强度</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trength  </a:t>
            </a:r>
            <a:r>
              <a:rPr b="0" lang="zh-CN" sz="1500" spc="-1" strike="noStrike">
                <a:solidFill>
                  <a:srgbClr val="000000"/>
                </a:solidFill>
                <a:latin typeface="Times New Roman"/>
                <a:ea typeface="宋体"/>
              </a:rPr>
              <a:t>力量</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framework   </a:t>
            </a:r>
            <a:r>
              <a:rPr b="0" lang="zh-CN" sz="1500" spc="-1" strike="noStrike">
                <a:solidFill>
                  <a:srgbClr val="000000"/>
                </a:solidFill>
                <a:latin typeface="Times New Roman"/>
                <a:ea typeface="宋体"/>
              </a:rPr>
              <a:t>框架，边框</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框架，隔框（通常指空心隔框）</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portion   n.  </a:t>
            </a:r>
            <a:r>
              <a:rPr b="0" lang="zh-CN" sz="1500" spc="-1" strike="noStrike">
                <a:solidFill>
                  <a:srgbClr val="000000"/>
                </a:solidFill>
                <a:latin typeface="Times New Roman"/>
                <a:ea typeface="宋体"/>
              </a:rPr>
              <a:t>部分</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rigidity   n.  </a:t>
            </a:r>
            <a:r>
              <a:rPr b="0" lang="zh-CN" sz="1500" spc="-1" strike="noStrike">
                <a:solidFill>
                  <a:srgbClr val="000000"/>
                </a:solidFill>
                <a:latin typeface="Times New Roman"/>
                <a:ea typeface="宋体"/>
              </a:rPr>
              <a:t>刚度</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treamlined   adj.   </a:t>
            </a:r>
            <a:r>
              <a:rPr b="0" lang="zh-CN" sz="1500" spc="-1" strike="noStrike">
                <a:solidFill>
                  <a:srgbClr val="000000"/>
                </a:solidFill>
                <a:latin typeface="Times New Roman"/>
                <a:ea typeface="宋体"/>
              </a:rPr>
              <a:t>流线型的</a:t>
            </a:r>
            <a:r>
              <a:rPr b="0" lang="en-US" sz="1500" spc="-1" strike="noStrike">
                <a:solidFill>
                  <a:srgbClr val="000000"/>
                </a:solidFill>
                <a:latin typeface="Times New Roman"/>
                <a:ea typeface="宋体"/>
              </a:rPr>
              <a:t> </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tress   n.   </a:t>
            </a:r>
            <a:r>
              <a:rPr b="0" lang="zh-CN" sz="1500" spc="-1" strike="noStrike">
                <a:solidFill>
                  <a:srgbClr val="000000"/>
                </a:solidFill>
                <a:latin typeface="Times New Roman"/>
                <a:ea typeface="宋体"/>
              </a:rPr>
              <a:t>压力，应力</a:t>
            </a:r>
            <a:r>
              <a:rPr b="0" lang="en-US" sz="1500" spc="-1" strike="noStrike">
                <a:solidFill>
                  <a:srgbClr val="000000"/>
                </a:solidFill>
                <a:latin typeface="Times New Roman"/>
                <a:ea typeface="宋体"/>
              </a:rPr>
              <a:t>, </a:t>
            </a:r>
            <a:r>
              <a:rPr b="0" lang="zh-CN" sz="1500" spc="-1" strike="noStrike">
                <a:solidFill>
                  <a:srgbClr val="000000"/>
                </a:solidFill>
                <a:latin typeface="Times New Roman"/>
                <a:ea typeface="宋体"/>
              </a:rPr>
              <a:t>加压力</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withstand   v.   </a:t>
            </a:r>
            <a:r>
              <a:rPr b="0" lang="zh-CN" sz="1500" spc="-1" strike="noStrike">
                <a:solidFill>
                  <a:srgbClr val="000000"/>
                </a:solidFill>
                <a:latin typeface="Times New Roman"/>
                <a:ea typeface="宋体"/>
              </a:rPr>
              <a:t>经受，承受</a:t>
            </a:r>
            <a:r>
              <a:rPr b="0" lang="en-US" sz="1500" spc="-1" strike="noStrike">
                <a:solidFill>
                  <a:srgbClr val="000000"/>
                </a:solidFill>
                <a:latin typeface="Times New Roman"/>
                <a:ea typeface="宋体"/>
              </a:rPr>
              <a:t> </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access door  </a:t>
            </a:r>
            <a:r>
              <a:rPr b="0" lang="zh-CN" sz="1500" spc="-1" strike="noStrike">
                <a:solidFill>
                  <a:srgbClr val="000000"/>
                </a:solidFill>
                <a:latin typeface="Times New Roman"/>
                <a:ea typeface="宋体"/>
              </a:rPr>
              <a:t>接近门</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ontribute to   </a:t>
            </a:r>
            <a:r>
              <a:rPr b="0" lang="zh-CN" sz="1500" spc="-1" strike="noStrike">
                <a:solidFill>
                  <a:srgbClr val="000000"/>
                </a:solidFill>
                <a:latin typeface="Times New Roman"/>
                <a:ea typeface="宋体"/>
              </a:rPr>
              <a:t>有助于</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的</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onsideration   n.   </a:t>
            </a:r>
            <a:r>
              <a:rPr b="0" lang="zh-CN" sz="1500" spc="-1" strike="noStrike">
                <a:solidFill>
                  <a:srgbClr val="000000"/>
                </a:solidFill>
                <a:latin typeface="Times New Roman"/>
                <a:ea typeface="宋体"/>
              </a:rPr>
              <a:t>考虑，需要考虑的事项</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weepback   n.   </a:t>
            </a:r>
            <a:r>
              <a:rPr b="0" lang="zh-CN" sz="1500" spc="-1" strike="noStrike">
                <a:solidFill>
                  <a:srgbClr val="000000"/>
                </a:solidFill>
                <a:latin typeface="Times New Roman"/>
                <a:ea typeface="宋体"/>
              </a:rPr>
              <a:t>后掠角</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Leading Edge(LE)   </a:t>
            </a:r>
            <a:r>
              <a:rPr b="0" lang="zh-CN" sz="1500" spc="-1" strike="noStrike">
                <a:solidFill>
                  <a:srgbClr val="000000"/>
                </a:solidFill>
                <a:latin typeface="Times New Roman"/>
                <a:ea typeface="宋体"/>
              </a:rPr>
              <a:t>前部，前缘</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rear   adj.   </a:t>
            </a:r>
            <a:r>
              <a:rPr b="0" lang="zh-CN" sz="1500" spc="-1" strike="noStrike">
                <a:solidFill>
                  <a:srgbClr val="000000"/>
                </a:solidFill>
                <a:latin typeface="Times New Roman"/>
                <a:ea typeface="宋体"/>
              </a:rPr>
              <a:t>后面的</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tationary   adj.   </a:t>
            </a:r>
            <a:r>
              <a:rPr b="0" lang="zh-CN" sz="1500" spc="-1" strike="noStrike">
                <a:solidFill>
                  <a:srgbClr val="000000"/>
                </a:solidFill>
                <a:latin typeface="Times New Roman"/>
                <a:ea typeface="宋体"/>
              </a:rPr>
              <a:t>固定的，静止的，不变的</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auxiliary   adj.   </a:t>
            </a:r>
            <a:r>
              <a:rPr b="0" lang="zh-CN" sz="1500" spc="-1" strike="noStrike">
                <a:solidFill>
                  <a:srgbClr val="000000"/>
                </a:solidFill>
                <a:latin typeface="Times New Roman"/>
                <a:ea typeface="宋体"/>
              </a:rPr>
              <a:t>辅助的</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rim tab   </a:t>
            </a:r>
            <a:r>
              <a:rPr b="0" lang="zh-CN" sz="1500" spc="-1" strike="noStrike">
                <a:solidFill>
                  <a:srgbClr val="000000"/>
                </a:solidFill>
                <a:latin typeface="Times New Roman"/>
                <a:ea typeface="宋体"/>
              </a:rPr>
              <a:t>配平调整片</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pring tab   </a:t>
            </a:r>
            <a:r>
              <a:rPr b="0" lang="zh-CN" sz="1500" spc="-1" strike="noStrike">
                <a:solidFill>
                  <a:srgbClr val="000000"/>
                </a:solidFill>
                <a:latin typeface="Times New Roman"/>
                <a:ea typeface="宋体"/>
              </a:rPr>
              <a:t>弹簧调整片</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peed brake   </a:t>
            </a:r>
            <a:r>
              <a:rPr b="0" lang="zh-CN" sz="1500" spc="-1" strike="noStrike">
                <a:solidFill>
                  <a:srgbClr val="000000"/>
                </a:solidFill>
                <a:latin typeface="Times New Roman"/>
                <a:ea typeface="宋体"/>
              </a:rPr>
              <a:t>减速板</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hock strut   </a:t>
            </a:r>
            <a:r>
              <a:rPr b="0" lang="zh-CN" sz="1500" spc="-1" strike="noStrike">
                <a:solidFill>
                  <a:srgbClr val="000000"/>
                </a:solidFill>
                <a:latin typeface="Times New Roman"/>
                <a:ea typeface="宋体"/>
              </a:rPr>
              <a:t>减震支柱</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echanism   n.   </a:t>
            </a:r>
            <a:r>
              <a:rPr b="0" lang="zh-CN" sz="1500" spc="-1" strike="noStrike">
                <a:solidFill>
                  <a:srgbClr val="000000"/>
                </a:solidFill>
                <a:latin typeface="Times New Roman"/>
                <a:ea typeface="宋体"/>
              </a:rPr>
              <a:t>机械装置，机构，机制</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wheel brake   </a:t>
            </a:r>
            <a:r>
              <a:rPr b="0" lang="zh-CN" sz="1500" spc="-1" strike="noStrike">
                <a:solidFill>
                  <a:srgbClr val="000000"/>
                </a:solidFill>
                <a:latin typeface="Times New Roman"/>
                <a:ea typeface="宋体"/>
              </a:rPr>
              <a:t>机轮刹车</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aneuver   v.   </a:t>
            </a:r>
            <a:r>
              <a:rPr b="0" lang="zh-CN" sz="1500" spc="-1" strike="noStrike">
                <a:solidFill>
                  <a:srgbClr val="000000"/>
                </a:solidFill>
                <a:latin typeface="Times New Roman"/>
                <a:ea typeface="宋体"/>
              </a:rPr>
              <a:t>操纵，机动</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3" name="文本框 6"/>
          <p:cNvSpPr/>
          <p:nvPr/>
        </p:nvSpPr>
        <p:spPr>
          <a:xfrm>
            <a:off x="250920" y="612720"/>
            <a:ext cx="8569080" cy="374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omplex Sentence Analys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The airframe components are constructed from a wide variety of materials and are joined by riveting, bolting, screwing, welding or adhesiv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分析：联系前后文，这句中的</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riveting, bolting, screwing”</a:t>
            </a:r>
            <a:r>
              <a:rPr b="0" lang="zh-CN" sz="1600" spc="-1" strike="noStrike">
                <a:solidFill>
                  <a:srgbClr val="000000"/>
                </a:solidFill>
                <a:latin typeface="Times New Roman"/>
                <a:ea typeface="宋体"/>
              </a:rPr>
              <a:t>应翻译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物接、螺栓 连接、螺钉连接</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机体部件由各种材料组成，通过钾接、螺栓连接、螺钉连接、焊接、胶接相连。</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The stationary section of the vertical surface is called the fin, and the movable section, the rudde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分析：本句是省略句，为使语言简洁，</a:t>
            </a:r>
            <a:r>
              <a:rPr b="0" lang="en-US" sz="1600" spc="-1" strike="noStrike">
                <a:solidFill>
                  <a:srgbClr val="000000"/>
                </a:solidFill>
                <a:latin typeface="Times New Roman"/>
                <a:ea typeface="宋体"/>
              </a:rPr>
              <a:t>"the rudder”</a:t>
            </a:r>
            <a:r>
              <a:rPr b="0" lang="zh-CN" sz="1600" spc="-1" strike="noStrike">
                <a:solidFill>
                  <a:srgbClr val="000000"/>
                </a:solidFill>
                <a:latin typeface="Times New Roman"/>
                <a:ea typeface="宋体"/>
              </a:rPr>
              <a:t>前省略了</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is called”</a:t>
            </a:r>
            <a:r>
              <a:rPr b="0" lang="zh-CN"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不能动的垂直安定面称为垂尾，上面可动的部分称为方向舵。</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 The metal skin or covering is riveted to the longerons, bulkheads, and other structural members and carries part of the load.</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 be riveted to B  A</a:t>
            </a:r>
            <a:r>
              <a:rPr b="0" lang="zh-CN" sz="1600" spc="-1" strike="noStrike">
                <a:solidFill>
                  <a:srgbClr val="000000"/>
                </a:solidFill>
                <a:latin typeface="Times New Roman"/>
                <a:ea typeface="宋体"/>
              </a:rPr>
              <a:t>被铆接在</a:t>
            </a:r>
            <a:r>
              <a:rPr b="0" lang="en-US" sz="1600" spc="-1" strike="noStrike">
                <a:solidFill>
                  <a:srgbClr val="000000"/>
                </a:solidFill>
                <a:latin typeface="Times New Roman"/>
                <a:ea typeface="宋体"/>
              </a:rPr>
              <a:t>B</a:t>
            </a:r>
            <a:r>
              <a:rPr b="0" lang="zh-CN" sz="1600" spc="-1" strike="noStrike">
                <a:solidFill>
                  <a:srgbClr val="000000"/>
                </a:solidFill>
                <a:latin typeface="Times New Roman"/>
                <a:ea typeface="宋体"/>
              </a:rPr>
              <a:t>上；与此类似，</a:t>
            </a:r>
            <a:r>
              <a:rPr b="0" lang="en-US" sz="1600" spc="-1" strike="noStrike">
                <a:solidFill>
                  <a:srgbClr val="000000"/>
                </a:solidFill>
                <a:latin typeface="Times New Roman"/>
                <a:ea typeface="宋体"/>
              </a:rPr>
              <a:t>be threaded to </a:t>
            </a:r>
            <a:r>
              <a:rPr b="0" lang="zh-CN" sz="1600" spc="-1" strike="noStrike">
                <a:solidFill>
                  <a:srgbClr val="000000"/>
                </a:solidFill>
                <a:latin typeface="Times New Roman"/>
                <a:ea typeface="宋体"/>
              </a:rPr>
              <a:t>表螺纹连接。</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金属外壳或覆盖物被铆接在纵梁、隔板和其他构件上，并承担部分载荷。</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30T16:08:52Z</dcterms:modified>
  <cp:revision>3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