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C7F6D-9125-41A4-805E-808B5A854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82FB96-931B-40FA-ACA4-10A103F87E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2A496-457F-4BBC-B9A4-4E6E7A61E0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3BD95-93F9-4E64-9869-2B666431D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804BA7-D2BA-4CFB-A959-9A3C0E31F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618E5E-A51B-45DE-AC1F-BEE3CF0730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491EA3-DD7A-4978-BC8D-86722B6B65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69DF4-47FA-405E-9A2F-F816ED842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3E7E2-E156-4C5D-9A06-7384C497E3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6CF94-0FF2-4207-ACD4-A90238E3F4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A9DB0-6CAE-4395-A2A7-A4401F230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C910A-7B67-4A55-9CF8-6D49DC249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0688F7-73A6-48D7-BB53-BC673EB392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34249-2A05-48C1-8C8B-1AB8C93212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E422A-94F1-4AA1-9188-D51D752294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4D49E-63C9-470F-B1BB-F180D08102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38418AA-3F05-497A-8609-F52B8F10C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96806C-F5DF-47CC-9B6E-3806FDB818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B9E7F-2D5E-4130-94A4-D3C4D94F5D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AE5A6C-5271-4D0F-A077-1004416F33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A4F763-221D-4F71-8D29-FEFA272F2F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D34DA-FE0B-44FB-893C-577F14FBA2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DE534-62CE-41A1-9E64-9BF567F504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F7642F-D141-42C2-A874-D4E29E4F60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B71001-A364-4F01-A172-381953375A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AAE3A7-7A81-4C68-899C-012A61DFB2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4340BB-260D-4474-B1BA-D15FCDCDA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456B1-8A82-443F-B4E1-B40FD54565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9DCAE0-5DA2-469C-B1F3-9EED65037C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8B338F5-FDC8-4EDE-BD87-AC0EABF7E6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930624-1284-468B-8BCD-DCCFCBFCE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FD8FA7-62BD-455E-84BB-704C6E182C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213C9E-288F-451A-875A-B6AEEC8FCE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5B6B3E-654D-4FFE-B819-338252165E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DD6164-CD99-450E-B080-703ED2A5CA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9AF937-E999-4C80-98D1-EDA3F59E1F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C441B02-B185-4B2F-BF66-8D2F72F94AA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7D6EBB-87E7-4317-AA6F-BBA92155F1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E7C1C6-76DF-4734-AEE6-5599C0938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50A68C-822E-4E98-8D13-93998F1C2F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3F2497-9888-4769-8A55-CACFA901ED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14A40A3-B546-4743-A09A-DBFD4A84FF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BD1D7F1-4C35-401A-BE89-ADBCC57613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AE3AF0-9B85-4B20-B300-4344E7D185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864D-54FA-49E8-9031-1F0B759CF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A964D5-D2E7-426A-9952-5E93274E76E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0FE4FD-EC9C-4AE0-9CCF-0D1BA7B19A3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CB5F9-0F23-4A60-9D25-ECEB93B65C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C5756D7-8BF1-4C8A-8145-5DD577F4DC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BBF1F93-D01E-4D06-AE53-A221D26401F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3FFAF1-58BB-4E5D-8E3C-3B046BB4DB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FE2A76-62B9-433C-B036-08696D514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AD7290-733E-471E-B38A-0D13659E6C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2D4B654-744F-4D5C-B848-71213FF0DD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7A03D-719F-4D79-90D4-D2310028F0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C44C7-670C-4A54-9F91-97473C9375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AF4DC1C-7175-4DCC-84D7-E40F8B40D3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18F0781-F71E-43AE-8F1D-5BB864F0615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3B2FCD-6517-4F53-8019-50B4B64249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BB3534-C451-4008-AD8F-09A251A256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18BEE0-0926-427E-ACB9-686F7B67FF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FB366C-31E1-47F1-B471-4C76E18FD0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F21900-B80B-46BF-86CC-7B7ABBF11D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F8D498-92D4-4968-84A3-7EB6E124ED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B1D361-D309-40DF-9E8F-728785928C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3C837C-B404-41D3-A0FB-FA7A8EB819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5C983-CCE8-446C-9039-7B1E77086E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581063-BE71-4F02-97E3-C2755A706A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F9D876-8D68-467A-B210-7D0C1A4796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237FCE3-5A5E-4A04-B695-D7CA48BE56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E1411D-7FA2-45B6-9E9D-A8858539F9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430792-54EF-414E-8688-B03E16A616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B9F37C-AF7A-4A65-9E0B-F723B24CCC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C850F9-BF16-42E4-801E-86D0D1EEDB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6B1419-67FA-4C43-A041-FC2228FE43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565C9D-25EC-4F14-941D-017C0BE36B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7F211A-6606-4A26-9BDF-EF683A8C2B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0D60B3-7BF6-4DFE-AE05-CCED272535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4C0479-C0CD-4DF8-A773-5EDDA2FFB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FACCA2-7DB4-490F-83F8-C74CAA4BBB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0E9628-8AC1-44A7-A5F2-CCB4EC804F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E8BC58C-C3F2-4E83-B0ED-66165F0B89F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ECF214-B981-495F-9FA4-268A12E886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AA116E-99AC-4CB5-B81C-8BCDC73D28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A65849-89C1-453D-BE05-06DA06FF2B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654E9F2-54CD-4E60-B726-5B7F0B4D73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232F9D-746E-4278-AB48-9CBACBA3F8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FAE43E-1AC6-4E6F-81B4-157EEBC0D94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0CDFFA-9464-4513-B91D-C2724910C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997E18-233D-439E-AB7C-D4011492E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C3B938-1F98-4F6A-A9C7-3EDE67F2F4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884536-AABF-433C-ACE6-97690515B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F7D403-A22A-4E46-A027-514552E7FF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F56FE1-8987-4109-AEA9-0DC71135E8B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02A604-4666-4597-9E4F-20F39EFB82E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E32DC88-3133-4847-99D1-E27984FC21BB}"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14A958-B9A9-4E5E-AC95-B5AE1E42FD8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21A79F-EA07-401C-80A0-030C1F380FC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B80C3E-58DA-48AB-8500-6053F09251A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77442-AC4F-4901-BAB3-D41764911CE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2130FC-4883-489D-8064-0C6474DF4F0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C94AD5-A4AB-4EB8-A6E0-3965427D98C6}"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08417E-633B-4D2D-A7CD-7A68AB03212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5A9829-9A18-4494-9157-C6F1B2AB665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547640" y="444636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3.1 TUNNEL CONSTRUCTION EQUIPMENT</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隧道施工设备</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324000" y="595440"/>
            <a:ext cx="8280360" cy="374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Variable diameter integration equipment for drilling, cavitation,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pressure relief and refle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ariable diameter drilling integrated equipment for coal seam caving, pressure relief and reflection enhancement is an advanced equipment for coal seam mining. Through variable diameter drilling technology, coal seam caving, pressure relief and reflection enhancement can be realized, and coal seam mining efficiency and safety can be improved. This report will investigate the manufacturing company, structural composition, working principle and main application scenarios of the equipment, and explore its significance to China's energy exploit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t present, there are a number of manufacturing companies at home and abroad to produce variable diameter drilling coal seam cavitation relief pressure and reflection integration equipment. Among them, the well-known domestic manufacturing companies include China Coal Science and Industry Group, China Coal Science and Industry Group Heavy Equipment Co., LTD. Foreign manufacturing companies include Joy Global Inc. of the United States and Eickhoff Bergbautechnik GmbH of Germany. These companies have high technical strength and market share in the field of coal mining equipment manufacturing.</a:t>
            </a:r>
            <a:endParaRPr b="0" lang="en-US" sz="1600" spc="-1" strike="noStrike">
              <a:solidFill>
                <a:srgbClr val="000000"/>
              </a:solidFill>
              <a:latin typeface="Calibri"/>
            </a:endParaRPr>
          </a:p>
        </p:txBody>
      </p:sp>
      <p:sp>
        <p:nvSpPr>
          <p:cNvPr id="355" name="文本框 6"/>
          <p:cNvSpPr/>
          <p:nvPr/>
        </p:nvSpPr>
        <p:spPr>
          <a:xfrm>
            <a:off x="395280" y="4286160"/>
            <a:ext cx="82090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Structure composi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integrated equipment of coal seam caving, pressure relief and permeability improvement in variable diameter drilling is mainly composed of drill, drill rod, drill bit and control system. The drill rig is the core component of the equipment, which is used to control the rotation and propulsion of the drill pipe to achieve the drilling operation. The drill pipe is the part that connects the drill to the drill bit and is responsible for transmitting power and carrying loads during drilling. The drill is the working part of the equipment, which realizes the purpose of cavitation, pressure relief and reflection enhancement by rotating and impacting the coal seam. The control system is used to monitor and control the operating status of the equipment to ensure the safety and stability of the opera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7" name="文本框 2"/>
          <p:cNvSpPr/>
          <p:nvPr/>
        </p:nvSpPr>
        <p:spPr>
          <a:xfrm>
            <a:off x="324000" y="615960"/>
            <a:ext cx="2952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KXJ-7300-500 mechanical coal seam cavitation pressure relief devi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ariable diameter mechanical cavitation device</a:t>
            </a:r>
            <a:endParaRPr b="0" lang="en-US" sz="1600" spc="-1" strike="noStrike">
              <a:solidFill>
                <a:srgbClr val="000000"/>
              </a:solidFill>
              <a:latin typeface="Calibri"/>
            </a:endParaRPr>
          </a:p>
        </p:txBody>
      </p:sp>
      <p:pic>
        <p:nvPicPr>
          <p:cNvPr id="358" name="图片 7" descr=""/>
          <p:cNvPicPr/>
          <p:nvPr/>
        </p:nvPicPr>
        <p:blipFill>
          <a:blip r:embed="rId1"/>
          <a:stretch/>
        </p:blipFill>
        <p:spPr>
          <a:xfrm>
            <a:off x="3519360" y="538200"/>
            <a:ext cx="5280120" cy="1341360"/>
          </a:xfrm>
          <a:prstGeom prst="rect">
            <a:avLst/>
          </a:prstGeom>
          <a:ln w="0">
            <a:noFill/>
          </a:ln>
        </p:spPr>
      </p:pic>
      <p:sp>
        <p:nvSpPr>
          <p:cNvPr id="359" name="文本框 5"/>
          <p:cNvSpPr/>
          <p:nvPr/>
        </p:nvSpPr>
        <p:spPr>
          <a:xfrm>
            <a:off x="4067280" y="1938240"/>
            <a:ext cx="45910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 1-1 Variable diameter mechanical cavitation device</a:t>
            </a:r>
            <a:endParaRPr b="0" lang="en-US" sz="1600" spc="-1" strike="noStrike">
              <a:solidFill>
                <a:srgbClr val="000000"/>
              </a:solidFill>
              <a:latin typeface="Calibri"/>
            </a:endParaRPr>
          </a:p>
        </p:txBody>
      </p:sp>
      <p:pic>
        <p:nvPicPr>
          <p:cNvPr id="360" name="图片 1" descr=""/>
          <p:cNvPicPr/>
          <p:nvPr/>
        </p:nvPicPr>
        <p:blipFill>
          <a:blip r:embed="rId2"/>
          <a:stretch/>
        </p:blipFill>
        <p:spPr>
          <a:xfrm>
            <a:off x="3519360" y="2523960"/>
            <a:ext cx="5273640" cy="1554480"/>
          </a:xfrm>
          <a:prstGeom prst="rect">
            <a:avLst/>
          </a:prstGeom>
          <a:ln w="0">
            <a:noFill/>
          </a:ln>
        </p:spPr>
      </p:pic>
      <p:sp>
        <p:nvSpPr>
          <p:cNvPr id="361" name="文本框 10"/>
          <p:cNvSpPr/>
          <p:nvPr/>
        </p:nvSpPr>
        <p:spPr>
          <a:xfrm>
            <a:off x="4594320" y="4100400"/>
            <a:ext cx="3649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 1-2 Composition of variable diameter mechanical cavitation system</a:t>
            </a:r>
            <a:endParaRPr b="0" lang="en-US" sz="1600" spc="-1" strike="noStrike">
              <a:solidFill>
                <a:srgbClr val="000000"/>
              </a:solidFill>
              <a:latin typeface="Calibri"/>
            </a:endParaRPr>
          </a:p>
        </p:txBody>
      </p:sp>
      <p:pic>
        <p:nvPicPr>
          <p:cNvPr id="362" name="图片 12" descr=""/>
          <p:cNvPicPr/>
          <p:nvPr/>
        </p:nvPicPr>
        <p:blipFill>
          <a:blip r:embed="rId3"/>
          <a:stretch/>
        </p:blipFill>
        <p:spPr>
          <a:xfrm>
            <a:off x="3524400" y="4756320"/>
            <a:ext cx="5619600" cy="2085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468360" y="598320"/>
            <a:ext cx="84247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Operation proces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working principle of the integrated equipment of variable diameter drilling for coal seam cavitation, pressure relief and reflection enhancement is to realize the cavitation, pressure relief and reflection enhancement of coal seam through drilling technology. The specific working process is as follows: First, the drill pipe and drill bit are sent into the coal seam, and the drilling operation is carried out by rotation and propulsion; Then, in the process of drilling, the bit rotates and impinges the coal seam to realize cavitation and pressure relief. Finally, the equipment is monitored and controlled by the control system to ensure the safety and stability of the operation.</a:t>
            </a:r>
            <a:endParaRPr b="0" lang="en-US" sz="1600" spc="-1" strike="noStrike">
              <a:solidFill>
                <a:srgbClr val="000000"/>
              </a:solidFill>
              <a:latin typeface="Calibri"/>
            </a:endParaRPr>
          </a:p>
        </p:txBody>
      </p:sp>
      <p:pic>
        <p:nvPicPr>
          <p:cNvPr id="365" name="图片 4" descr=""/>
          <p:cNvPicPr/>
          <p:nvPr/>
        </p:nvPicPr>
        <p:blipFill>
          <a:blip r:embed="rId1"/>
          <a:stretch/>
        </p:blipFill>
        <p:spPr>
          <a:xfrm>
            <a:off x="3851280" y="2692440"/>
            <a:ext cx="5041800" cy="2292480"/>
          </a:xfrm>
          <a:prstGeom prst="rect">
            <a:avLst/>
          </a:prstGeom>
          <a:ln w="0">
            <a:noFill/>
          </a:ln>
        </p:spPr>
      </p:pic>
      <p:sp>
        <p:nvSpPr>
          <p:cNvPr id="366" name="文本框 8"/>
          <p:cNvSpPr/>
          <p:nvPr/>
        </p:nvSpPr>
        <p:spPr>
          <a:xfrm>
            <a:off x="468360" y="2720880"/>
            <a:ext cx="338292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Scope of applic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echanical coal seam cavitation device is independently developed by our company, which can realize the integration of coal seam drilling and cavitation operation through the opening and closing of the mechanical knife arm. It can achieve pressure relief and permeability enhancement of coal seam, improve the efficiency and concentration of gas extraction, and is widely used in gas extraction of perforating hole, coal seam and driving fa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2"/>
          <p:cNvSpPr/>
          <p:nvPr/>
        </p:nvSpPr>
        <p:spPr>
          <a:xfrm>
            <a:off x="324000" y="598320"/>
            <a:ext cx="81356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Process advantag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outburst risk can be quickly eliminated by unloading and pumping. The driving rate of the cover lane through the layer drilling has been increased from the original 100m/ month to 200m/ month, and the pre-pumping of the bedding strip has been increased from the original less than 50m/ month to 100m/ mont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equipment can expand the borehole aperture to 500-1200mm, increase the permeability by 2-3 orders of magnitude, reduce the amount of gas extraction borehole engineering by 70%-80% under ideal conditions, increase the concentration by more than 70%, increase the amount of gas extraction by more than 7 times, shorten the extraction standard time by about 3 times, and reduce the cost of tons of coal gas treatment by about 50%-60%.</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Application effec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e gas concentration of cavitation holes is 1.5~3.4 times that of ordinary hol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 construction days of excavation single cycle are reduced from the original 10 days to 5 day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Gas extraction is 4.29~11.57 times that of ordinary dri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The cavitation efficiency per meter is increased by 3-5 tim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2"/>
          <p:cNvSpPr/>
          <p:nvPr/>
        </p:nvSpPr>
        <p:spPr>
          <a:xfrm>
            <a:off x="250920" y="692280"/>
            <a:ext cx="828180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 Main application scenario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integrated equipment of variable diameter drilling for coal seam cavitation, pressure relief and reflection enhancement is mainly used in coal seam cavitation, pressure relief and reflection enhancement during coal seam mining. It can improve the efficiency and safety of coal seam mining and reduce the risk of accidents during coal seam mining. At the same time, the equipment can also be applied to other mining fields, such as metal mines, non-metal mines, etc., and has a wide range of application prospec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 Significance for China's energy exploit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integrated equipment of variable diameter drilling for coal seam cavitation, pressure relief and permeability enhancement is of great significance to energy exploitation in China. First, it can improve the efficiency of coal seam mining and reduce the waste of energy resources. Secondly, the gas permeability and permeability of coal seam can be improved through pressure relief and anti-reflection technology, and the recovery rate of coal seam can be increased. In addition, the equipment can also reduce the risk of accidents during coal seam mining and ensure the safety of miners. Therefore, it is of great economic and social benefit to popularize the integrated equipment of variable diameter drilling for coal seam cavitation, pressure relief and permeability enhancemen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2" name="文本框 3" descr=""/>
          <p:cNvPicPr/>
          <p:nvPr/>
        </p:nvPicPr>
        <p:blipFill>
          <a:blip r:embed="rId1"/>
          <a:stretch/>
        </p:blipFill>
        <p:spPr>
          <a:xfrm>
            <a:off x="-23760" y="652320"/>
            <a:ext cx="4565520" cy="5669280"/>
          </a:xfrm>
          <a:prstGeom prst="rect">
            <a:avLst/>
          </a:prstGeom>
          <a:ln w="0">
            <a:noFill/>
          </a:ln>
        </p:spPr>
      </p:pic>
      <p:sp>
        <p:nvSpPr>
          <p:cNvPr id="373" name="文本框 2"/>
          <p:cNvSpPr/>
          <p:nvPr/>
        </p:nvSpPr>
        <p:spPr>
          <a:xfrm>
            <a:off x="4541760" y="1484280"/>
            <a:ext cx="454032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定向扶正器，防止打钻偏斜</a:t>
            </a:r>
            <a:r>
              <a:rPr b="0" lang="en-US" sz="1500" spc="-1" strike="noStrike">
                <a:solidFill>
                  <a:srgbClr val="000000"/>
                </a:solidFill>
                <a:latin typeface="Times New Roman"/>
                <a:ea typeface="宋体"/>
              </a:rPr>
              <a:t>-Directional centralizer to prevent drilling deviation</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连接转换器，过渡节兼变径装置</a:t>
            </a:r>
            <a:r>
              <a:rPr b="0" lang="en-US" sz="1500" spc="-1" strike="noStrike">
                <a:solidFill>
                  <a:srgbClr val="000000"/>
                </a:solidFill>
                <a:latin typeface="Times New Roman"/>
                <a:ea typeface="宋体"/>
              </a:rPr>
              <a:t>-The connecting converter is used as a transition joint and reducing device</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变径扩孔器，可变径机械扩孔刀体</a:t>
            </a:r>
            <a:r>
              <a:rPr b="0" lang="en-US" sz="1500" spc="-1" strike="noStrike">
                <a:solidFill>
                  <a:srgbClr val="000000"/>
                </a:solidFill>
                <a:latin typeface="Times New Roman"/>
                <a:ea typeface="宋体"/>
              </a:rPr>
              <a:t>-Variable diameter reamer, variable diameter mechanical reamer body</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复位器，刀臂闭合机构</a:t>
            </a:r>
            <a:r>
              <a:rPr b="0" lang="en-US" sz="1500" spc="-1" strike="noStrike">
                <a:solidFill>
                  <a:srgbClr val="000000"/>
                </a:solidFill>
                <a:latin typeface="Times New Roman"/>
                <a:ea typeface="宋体"/>
              </a:rPr>
              <a:t>-Reset device, tool arm closing mechanism</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逆向防堵器，防止岩煤渣进入刀体</a:t>
            </a:r>
            <a:r>
              <a:rPr b="0" lang="en-US" sz="1500" spc="-1" strike="noStrike">
                <a:solidFill>
                  <a:srgbClr val="000000"/>
                </a:solidFill>
                <a:latin typeface="Times New Roman"/>
                <a:ea typeface="宋体"/>
              </a:rPr>
              <a:t>-Reverse blocking device to prevent rock cinder from entering the cutter body</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5" name="文本框 6" descr=""/>
          <p:cNvPicPr/>
          <p:nvPr/>
        </p:nvPicPr>
        <p:blipFill>
          <a:blip r:embed="rId1"/>
          <a:stretch/>
        </p:blipFill>
        <p:spPr>
          <a:xfrm>
            <a:off x="201600" y="596880"/>
            <a:ext cx="8674200" cy="3183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9-01T15:09:00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