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0A9164-3201-46BA-B96D-C77EEED9BD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BE4361-91AE-4459-8796-CF79AAD8F2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3F138A-BAC7-4BEF-BB56-6100B6BDC5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E80F8A-B031-4979-9CD2-CC970250D8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70AB97-C74A-40E4-9FD2-D18B413972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16671C-F266-4AA9-BF0D-B54EE344F2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851696-2407-43BC-93C4-6D843FFDA0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C1FDA9-5677-4BC5-905C-129F0C31B4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85A6EA-03EC-45C5-A4BA-630917586C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4DE767-538E-4465-9CA2-38E758A338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5F3F91-BE63-4DDD-BE8A-0CA142B681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FA0F92-9DBB-47E3-9B7A-3B1A4B06D5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15F769-9838-4BB2-AB94-7934C661A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1881FB-540A-4C19-930C-E5EAF3C8F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21C80A-2C1F-421A-A0F3-94E1B697E0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2A4266F-46F4-4D6B-8A1A-5DC3D55BD0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01A58E-B2A9-422A-B986-12C1249E1A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BC59CB-5571-4CE7-86A6-FA43B75AB1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A52EFC-0A48-443D-9F35-C8779915EC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DFFF8CB-6CDE-42B8-A050-28B2637E85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713652-A114-4D29-A08B-C5FC6CCC67C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8725150-1D30-40C9-B4D1-E2A9D71583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9C9B4-6FD5-45A2-A8AA-552F0E724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00859A-7DC8-43E9-B8CE-E6ECAA0E2D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3DDAF5-3A78-478A-AF14-47DB7FB28B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944F79-4B5A-4075-90FC-212922D933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DC0947-4A13-4139-8130-86ECAE03E7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18690F-CB8F-4CB8-90BD-119B27DE7E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802A21-79EB-41A3-AFCD-A102572DB3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9D3D1A8-760B-41C0-9B75-A7B80EC889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DC3F1B-E096-4217-9071-1F33B9B8F8E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A5B108-85AE-406B-BBD9-E3E222B3EE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D50AE2-18A0-40D8-B5E2-473A31BE7F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A440DB-3264-4550-804F-AF39E62B91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068A88-466F-499D-95C6-A39CDE1504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856DB71-2CE1-46DF-9B8F-4EA4650EB4E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7596E2-9AC5-4BF6-87E9-92CA1A3897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3305BC0-176F-40B8-AFDF-C1F63AE9F7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61B9E18-0EF0-4019-8100-F708014B70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9E486F-A23D-4E39-84DE-3730B09A33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965EF8-195E-4059-AEFC-4FFA901222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45BD201-0E8E-4375-A564-B41F786659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BD1280D-69FC-455D-99B7-0CF2885F2F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610A228-1B5B-4025-B116-FBB0249E58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33AA31-4D12-4EE8-8643-5F2FA54FA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A1FFA3-4FE6-45ED-BCAB-9069CFBE83F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6947F63-EF49-444B-BCCE-BC987532232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572B77-0AB8-4E68-BF18-06D039F0223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CA1E59-5FFD-426F-9287-58217712F2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BA92F6-C6EF-4C7F-909E-5AA320C8B9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6BFBD01-E1A4-4290-9776-4051E427BA2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0"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C34D7B-6149-48D6-84E0-1DD7095BE2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4"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0B95EB0-735F-49E3-AF15-58BB3BE1D3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6"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7"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BFA5CF-1B58-4619-92E8-69A80577495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2"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CCE2E4-4562-4631-9640-9A27FA8E9A5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CA5C9-82C9-4BF5-A485-CFC7A6E39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4"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8"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9"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88DF16-210E-4903-9916-F5420EDAA37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BA406F-9850-44EF-A480-833260F5277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60A613-0379-4E10-8CAD-01EF38F5F0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6CC9F8-36D6-47F7-88E4-A38470E31C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09351C-D376-4A68-83A2-591C2DD29D5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007D8DF-F731-47C8-BD6C-3F7F95E328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3311F5-03E2-4FAD-B67A-854CB5ED96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D44667-7722-4FCD-81AF-5F881FD55B9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3B6F06-6A2E-4426-A258-430F8E4E14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7F10AD-32F9-48A3-96F1-639B55196B8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DD88D-7737-4DF8-B773-103432570D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FF1C836-2A7C-4C78-82AA-A11C8A470DB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F1BB1A-7944-4955-AA8D-D61915E810D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FB1751E-F6A4-4409-A343-4DD7DED98C4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5079FA5-8814-401B-9203-9FA0F5B058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727268-68AB-452E-A4F7-9EC29F49AB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1DA5F9-F373-4E4B-9771-66D364C2DB9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F4F0972-B845-406B-ABA4-37ACD42D58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67FD56-5110-4DB0-8B5F-EE5D274F8B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1E463B-D78D-450A-B92F-D333D09167A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DB9DCF-6F66-4417-B7D0-644D11A889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D0910-0272-4126-AC00-4A2B25810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6"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CCC769-3645-4685-8BD1-118D098816E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0"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1C312B-5227-413F-B2EC-6B072B6726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2"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3"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F4B23EA-4491-4A67-B755-6821087BF3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8"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75D058-5BD1-42D2-838A-787438836B3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0"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4"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5"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415F363-3C13-433C-A2EE-66591914B4D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F71A8D2-51E7-49B8-91D4-AE2894C0204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4"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96F6AB-527C-4863-A16A-78F967AAB26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6"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45CD4C2-98D5-440F-B7EB-283D0D28A2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2E7C42-7F0D-4B2E-BBE8-2BED26F957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2686F6-4E7E-4854-A42D-FB1979E323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C007BB-F410-42B8-91FA-9EA9F353B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9126FF0-9D07-4B46-A282-14BB0CE4C2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BC6ED5-C906-4550-913E-D8D57B1461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9"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02735D-A86A-42CE-B57C-B09AB1F957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3"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D7A4D30-CE06-40B1-8DA2-5182239BC4C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5"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6"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734BE4-80E3-407F-83EA-57A8751E07B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1"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2723054-139A-4A13-92EE-6F3356F64C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43"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4"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5"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6"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7"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8"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BE6D8C0-AAE7-4DAC-A6DA-1B387AA210B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3EB1A5-D971-4C1A-AB35-FD7DC24EFE24}"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8"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B23B5F-00C8-4CCB-B5A1-2D4C208ECE3D}"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grpSp>
        <p:nvGrpSpPr>
          <p:cNvPr id="89" name="组合 7"/>
          <p:cNvGrpSpPr/>
          <p:nvPr/>
        </p:nvGrpSpPr>
        <p:grpSpPr>
          <a:xfrm>
            <a:off x="6480" y="-27000"/>
            <a:ext cx="9137520" cy="252360"/>
            <a:chOff x="6480" y="-27000"/>
            <a:chExt cx="9137520" cy="252360"/>
          </a:xfrm>
        </p:grpSpPr>
        <p:sp>
          <p:nvSpPr>
            <p:cNvPr id="90" name="矩形 7"/>
            <p:cNvSpPr/>
            <p:nvPr/>
          </p:nvSpPr>
          <p:spPr>
            <a:xfrm>
              <a:off x="6480" y="-27000"/>
              <a:ext cx="9137520" cy="252360"/>
            </a:xfrm>
            <a:prstGeom prst="rect">
              <a:avLst/>
            </a:prstGeom>
            <a:solidFill>
              <a:srgbClr val="61d4ff"/>
            </a:solidFill>
            <a:ln w="15840">
              <a:solidFill>
                <a:srgbClr val="61d4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矩形 9"/>
            <p:cNvSpPr/>
            <p:nvPr/>
          </p:nvSpPr>
          <p:spPr>
            <a:xfrm>
              <a:off x="3503520" y="-27000"/>
              <a:ext cx="222876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ffffff"/>
                  </a:solidFill>
                  <a:latin typeface="仿宋_GB2312"/>
                  <a:ea typeface="仿宋_GB2312"/>
                </a:rPr>
                <a:t>机电工程专业英语  </a:t>
              </a:r>
              <a:endParaRPr b="0" lang="en-US" sz="1400" spc="-1" strike="noStrike">
                <a:solidFill>
                  <a:srgbClr val="000000"/>
                </a:solidFill>
                <a:latin typeface="Calibri"/>
              </a:endParaRPr>
            </a:p>
          </p:txBody>
        </p:sp>
      </p:grpSp>
      <p:sp>
        <p:nvSpPr>
          <p:cNvPr id="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4"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6"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601166-3E69-4CD0-9EC3-F780BA19A7BF}"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8"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9"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0"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9EFB51-A626-456A-A8F5-D4CFE25CF877}"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4"/>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Rectangle 5"/>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80"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81" name="PlaceHolder 3"/>
          <p:cNvSpPr>
            <a:spLocks noGrp="1"/>
          </p:cNvSpPr>
          <p:nvPr>
            <p:ph type="dt" idx="13"/>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2" name="PlaceHolder 4"/>
          <p:cNvSpPr>
            <a:spLocks noGrp="1"/>
          </p:cNvSpPr>
          <p:nvPr>
            <p:ph type="ftr" idx="14"/>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3"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95D896-5CE4-43AC-8121-E90FF07EE4F9}"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7"/>
          <p:cNvSpPr/>
          <p:nvPr/>
        </p:nvSpPr>
        <p:spPr>
          <a:xfrm>
            <a:off x="0" y="0"/>
            <a:ext cx="303840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Rectangle 8"/>
          <p:cNvSpPr/>
          <p:nvPr/>
        </p:nvSpPr>
        <p:spPr>
          <a:xfrm>
            <a:off x="3030480" y="0"/>
            <a:ext cx="4752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4" name="PlaceHolder 3"/>
          <p:cNvSpPr>
            <a:spLocks noGrp="1"/>
          </p:cNvSpPr>
          <p:nvPr>
            <p:ph type="dt" idx="16"/>
          </p:nvPr>
        </p:nvSpPr>
        <p:spPr>
          <a:xfrm>
            <a:off x="348840" y="6459480"/>
            <a:ext cx="1963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5" name="PlaceHolder 4"/>
          <p:cNvSpPr>
            <a:spLocks noGrp="1"/>
          </p:cNvSpPr>
          <p:nvPr>
            <p:ph type="ftr" idx="17"/>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6"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637052"/>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5C506C-4B33-4126-A2CC-5FDC9E77966D}" type="slidenum">
              <a:rPr b="0" lang="zh-CN" sz="1000" spc="-1" strike="noStrike">
                <a:solidFill>
                  <a:srgbClr val="637052"/>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7"/>
          <p:cNvSpPr/>
          <p:nvPr/>
        </p:nvSpPr>
        <p:spPr>
          <a:xfrm>
            <a:off x="0" y="4952880"/>
            <a:ext cx="914256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Rectangle 8"/>
          <p:cNvSpPr/>
          <p:nvPr/>
        </p:nvSpPr>
        <p:spPr>
          <a:xfrm>
            <a:off x="0" y="491508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6"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7"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8"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9"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FAF1F9-6213-4DC9-AE81-64C3D4D39464}"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3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09"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310" name="PlaceHolder 3"/>
          <p:cNvSpPr>
            <a:spLocks noGrp="1"/>
          </p:cNvSpPr>
          <p:nvPr>
            <p:ph type="dt" idx="22"/>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1" name="PlaceHolder 4"/>
          <p:cNvSpPr>
            <a:spLocks noGrp="1"/>
          </p:cNvSpPr>
          <p:nvPr>
            <p:ph type="ftr" idx="23"/>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2" name="PlaceHolder 5"/>
          <p:cNvSpPr>
            <a:spLocks noGrp="1"/>
          </p:cNvSpPr>
          <p:nvPr>
            <p:ph type="sldNum" idx="24"/>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DBB74D-6C24-40A4-A046-C16761A24930}"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576360" y="620640"/>
            <a:ext cx="7991280" cy="1470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黑体"/>
                <a:ea typeface="黑体"/>
              </a:rPr>
              <a:t>机电工程专业英语</a:t>
            </a:r>
            <a:endParaRPr b="0" lang="en-US" sz="4000" spc="-1" strike="noStrike">
              <a:solidFill>
                <a:srgbClr val="404040"/>
              </a:solidFill>
              <a:latin typeface="Calibri Light"/>
            </a:endParaRPr>
          </a:p>
        </p:txBody>
      </p:sp>
      <p:pic>
        <p:nvPicPr>
          <p:cNvPr id="350" name="Rectangle 3" descr=""/>
          <p:cNvPicPr/>
          <p:nvPr/>
        </p:nvPicPr>
        <p:blipFill>
          <a:blip r:embed="rId1"/>
          <a:stretch/>
        </p:blipFill>
        <p:spPr>
          <a:xfrm>
            <a:off x="1371600" y="4449600"/>
            <a:ext cx="6400800" cy="1189080"/>
          </a:xfrm>
          <a:prstGeom prst="rect">
            <a:avLst/>
          </a:prstGeom>
          <a:ln w="0">
            <a:noFill/>
          </a:ln>
        </p:spPr>
      </p:pic>
      <p:pic>
        <p:nvPicPr>
          <p:cNvPr id="351" name="文本框 4" descr=""/>
          <p:cNvPicPr/>
          <p:nvPr/>
        </p:nvPicPr>
        <p:blipFill>
          <a:blip r:embed="rId2"/>
          <a:stretch/>
        </p:blipFill>
        <p:spPr>
          <a:xfrm>
            <a:off x="1646280" y="2786040"/>
            <a:ext cx="5851440" cy="1292400"/>
          </a:xfrm>
          <a:prstGeom prst="rect">
            <a:avLst/>
          </a:prstGeom>
          <a:ln w="0">
            <a:noFill/>
          </a:ln>
        </p:spPr>
      </p:pic>
      <p:pic>
        <p:nvPicPr>
          <p:cNvPr id="352" name="图片 6" descr=""/>
          <p:cNvPicPr/>
          <p:nvPr/>
        </p:nvPicPr>
        <p:blipFill>
          <a:blip r:embed="rId3"/>
          <a:stretch/>
        </p:blipFill>
        <p:spPr>
          <a:xfrm>
            <a:off x="490680" y="295200"/>
            <a:ext cx="1761840" cy="184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文本框 8"/>
          <p:cNvSpPr/>
          <p:nvPr/>
        </p:nvSpPr>
        <p:spPr>
          <a:xfrm>
            <a:off x="-31680" y="25704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4" name="文本框 2"/>
          <p:cNvSpPr/>
          <p:nvPr/>
        </p:nvSpPr>
        <p:spPr>
          <a:xfrm>
            <a:off x="179280" y="428760"/>
            <a:ext cx="8425080" cy="398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I. Numerical Control Technology Application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One of the most fundamental concepts in the area of advanced manufacturing technologies is numerical control (NC).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ontrolling a machine tool using a punched tape or stored program is known as numerical control (NC). </a:t>
            </a:r>
            <a:r>
              <a:rPr b="0" lang="en-US" sz="1600" spc="-1" strike="noStrike" u="sng">
                <a:solidFill>
                  <a:srgbClr val="000000"/>
                </a:solidFill>
                <a:uFillTx/>
                <a:latin typeface="Times New Roman"/>
                <a:ea typeface="宋体"/>
              </a:rPr>
              <a:t>NC has been defined by the Electronic Industries Association (EIA) as “a system in which actions are controlled by the direct insertion of numerical data at some point.</a:t>
            </a:r>
            <a:r>
              <a:rPr b="0" lang="en-US" sz="1600" spc="-1" strike="noStrike">
                <a:solidFill>
                  <a:srgbClr val="000000"/>
                </a:solidFill>
                <a:latin typeface="Times New Roman"/>
                <a:ea typeface="宋体"/>
              </a:rPr>
              <a:t> The system must automatically interpret at least some portion of this data”. The numerical data required to produce a part is known as a part program.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A numerical control machine tool system contains a machine control unit (MCU) and the machine tool itself (Fig.1-1). The MCU is further divided into two elements: the data processing unit (DPU) and the control loops unit (CLU). The DPU processes the coded data from the tape or other media and passes information on the position of each axis, required direction of motion, feed rate, and auxiliary function control signals to the CLU. </a:t>
            </a:r>
            <a:r>
              <a:rPr b="0" lang="en-US" sz="1600" spc="-1" strike="noStrike" u="sng">
                <a:solidFill>
                  <a:srgbClr val="000000"/>
                </a:solidFill>
                <a:uFillTx/>
                <a:latin typeface="Times New Roman"/>
                <a:ea typeface="宋体"/>
              </a:rPr>
              <a:t>The CLU operates the drive mechanisms of the machine, receives feedback signals concerning the actual position and velocity of each of the axes, and signals of the completion of operation. </a:t>
            </a:r>
            <a:r>
              <a:rPr b="0" lang="en-US" sz="1600" spc="-1" strike="noStrike">
                <a:solidFill>
                  <a:srgbClr val="000000"/>
                </a:solidFill>
                <a:latin typeface="Times New Roman"/>
                <a:ea typeface="宋体"/>
              </a:rPr>
              <a:t>The DPU sequentially reads the data. When each line has completed execution as noted by the CLU, another line of data is read.</a:t>
            </a:r>
            <a:endParaRPr b="0" lang="en-US" sz="1600" spc="-1" strike="noStrike">
              <a:solidFill>
                <a:srgbClr val="000000"/>
              </a:solidFill>
              <a:latin typeface="Calibri"/>
            </a:endParaRPr>
          </a:p>
        </p:txBody>
      </p:sp>
      <p:pic>
        <p:nvPicPr>
          <p:cNvPr id="355" name="Picture 14" descr=""/>
          <p:cNvPicPr/>
          <p:nvPr/>
        </p:nvPicPr>
        <p:blipFill>
          <a:blip r:embed="rId1"/>
          <a:stretch/>
        </p:blipFill>
        <p:spPr>
          <a:xfrm>
            <a:off x="1755720" y="4487760"/>
            <a:ext cx="5272200" cy="1898640"/>
          </a:xfrm>
          <a:prstGeom prst="rect">
            <a:avLst/>
          </a:prstGeom>
          <a:ln w="0">
            <a:noFill/>
          </a:ln>
        </p:spPr>
      </p:pic>
      <p:sp>
        <p:nvSpPr>
          <p:cNvPr id="356" name="文本框 3"/>
          <p:cNvSpPr/>
          <p:nvPr/>
        </p:nvSpPr>
        <p:spPr>
          <a:xfrm>
            <a:off x="2085840" y="6386400"/>
            <a:ext cx="46101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Fig. 1-1 Numerical control system</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8" name="文本框 3"/>
          <p:cNvSpPr/>
          <p:nvPr/>
        </p:nvSpPr>
        <p:spPr>
          <a:xfrm>
            <a:off x="179280" y="615960"/>
            <a:ext cx="8425080" cy="374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Geometric and kinematic data are typically fed from the DPU to the CLU and CLU then governs the physical system based on the data from the DPU.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Numerical control was developed to overcome the limitation of human operators, and it has done so. Numerical control machines are more accurate than manually operated machines, they can produce parts more uniformly, they are faster, and the long-run tooling costs are lower. The development of NC led to the development of several other innovations in manufacturing technology: </a:t>
            </a:r>
            <a:endParaRPr b="0" lang="en-US" sz="1600" spc="-1" strike="noStrike">
              <a:solidFill>
                <a:srgbClr val="000000"/>
              </a:solidFill>
              <a:latin typeface="Calibri"/>
            </a:endParaRPr>
          </a:p>
          <a:p>
            <a:pPr lvl="1" marL="743040" indent="-28584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Times New Roman"/>
                <a:ea typeface="宋体"/>
              </a:rPr>
              <a:t>Electric discharge machining</a:t>
            </a:r>
            <a:endParaRPr b="0" lang="en-US" sz="1600" spc="-1" strike="noStrike">
              <a:solidFill>
                <a:srgbClr val="000000"/>
              </a:solidFill>
              <a:latin typeface="Calibri"/>
            </a:endParaRPr>
          </a:p>
          <a:p>
            <a:pPr lvl="1" marL="743040" indent="-28584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Times New Roman"/>
                <a:ea typeface="宋体"/>
              </a:rPr>
              <a:t>Laser-cutting</a:t>
            </a:r>
            <a:endParaRPr b="0" lang="en-US" sz="1600" spc="-1" strike="noStrike">
              <a:solidFill>
                <a:srgbClr val="000000"/>
              </a:solidFill>
              <a:latin typeface="Calibri"/>
            </a:endParaRPr>
          </a:p>
          <a:p>
            <a:pPr lvl="1" marL="743040" indent="-285840" algn="just">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Times New Roman"/>
                <a:ea typeface="宋体"/>
              </a:rPr>
              <a:t>Electron beam welding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Numerical control has also made machine tools more versatile than their manually operated predecessors. An NC machine tool can automatically produce a wide variety of parts, each involving an assortment of widely varied and complex machining processes. </a:t>
            </a:r>
            <a:r>
              <a:rPr b="0" lang="en-US" sz="1600" spc="-1" strike="noStrike" u="sng">
                <a:solidFill>
                  <a:srgbClr val="000000"/>
                </a:solidFill>
                <a:uFillTx/>
                <a:latin typeface="Times New Roman"/>
                <a:ea typeface="宋体"/>
              </a:rPr>
              <a:t>Numerical control has allowed manufacturers to undertake the production of products that would not have been feasible from an economic perspective using manually control led machine tools and processes.</a:t>
            </a:r>
            <a:endParaRPr b="0" lang="en-US" sz="1600" spc="-1" strike="noStrike">
              <a:solidFill>
                <a:srgbClr val="000000"/>
              </a:solidFill>
              <a:latin typeface="Calibri"/>
            </a:endParaRPr>
          </a:p>
        </p:txBody>
      </p:sp>
      <p:sp>
        <p:nvSpPr>
          <p:cNvPr id="359" name="文本框 5"/>
          <p:cNvSpPr/>
          <p:nvPr/>
        </p:nvSpPr>
        <p:spPr>
          <a:xfrm>
            <a:off x="179280" y="4581360"/>
            <a:ext cx="835344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II. Principles of NC Machine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An NC machine can be controlled through two types of circuits</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open-loop and closed-loop. In the open-loop system (Fig. 1-2(a)), the signals are sent to the servomotor by the controller, but the movements and final positions of the worktable are not checked for accuracy.</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文本框 7"/>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1" name="文本框 3"/>
          <p:cNvSpPr/>
          <p:nvPr/>
        </p:nvSpPr>
        <p:spPr>
          <a:xfrm>
            <a:off x="108000" y="623880"/>
            <a:ext cx="3456000" cy="301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closed-loop system (Fig. 1-2 (b)) is equipped with various transducers, sensors, and counters that measure accurately the position of the worktable. Through feedback control, the position of the worktable is compared against the signal. Table movements terminate when the proper coordinates are reached. </a:t>
            </a:r>
            <a:r>
              <a:rPr b="0" lang="en-US" sz="1600" spc="-1" strike="noStrike" u="sng">
                <a:solidFill>
                  <a:srgbClr val="000000"/>
                </a:solidFill>
                <a:uFillTx/>
                <a:latin typeface="Times New Roman"/>
                <a:ea typeface="宋体"/>
              </a:rPr>
              <a:t>The closed-loop system is more complicated and more expensive than the open-loop system. </a:t>
            </a:r>
            <a:endParaRPr b="0" lang="en-US" sz="1600" spc="-1" strike="noStrike">
              <a:solidFill>
                <a:srgbClr val="000000"/>
              </a:solidFill>
              <a:latin typeface="Calibri"/>
            </a:endParaRPr>
          </a:p>
        </p:txBody>
      </p:sp>
      <p:pic>
        <p:nvPicPr>
          <p:cNvPr id="362" name="图片 5" descr=""/>
          <p:cNvPicPr/>
          <p:nvPr/>
        </p:nvPicPr>
        <p:blipFill>
          <a:blip r:embed="rId1"/>
          <a:stretch/>
        </p:blipFill>
        <p:spPr>
          <a:xfrm>
            <a:off x="3564000" y="581040"/>
            <a:ext cx="5472000" cy="2646360"/>
          </a:xfrm>
          <a:prstGeom prst="rect">
            <a:avLst/>
          </a:prstGeom>
          <a:ln w="0">
            <a:noFill/>
          </a:ln>
        </p:spPr>
      </p:pic>
      <p:sp>
        <p:nvSpPr>
          <p:cNvPr id="363" name="文本框 8"/>
          <p:cNvSpPr/>
          <p:nvPr/>
        </p:nvSpPr>
        <p:spPr>
          <a:xfrm>
            <a:off x="4284720" y="3459240"/>
            <a:ext cx="45972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Fig. 1-2 Schematic illustration of NC machine</a:t>
            </a:r>
            <a:endParaRPr b="0" lang="en-US" sz="1400" spc="-1" strike="noStrike">
              <a:solidFill>
                <a:srgbClr val="000000"/>
              </a:solidFill>
              <a:latin typeface="Calibri"/>
            </a:endParaRPr>
          </a:p>
        </p:txBody>
      </p:sp>
      <p:sp>
        <p:nvSpPr>
          <p:cNvPr id="364" name="文本框 10"/>
          <p:cNvSpPr/>
          <p:nvPr/>
        </p:nvSpPr>
        <p:spPr>
          <a:xfrm>
            <a:off x="185760" y="3903840"/>
            <a:ext cx="8772480" cy="179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III. Types of Control System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re are two basic types of control systems in numerical control, point-to-point and contouring.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1) In a point-to-point system, also called positioning, each axis of the machine is driven separately by leadscrews and, depending on the type of operation, at different velocities. The machine moves initially at maximum velocity in order to reduce nonproductive time, but decelerates as the tool approaches its numerically defined position. Thus, in an operation such as drilling (or punching a hole), the positioning and cutting take place sequentially.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文本框 3"/>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6" name="文本框 4"/>
          <p:cNvSpPr/>
          <p:nvPr/>
        </p:nvSpPr>
        <p:spPr>
          <a:xfrm>
            <a:off x="250920" y="765000"/>
            <a:ext cx="828180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After the hole is drilled or punched, the tool retracts upward and moves rapidly to another position, and the operation is repeated. </a:t>
            </a:r>
            <a:r>
              <a:rPr b="0" lang="en-US" sz="1600" spc="-1" strike="noStrike" u="sng">
                <a:solidFill>
                  <a:srgbClr val="000000"/>
                </a:solidFill>
                <a:uFillTx/>
                <a:latin typeface="Times New Roman"/>
                <a:ea typeface="宋体"/>
              </a:rPr>
              <a:t>The path followed from one position to another is important in only one respect. It must be chosen to minimize the time of travel, for better efficiency.</a:t>
            </a:r>
            <a:r>
              <a:rPr b="0" lang="en-US" sz="1600" spc="-1" strike="noStrike">
                <a:solidFill>
                  <a:srgbClr val="000000"/>
                </a:solidFill>
                <a:latin typeface="Times New Roman"/>
                <a:ea typeface="宋体"/>
              </a:rPr>
              <a:t> Point-to-point systems are used mainly in drilling, punching, and straight milling operation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2) In a contouring system (also known as a continuous path system), the positioning and the operations are both performed along controlled paths but at different velocities. Because the tool acts as it travels along a prescribed path, accurate control and synchronization of velocities and movements are important. The contouring system is typically used on lathes, milling machines, grinders, welding machinery, and machining centers.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文本框 4"/>
          <p:cNvSpPr/>
          <p:nvPr/>
        </p:nvSpPr>
        <p:spPr>
          <a:xfrm>
            <a:off x="108000" y="33336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Words and phrases</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pic>
        <p:nvPicPr>
          <p:cNvPr id="368" name="文本框 3" descr=""/>
          <p:cNvPicPr/>
          <p:nvPr/>
        </p:nvPicPr>
        <p:blipFill>
          <a:blip r:embed="rId1"/>
          <a:stretch/>
        </p:blipFill>
        <p:spPr>
          <a:xfrm>
            <a:off x="609480" y="890640"/>
            <a:ext cx="6699240" cy="4529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文本框 4"/>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Course practice</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0" name="文本框 6"/>
          <p:cNvSpPr/>
          <p:nvPr/>
        </p:nvSpPr>
        <p:spPr>
          <a:xfrm>
            <a:off x="250920" y="612720"/>
            <a:ext cx="8569080" cy="4430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Times New Roman"/>
                <a:ea typeface="宋体"/>
              </a:rPr>
              <a:t>Complex Sentence Analysis</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1) NC has been defined by the Electronic Industries Association (EIA) as“a system in which actions are controlled by the direct insertion of numerical data at some point. The system must automatically interpret at least some portion of this data”.  </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EIA(</a:t>
            </a:r>
            <a:r>
              <a:rPr b="0" lang="zh-CN" sz="1500" spc="-1" strike="noStrike">
                <a:solidFill>
                  <a:srgbClr val="000000"/>
                </a:solidFill>
                <a:latin typeface="Times New Roman"/>
                <a:ea typeface="宋体"/>
              </a:rPr>
              <a:t>美国电子工业协会</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广泛代表了设计生产电子元件、部件、通信系统和设备的制造商以及工业界、政府和用户的利益，在提高美国制造商的竞争力方面起到了重要的作用。</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    </a:t>
            </a:r>
            <a:r>
              <a:rPr b="0" lang="zh-CN" sz="1500" spc="-1" strike="noStrike">
                <a:solidFill>
                  <a:srgbClr val="000000"/>
                </a:solidFill>
                <a:latin typeface="Times New Roman"/>
                <a:ea typeface="宋体"/>
              </a:rPr>
              <a:t>该句引号中的前一句为</a:t>
            </a:r>
            <a:r>
              <a:rPr b="0" lang="en-US" sz="1500" spc="-1" strike="noStrike">
                <a:solidFill>
                  <a:srgbClr val="000000"/>
                </a:solidFill>
                <a:latin typeface="Times New Roman"/>
                <a:ea typeface="宋体"/>
              </a:rPr>
              <a:t>as</a:t>
            </a:r>
            <a:r>
              <a:rPr b="0" lang="zh-CN" sz="1500" spc="-1" strike="noStrike">
                <a:solidFill>
                  <a:srgbClr val="000000"/>
                </a:solidFill>
                <a:latin typeface="Times New Roman"/>
                <a:ea typeface="宋体"/>
              </a:rPr>
              <a:t>的宾语从句。</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译：美国电子工业协会对数字控制所下的定义为：</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一种各项工作都由在各点上直接插入的数字来控制的系统。该系统必须至少能够自动解释这些数字中的部分。</a:t>
            </a:r>
            <a:r>
              <a:rPr b="0" lang="en-US" sz="1500" spc="-1" strike="noStrike">
                <a:solidFill>
                  <a:srgbClr val="000000"/>
                </a:solidFill>
                <a:latin typeface="Times New Roman"/>
                <a:ea typeface="宋体"/>
              </a:rPr>
              <a:t>” </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2) The CLU operates the drive mechanisms of the machine, receives feedback signals concerning the actual position and velocity of each of the axes, and signals of the completion of operation.     </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CLU</a:t>
            </a:r>
            <a:r>
              <a:rPr b="0" lang="zh-CN" sz="1500" spc="-1" strike="noStrike">
                <a:solidFill>
                  <a:srgbClr val="000000"/>
                </a:solidFill>
                <a:latin typeface="Times New Roman"/>
                <a:ea typeface="宋体"/>
              </a:rPr>
              <a:t>为本句的主语，后带三个动词作并列谓语。第二个分句中的</a:t>
            </a:r>
            <a:r>
              <a:rPr b="0" lang="en-US" sz="1500" spc="-1" strike="noStrike">
                <a:solidFill>
                  <a:srgbClr val="000000"/>
                </a:solidFill>
                <a:latin typeface="Times New Roman"/>
                <a:ea typeface="宋体"/>
              </a:rPr>
              <a:t>feed back signals</a:t>
            </a:r>
            <a:r>
              <a:rPr b="0" lang="zh-CN" sz="1500" spc="-1" strike="noStrike">
                <a:solidFill>
                  <a:srgbClr val="000000"/>
                </a:solidFill>
                <a:latin typeface="Times New Roman"/>
                <a:ea typeface="宋体"/>
              </a:rPr>
              <a:t>为动词宾语</a:t>
            </a:r>
            <a:r>
              <a:rPr b="0" lang="en-US" sz="1500" spc="-1" strike="noStrike">
                <a:solidFill>
                  <a:srgbClr val="000000"/>
                </a:solidFill>
                <a:latin typeface="Times New Roman"/>
                <a:ea typeface="宋体"/>
              </a:rPr>
              <a:t>, concerning</a:t>
            </a:r>
            <a:r>
              <a:rPr b="0" lang="zh-CN" sz="1500" spc="-1" strike="noStrike">
                <a:solidFill>
                  <a:srgbClr val="000000"/>
                </a:solidFill>
                <a:latin typeface="Times New Roman"/>
                <a:ea typeface="宋体"/>
              </a:rPr>
              <a:t>引导的现在分词短语对其进行修饰。第三个分句中的</a:t>
            </a:r>
            <a:r>
              <a:rPr b="0" lang="en-US" sz="1500" spc="-1" strike="noStrike">
                <a:solidFill>
                  <a:srgbClr val="000000"/>
                </a:solidFill>
                <a:latin typeface="Times New Roman"/>
                <a:ea typeface="宋体"/>
              </a:rPr>
              <a:t>signal</a:t>
            </a:r>
            <a:r>
              <a:rPr b="0" lang="zh-CN" sz="1500" spc="-1" strike="noStrike">
                <a:solidFill>
                  <a:srgbClr val="000000"/>
                </a:solidFill>
                <a:latin typeface="Times New Roman"/>
                <a:ea typeface="宋体"/>
              </a:rPr>
              <a:t>为动词，表示</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发出信号</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与前两个动词时态相同，构成并列谓语。</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译：控制单元操作机床的机械驱动装置，接收关于每个轴的实际位置和速度的反馈信号，并且发出控制信号完成操作。</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3) Numerical control has allowed manufacturers to undertake the production of products that would not have been feasible from an economic perspective using manually control led machine tools and processes.</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that</a:t>
            </a:r>
            <a:r>
              <a:rPr b="0" lang="zh-CN" sz="1500" spc="-1" strike="noStrike">
                <a:solidFill>
                  <a:srgbClr val="000000"/>
                </a:solidFill>
                <a:latin typeface="Times New Roman"/>
                <a:ea typeface="宋体"/>
              </a:rPr>
              <a:t>引导的定语从句对名词短语</a:t>
            </a:r>
            <a:r>
              <a:rPr b="0" lang="en-US" sz="1500" spc="-1" strike="noStrike">
                <a:solidFill>
                  <a:srgbClr val="000000"/>
                </a:solidFill>
                <a:latin typeface="Times New Roman"/>
                <a:ea typeface="宋体"/>
              </a:rPr>
              <a:t>production of products</a:t>
            </a:r>
            <a:r>
              <a:rPr b="0" lang="zh-CN" sz="1500" spc="-1" strike="noStrike">
                <a:solidFill>
                  <a:srgbClr val="000000"/>
                </a:solidFill>
                <a:latin typeface="Times New Roman"/>
                <a:ea typeface="宋体"/>
              </a:rPr>
              <a:t>进行修饰。</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From an economic perspective</a:t>
            </a:r>
            <a:r>
              <a:rPr b="0" lang="zh-CN" sz="1500" spc="-1" strike="noStrike">
                <a:solidFill>
                  <a:srgbClr val="000000"/>
                </a:solidFill>
                <a:latin typeface="Times New Roman"/>
                <a:ea typeface="宋体"/>
              </a:rPr>
              <a:t>从经济的观点出发，从经济的角度来看</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译：数字控制使得制造者们可以承担产品的加工，其产品的加工从经济的观点上看使用人工控制机床和加工过程是不太可行的。</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4) The closed-loop system is more complicated and more expensive than the open-loop system.</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a:t>
            </a:r>
            <a:r>
              <a:rPr b="0" lang="en-US" sz="1500" spc="-1" strike="noStrike">
                <a:solidFill>
                  <a:srgbClr val="000000"/>
                </a:solidFill>
                <a:latin typeface="Times New Roman"/>
                <a:ea typeface="宋体"/>
              </a:rPr>
              <a:t>more… than  …” </a:t>
            </a:r>
            <a:r>
              <a:rPr b="0" lang="zh-CN" sz="1500" spc="-1" strike="noStrike">
                <a:solidFill>
                  <a:srgbClr val="000000"/>
                </a:solidFill>
                <a:latin typeface="Times New Roman"/>
                <a:ea typeface="宋体"/>
              </a:rPr>
              <a:t>在此为</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比</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更</a:t>
            </a:r>
            <a:r>
              <a:rPr b="0" lang="en-US" sz="1500" spc="-1" strike="noStrike">
                <a:solidFill>
                  <a:srgbClr val="000000"/>
                </a:solidFill>
                <a:latin typeface="Times New Roman"/>
                <a:ea typeface="宋体"/>
              </a:rPr>
              <a:t>…”</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译：闭环系统比开环系统更复杂更昂贵。</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02T08:56:59Z</dcterms:created>
  <dc:creator>朱允龙</dc:creator>
  <dc:description/>
  <dc:language>en-US</dc:language>
  <cp:lastModifiedBy>sunny888903 sunny888903</cp:lastModifiedBy>
  <dcterms:modified xsi:type="dcterms:W3CDTF">2024-08-29T07:56:14Z</dcterms:modified>
  <cp:revision>15</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424</vt:lpwstr>
  </property>
</Properties>
</file>