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D2120F-62EF-4B88-8D0A-DB911F7B5E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A0E7B4-97B0-4134-AE97-E20584103F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79CBD-58CA-4BEC-8CDF-5F9450EDE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845AD2-3E09-499E-A984-193EE7829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6E0173-1027-4490-9EAC-E5CD87DBA3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2141FB-AC9C-4B0F-9109-3D4B2087ED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613B5E-A272-4C52-9A72-17A5EF1C1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F0FDA3-3E40-4258-8F8F-71DBEEA25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CF457-60A2-46AD-875C-FFEACFA17E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416748-A4CB-494C-B4D4-851274BB6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C4C215-FC77-4A8C-B082-EB4B13142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A3CDAA-5CF6-42EB-B76E-A0DC6161D3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79E2DF-05AE-46C6-9508-109580BFB0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33956-9A43-4A35-8E5C-25B92B8FC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AA6DAC-A26D-4747-A2AA-C3D0E4D29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B2B231-C867-46B5-BD51-73DB15E6D3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5E11912-D2D6-4C7A-A866-76A3AA5CD3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E2E7E8-1B93-48F5-9801-60C71546033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C325C1-162B-4195-B831-645F249A0D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4CD7E-5903-4CE9-BB63-3FEA6E55F54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063EF3-F0E3-4F35-8317-C215A65998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503CD4-4C8B-4C86-8C69-B9083FB363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C707B-7C4E-4E66-A51C-BE03AF59AB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8225AA-F2FD-4D35-BDC0-E02C867547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9D10A8-D186-4877-851A-46C396EE52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68FCD-E578-4545-AE6F-B786C221E9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BC6BEA-B536-49D9-BDFC-C8290F55EA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3F36499-8055-461A-B089-1F227BD4BA8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1985F5D-4C29-4F9F-9CCE-70A716F5D0F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7980A8-2292-4EA4-8F6E-A2B46466021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8B72B4-B413-4778-AAA5-AEFBE06C92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69ACDA-EB24-4AAC-9835-E61022A5A0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5F1687-BA18-4652-89C1-642261AC375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479F9-B1BC-4CC0-973B-AD02DF8E6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A4B3FF-1CA7-405D-A843-DB8177E9196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F1C92C-91E8-485C-9BA6-3ABACA561B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EBC1F1-F3E2-4A32-BD5E-9795FE8153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08F41-4897-4CC7-885C-D6B9D5C13B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0EA3FE-48D0-4363-85DC-78C3CE2A5A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29DCA4-2783-4482-AB48-9155F0D947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C5FF31-EECB-4553-B643-F2C2219BAF1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076B43E-BE95-4F0C-868A-59D51229557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DDC065-3B2C-4ADF-8CD9-1F25E394733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721FD76-DD6E-4FD8-81F4-C5D3FA301AE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AE749F-4FA2-40F2-85C2-7C4F820E07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4B077B-F58B-4D82-9928-C88BBF04534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7C316C-D316-420D-99A9-FF2C4CE4C36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152FA4-AB3A-47A4-8DE9-355B47C6736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6BA2F82-F465-4AA6-B85E-24776A754D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A0B753-2ED7-4C6E-B0C9-7D9AD7800C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75E55A-2F26-4057-A4E6-ECA0E491F4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5D31ADB-9D16-4EB1-A10B-E6F24691A8B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EAB831-A59D-4738-A2B9-4E674C44F0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942D9D-2A47-4C39-B3FD-8071A7A07A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7A994E-3C50-474E-BB75-A522B4B776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B5F0D3-1032-4369-ADB6-3A7EE3B322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1B19E2E-D0EB-400C-B8A7-11C6BC0082E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BBBAE55-327B-4192-8D61-5BAF39B30C0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2F9F17-C507-4717-9268-36303AD1C5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FA61AC-3EB6-4A56-881E-54639BF92D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E79FAB-43E4-4AC1-A61B-39D1599E27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3DC2CE1-6521-4262-AB7E-EAEDA69144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4C3A600-A598-46C2-94CC-711E103CFB6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F8B4AFE-7F20-4FED-99E4-5E6742976E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D8B7B6-FE06-4B06-B353-72FBD620C3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08C553-AE52-4D22-A616-6E984020D0F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0DCFE-9B73-44F9-83B2-8311A6F54A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2DF2B5-5394-4CD4-BF2B-07E0D8F336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1F032B6-CDCA-4C80-97ED-2A5397BAA31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5CBBB5-9038-4ECB-ADE9-0CF68EF404A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726A597-B88B-4E57-9021-C40F83EB622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9C92DB-E165-437F-8C49-2BA76E2A2D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5AEB288-BD43-4ABC-8381-7EBADE55DB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40CAFEF-EAC4-4E73-B39F-E032C50A12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6999E7-B9F9-4165-96EA-ACE475612A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436C69B-F50F-4D7B-A271-9577F9CA3CC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C615E5-88D4-4945-A7BD-F1DCE9A143D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03561A-C03D-4750-8644-62BDA52E4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80625E-9532-4E25-9880-1A19AB9AAA2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C3976F-1F7D-4228-9A0C-9A83438BE8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2523164-1516-427E-9320-F852729F5F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3D9951F-1050-45DF-B358-2FF077208A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A2D43B-B88F-42EC-9566-4F5ABF3D036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EC7CE9C-C23D-4B2E-A6D2-DF69F2229BC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153E5E-65A2-4D82-97C9-7C385481C18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C2D23F7-087D-49D3-B360-84989149ED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FC49E2-91D7-4B3E-8885-C9A19E8AB3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145C943-A442-4210-9213-FBE38502B4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1D5D8-8ED4-4EBC-B980-9FA933571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1999A9-D652-4CB2-BFD2-BB13ADA387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100162-B0C1-4DEA-B72E-F9B118D500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086675-973F-4260-AE26-35044F54DD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8D0040-7CD4-4C82-A1E7-5AED006DC70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9A2AED1-EB7E-44B0-81F2-5A482E294EA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EF5B949-4C3D-452E-B0D5-4CB6F983AA0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D2E6F79-71D6-43B6-9817-F36269A4DC76}"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1412B6-DFA5-412E-9739-471DB1BBFEFF}"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635BD2-D213-497A-B734-80C2A8DC590E}"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5D34AF1-1707-4828-B2FA-91FF4676334C}"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BB488D-59B1-4976-83BC-F67F8DC2E17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51504C-1D1B-453C-AE62-6F099FDB898D}"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6467BD-01A5-464B-99FD-9F512480C116}"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0A8153D-E77F-4E57-8284-ED08B89E6CE8}"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B62FA0-81E3-4493-8433-C6A17296A27E}"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1.3 COMPUTER AIDED DESIGN</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Times New Roman"/>
                <a:ea typeface="宋体"/>
              </a:rPr>
              <a:t>计算机辅助设计</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786040"/>
            <a:ext cx="5851440" cy="12924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395280" y="692280"/>
            <a:ext cx="8353440" cy="471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AD(Computer aided Diagnosis) was born in the 1960s, is the United States Massachusetts Institute of Technology proposed the interactive graphics research plan, due to the expensive hardware facilities at that time, only the United States General Motors Company and the United States Boeing Aviation Company to use their own interactive mapping system. Computer-aided design (CAD-computer aided Design) refers to the use of computers and their graphic equipment to help designers carry out design work.</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AD System’s Work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Computer aided design systems are powerful tools and are used in the design and geometric modeling of components and product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Drawings are generated at workstations, and the design is displayed continuously on the monitor in different colors for its various components. The designer can easily conceptualize the part designed on the graphics screen and can consider alternative designs or modify a particular design to meet specific design requirements. Using powerful software such as CATIA(computer-aided three-dimensional interactive applications), the design can be subjected to engineering analysis and can identify potential problems, such as excessive load, deflection, or interference at mating surfaces during assembly. Information (such as a list of materials, specifications, and manufacturing instructions) is also stored in the CAD database. Using this information, the designer can analyze the manufacturing economics of alternatives.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6" name="文本框 3"/>
          <p:cNvSpPr/>
          <p:nvPr/>
        </p:nvSpPr>
        <p:spPr>
          <a:xfrm>
            <a:off x="103320" y="690480"/>
            <a:ext cx="8640720" cy="325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Exchange Specification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u="sng">
                <a:solidFill>
                  <a:srgbClr val="000000"/>
                </a:solidFill>
                <a:uFillTx/>
                <a:latin typeface="Times New Roman"/>
                <a:ea typeface="宋体"/>
              </a:rPr>
              <a:t>Because of the availability of a variety of CAD systems with different characteristics supplied by different vendors, effective communication and exchange of data between these systems are essential</a:t>
            </a:r>
            <a:r>
              <a:rPr b="0" lang="en-US" sz="1600" spc="-1" strike="noStrike">
                <a:solidFill>
                  <a:srgbClr val="000000"/>
                </a:solidFill>
                <a:latin typeface="Times New Roman"/>
                <a:ea typeface="宋体"/>
              </a:rPr>
              <a:t>. Drawing exchange format (DEX) was developed for use with Autodesk and basically has become a standard because of the long-term success of this software package. DEX is limited to transfer geometry information only. Similarly, stereolithography (STL) formats are used to export three-dimensional geometries, initially only to rapid prototyping system, but recently, it has become a format for data exchange between different CAD system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he necessity for a single, neutral format for better compatibility and for the transfer of more information than geometry alone is currently filled mainly by initial graphics exchange specification (IGES). This is used for translation in two directions (in and out of a system) and is also widely used for translation of three-dimensional line and surface data. Because IGES is evolving, there are many variations of IGES.</a:t>
            </a:r>
            <a:endParaRPr b="0" lang="en-US" sz="1600" spc="-1" strike="noStrike">
              <a:solidFill>
                <a:srgbClr val="000000"/>
              </a:solidFill>
              <a:latin typeface="Calibri"/>
            </a:endParaRPr>
          </a:p>
        </p:txBody>
      </p:sp>
      <p:sp>
        <p:nvSpPr>
          <p:cNvPr id="357" name="文本框 5"/>
          <p:cNvSpPr/>
          <p:nvPr/>
        </p:nvSpPr>
        <p:spPr>
          <a:xfrm>
            <a:off x="123840" y="4076640"/>
            <a:ext cx="862488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Another useful format is a solid-model-based standard called the Product Data Exchange Specification (PDES), which is based on the Standard for the Exchange of Product Model Data (STEP) developed by the International Standard Organization. </a:t>
            </a:r>
            <a:r>
              <a:rPr b="0" lang="en-US" sz="1600" spc="-1" strike="noStrike" u="sng">
                <a:solidFill>
                  <a:srgbClr val="000000"/>
                </a:solidFill>
                <a:uFillTx/>
                <a:latin typeface="Times New Roman"/>
                <a:ea typeface="宋体"/>
              </a:rPr>
              <a:t>PDES allows information on shape, design, manufacturing, quality assurance, testing, maintenance, etc., to be transferred between CAD system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9" name="文本框 5"/>
          <p:cNvSpPr/>
          <p:nvPr/>
        </p:nvSpPr>
        <p:spPr>
          <a:xfrm>
            <a:off x="179280" y="525600"/>
            <a:ext cx="8640720" cy="3987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Times New Roman"/>
                <a:ea typeface="宋体"/>
              </a:rPr>
              <a:t>Elements of CAD System</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design process in a CAD system consists of the four stages described in this sec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1) Geometric modeling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geometric modeling, a physical object or any of its parts is described mathematically or analytically. The designer first constructs a geometric model by giving commands that create or modify lines, surfaces, solids, dimensions, and text. Together, these propose an accurate and complete two or three dimensional representation of the object. The results of these commands are displayed and can be moved around on the screen, and any section desired can be magnified to view details. These data are stored in the database contained in computer memory.</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octree representation of a solid object is shown in Fig. 1-1. It is a three-dimensional analog to pixels on a television screen. </a:t>
            </a:r>
            <a:r>
              <a:rPr b="0" lang="en-US" sz="1600" spc="-1" strike="noStrike" u="sng">
                <a:solidFill>
                  <a:srgbClr val="000000"/>
                </a:solidFill>
                <a:uFillTx/>
                <a:latin typeface="Times New Roman"/>
                <a:ea typeface="宋体"/>
              </a:rPr>
              <a:t>Just as any area can be broken down into quadrants, any volume can be broken down into octants, which are then identified as solid, void, or partially filled.</a:t>
            </a:r>
            <a:r>
              <a:rPr b="0" lang="en-US" sz="1600" spc="-1" strike="noStrike">
                <a:solidFill>
                  <a:srgbClr val="000000"/>
                </a:solidFill>
                <a:latin typeface="Times New Roman"/>
                <a:ea typeface="宋体"/>
              </a:rPr>
              <a:t> </a:t>
            </a:r>
            <a:r>
              <a:rPr b="0" lang="zh-CN" sz="1600" spc="-1" strike="noStrike">
                <a:solidFill>
                  <a:srgbClr val="000000"/>
                </a:solidFill>
                <a:latin typeface="Times New Roman"/>
                <a:ea typeface="宋体"/>
              </a:rPr>
              <a:t>①</a:t>
            </a:r>
            <a:r>
              <a:rPr b="0" lang="en-US" sz="1600" spc="-1" strike="noStrike">
                <a:solidFill>
                  <a:srgbClr val="000000"/>
                </a:solidFill>
                <a:latin typeface="Times New Roman"/>
                <a:ea typeface="宋体"/>
              </a:rPr>
              <a:t>Partially filled voxels (from volume pixels) are broken into smaller octants and are reclassified. With increasing resolution, exceptional part detail is achieved. This process may appear to be some what cumbersome, but it allows for accurate description of complex surfaces. It is used particularly in biomedical applications, such as for modeling bone geometries.</a:t>
            </a:r>
            <a:endParaRPr b="0" lang="en-US" sz="1600" spc="-1" strike="noStrike">
              <a:solidFill>
                <a:srgbClr val="000000"/>
              </a:solidFill>
              <a:latin typeface="Calibri"/>
            </a:endParaRPr>
          </a:p>
        </p:txBody>
      </p:sp>
      <p:pic>
        <p:nvPicPr>
          <p:cNvPr id="360" name="图片 51" descr=""/>
          <p:cNvPicPr/>
          <p:nvPr/>
        </p:nvPicPr>
        <p:blipFill>
          <a:blip r:embed="rId1"/>
          <a:srcRect l="0" t="0" r="0" b="13128"/>
          <a:stretch/>
        </p:blipFill>
        <p:spPr>
          <a:xfrm>
            <a:off x="1728720" y="4448160"/>
            <a:ext cx="5275440" cy="1625760"/>
          </a:xfrm>
          <a:prstGeom prst="rect">
            <a:avLst/>
          </a:prstGeom>
          <a:ln w="0">
            <a:noFill/>
          </a:ln>
        </p:spPr>
      </p:pic>
      <p:sp>
        <p:nvSpPr>
          <p:cNvPr id="361" name="文本框 3"/>
          <p:cNvSpPr/>
          <p:nvPr/>
        </p:nvSpPr>
        <p:spPr>
          <a:xfrm>
            <a:off x="2050920" y="6073920"/>
            <a:ext cx="45975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1-1 The octree representation of a solid objec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3" name="文本框 2"/>
          <p:cNvSpPr/>
          <p:nvPr/>
        </p:nvSpPr>
        <p:spPr>
          <a:xfrm>
            <a:off x="395280" y="598320"/>
            <a:ext cx="8353440" cy="242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Times New Roman"/>
                <a:ea typeface="宋体"/>
              </a:rPr>
              <a:t>The octree representation of a solid object. Any volume can be broken down into octants, which are then identified as solid, void or partially filled. Shown is a two-dimensional version (or quadtree ) for the representation of shapes in a plane.</a:t>
            </a:r>
            <a:endParaRPr b="0" lang="en-US" sz="17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Times New Roman"/>
                <a:ea typeface="宋体"/>
              </a:rPr>
              <a:t>(2) Design analysis and optimization</a:t>
            </a:r>
            <a:endParaRPr b="0" lang="en-US" sz="17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Times New Roman"/>
                <a:ea typeface="宋体"/>
              </a:rPr>
              <a:t>After the geometric features of a particular design have been determined, the design is subjected to an engineering analysis. This phase may consist of analyzing (for example) stresses, strains, deflections, vibrations, heat transfer, temperature distribution, or dimensional tolerances. Various sophisticated software packages are available, each having the capabilities to compute these quantities accurately and rapidly. </a:t>
            </a:r>
            <a:endParaRPr b="0" lang="en-US" sz="1700" spc="-1" strike="noStrike">
              <a:solidFill>
                <a:srgbClr val="000000"/>
              </a:solidFill>
              <a:latin typeface="Calibri"/>
            </a:endParaRPr>
          </a:p>
        </p:txBody>
      </p:sp>
      <p:sp>
        <p:nvSpPr>
          <p:cNvPr id="364" name="文本框 6"/>
          <p:cNvSpPr/>
          <p:nvPr/>
        </p:nvSpPr>
        <p:spPr>
          <a:xfrm>
            <a:off x="426960" y="3017880"/>
            <a:ext cx="8342280" cy="113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Times New Roman"/>
                <a:ea typeface="宋体"/>
              </a:rPr>
              <a:t>Because of the relative ease with which such analysis can now be done, designers increasingly are willing to analyze a design more thoroughly before it moves onto production. Experiments and measurements in the field nonetheless maybe necessary to determine the actual effects of loads, temperature, and other variables on the designed components.</a:t>
            </a:r>
            <a:endParaRPr b="0" lang="en-US" sz="1700" spc="-1" strike="noStrike">
              <a:solidFill>
                <a:srgbClr val="000000"/>
              </a:solidFill>
              <a:latin typeface="Calibri"/>
            </a:endParaRPr>
          </a:p>
        </p:txBody>
      </p:sp>
      <p:sp>
        <p:nvSpPr>
          <p:cNvPr id="365" name="文本框 10"/>
          <p:cNvSpPr/>
          <p:nvPr/>
        </p:nvSpPr>
        <p:spPr>
          <a:xfrm>
            <a:off x="417600" y="4076640"/>
            <a:ext cx="8331120" cy="216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Times New Roman"/>
                <a:ea typeface="宋体"/>
              </a:rPr>
              <a:t>(3) Design review and evaluation</a:t>
            </a:r>
            <a:endParaRPr b="0" lang="en-US" sz="17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Times New Roman"/>
                <a:ea typeface="宋体"/>
              </a:rPr>
              <a:t>An important design stage is design review and evaluation used to check for any interference between various components. This is done in order to avoid difficulties during assembly or in use of the part and to determine whether moving members (such as linkages) are going to operate as intended. Software is available with animation capabilities to identify potential problems with moving members and other dynamic situations. </a:t>
            </a:r>
            <a:r>
              <a:rPr b="0" lang="en-US" sz="1700" spc="-1" strike="noStrike" u="sng">
                <a:solidFill>
                  <a:srgbClr val="000000"/>
                </a:solidFill>
                <a:uFillTx/>
                <a:latin typeface="Times New Roman"/>
                <a:ea typeface="宋体"/>
              </a:rPr>
              <a:t>During the design review and evaluation stage, the part is dimensioned and toleranced precisely to the full degree required for manufacturing it.</a:t>
            </a: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7" name="文本框 2"/>
          <p:cNvSpPr/>
          <p:nvPr/>
        </p:nvSpPr>
        <p:spPr>
          <a:xfrm>
            <a:off x="395280" y="765000"/>
            <a:ext cx="806436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4) Documentation and drafting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fter the preceding stages have been completed, the design is reproduced by automated drafting machines for documentation and reference. At this stage, detailed and working drawing also are developed and printed. </a:t>
            </a:r>
            <a:r>
              <a:rPr b="0" lang="en-US" sz="1600" spc="-1" strike="noStrike" u="sng">
                <a:solidFill>
                  <a:srgbClr val="000000"/>
                </a:solidFill>
                <a:uFillTx/>
                <a:latin typeface="Times New Roman"/>
                <a:ea typeface="宋体"/>
              </a:rPr>
              <a:t>The CAD system is also capable of developing and drafting sectional views of the part, scaling the drawings, and performing transformations in order to present various views of the par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69" name="文本框 3" descr=""/>
          <p:cNvPicPr/>
          <p:nvPr/>
        </p:nvPicPr>
        <p:blipFill>
          <a:blip r:embed="rId1"/>
          <a:stretch/>
        </p:blipFill>
        <p:spPr>
          <a:xfrm>
            <a:off x="219240" y="811080"/>
            <a:ext cx="5529240" cy="361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1" name="文本框 6"/>
          <p:cNvSpPr/>
          <p:nvPr/>
        </p:nvSpPr>
        <p:spPr>
          <a:xfrm>
            <a:off x="250920" y="612720"/>
            <a:ext cx="8353440" cy="371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宋体"/>
              </a:rPr>
              <a:t>Complex Sentence Analysi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1) The designer can easily conceptualize the part designed on the graphics screen and can consider alternative designs or modify a particular design to meet specific design requirement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designed on the graphics screen” </a:t>
            </a:r>
            <a:r>
              <a:rPr b="0" lang="zh-CN" sz="1400" spc="-1" strike="noStrike">
                <a:solidFill>
                  <a:srgbClr val="000000"/>
                </a:solidFill>
                <a:latin typeface="Times New Roman"/>
                <a:ea typeface="宋体"/>
              </a:rPr>
              <a:t>在此作为“</a:t>
            </a:r>
            <a:r>
              <a:rPr b="0" lang="en-US" sz="1400" spc="-1" strike="noStrike">
                <a:solidFill>
                  <a:srgbClr val="000000"/>
                </a:solidFill>
                <a:latin typeface="Times New Roman"/>
                <a:ea typeface="宋体"/>
              </a:rPr>
              <a:t>part”</a:t>
            </a:r>
            <a:r>
              <a:rPr b="0" lang="zh-CN" sz="1400" spc="-1" strike="noStrike">
                <a:solidFill>
                  <a:srgbClr val="000000"/>
                </a:solidFill>
                <a:latin typeface="Times New Roman"/>
                <a:ea typeface="宋体"/>
              </a:rPr>
              <a:t>的后置定语</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译：设计人员可以不费力气地在图形屏幕上获得想要设计的零件概念，并能考虑几种可能的设计方案，或者修正某种设计来满足具体的设计要求。</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2) Because of the availability of a variety of CAD systems with different characteristics supplied by different vendors, effective communication and exchange of data between these systems are essential.</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译：由于不同经销商提供了不同特性的各种</a:t>
            </a:r>
            <a:r>
              <a:rPr b="0" lang="en-US" sz="1400" spc="-1" strike="noStrike">
                <a:solidFill>
                  <a:srgbClr val="000000"/>
                </a:solidFill>
                <a:latin typeface="Times New Roman"/>
                <a:ea typeface="宋体"/>
              </a:rPr>
              <a:t>CAD</a:t>
            </a:r>
            <a:r>
              <a:rPr b="0" lang="zh-CN" sz="1400" spc="-1" strike="noStrike">
                <a:solidFill>
                  <a:srgbClr val="000000"/>
                </a:solidFill>
                <a:latin typeface="Times New Roman"/>
                <a:ea typeface="宋体"/>
              </a:rPr>
              <a:t>系统，这些系统间的有效通信和数据交换是十分必要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3) PDES allows information on shape, design, manufacturing, quality assurance, testing, maintenance, etc., to be transferred between CAD system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译：</a:t>
            </a:r>
            <a:r>
              <a:rPr b="0" lang="en-US" sz="1400" spc="-1" strike="noStrike">
                <a:solidFill>
                  <a:srgbClr val="000000"/>
                </a:solidFill>
                <a:latin typeface="Times New Roman"/>
                <a:ea typeface="宋体"/>
              </a:rPr>
              <a:t>PDES</a:t>
            </a:r>
            <a:r>
              <a:rPr b="0" lang="zh-CN" sz="1400" spc="-1" strike="noStrike">
                <a:solidFill>
                  <a:srgbClr val="000000"/>
                </a:solidFill>
                <a:latin typeface="Times New Roman"/>
                <a:ea typeface="宋体"/>
              </a:rPr>
              <a:t>允许形状、设计、制造、质量保证、检测、维护等信息在</a:t>
            </a:r>
            <a:r>
              <a:rPr b="0" lang="en-US" sz="1400" spc="-1" strike="noStrike">
                <a:solidFill>
                  <a:srgbClr val="000000"/>
                </a:solidFill>
                <a:latin typeface="Times New Roman"/>
                <a:ea typeface="宋体"/>
              </a:rPr>
              <a:t>CAD</a:t>
            </a:r>
            <a:r>
              <a:rPr b="0" lang="zh-CN" sz="1400" spc="-1" strike="noStrike">
                <a:solidFill>
                  <a:srgbClr val="000000"/>
                </a:solidFill>
                <a:latin typeface="Times New Roman"/>
                <a:ea typeface="宋体"/>
              </a:rPr>
              <a:t>系统中传递。</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4) Just as any area can be broken down into quadrants, any volume can be broken down into octants, which are then identified as solid, void, or partially filled.</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t>
            </a:r>
            <a:r>
              <a:rPr b="0" lang="en-US" sz="1400" spc="-1" strike="noStrike">
                <a:solidFill>
                  <a:srgbClr val="000000"/>
                </a:solidFill>
                <a:latin typeface="Times New Roman"/>
                <a:ea typeface="宋体"/>
              </a:rPr>
              <a:t>Just as …”</a:t>
            </a:r>
            <a:r>
              <a:rPr b="0" lang="zh-CN" sz="1400" spc="-1" strike="noStrike">
                <a:solidFill>
                  <a:srgbClr val="000000"/>
                </a:solidFill>
                <a:latin typeface="Times New Roman"/>
                <a:ea typeface="宋体"/>
              </a:rPr>
              <a:t>在此含义为“正如 </a:t>
            </a:r>
            <a:r>
              <a:rPr b="0" lang="en-US" sz="1400" spc="-1" strike="noStrike">
                <a:solidFill>
                  <a:srgbClr val="000000"/>
                </a:solidFill>
                <a:latin typeface="Times New Roman"/>
                <a:ea typeface="宋体"/>
              </a:rPr>
              <a:t>…”</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句中，由</a:t>
            </a:r>
            <a:r>
              <a:rPr b="0" lang="en-US" sz="1400" spc="-1" strike="noStrike">
                <a:solidFill>
                  <a:srgbClr val="000000"/>
                </a:solidFill>
                <a:latin typeface="Times New Roman"/>
                <a:ea typeface="宋体"/>
              </a:rPr>
              <a:t>which</a:t>
            </a:r>
            <a:r>
              <a:rPr b="0" lang="zh-CN" sz="1400" spc="-1" strike="noStrike">
                <a:solidFill>
                  <a:srgbClr val="000000"/>
                </a:solidFill>
                <a:latin typeface="Times New Roman"/>
                <a:ea typeface="宋体"/>
              </a:rPr>
              <a:t>引导的非限定从句修饰前面的内容。</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译：正如任何面积可以分解为四等份一样，任何体积也可以分解为八等份，然后作为实体、空穴或部分填充进行识别。</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3" name="文本框 6"/>
          <p:cNvSpPr/>
          <p:nvPr/>
        </p:nvSpPr>
        <p:spPr>
          <a:xfrm>
            <a:off x="250920" y="612720"/>
            <a:ext cx="8353440" cy="2467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宋体"/>
              </a:rPr>
              <a:t>Complex Sentence Analysi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5) During the design review and evaluation stage, the part is dimensioned and toleranced precisely to the full degree required for manufacturing i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imension</a:t>
            </a:r>
            <a:r>
              <a:rPr b="0" lang="zh-CN" sz="1600" spc="-1" strike="noStrike">
                <a:solidFill>
                  <a:srgbClr val="000000"/>
                </a:solidFill>
                <a:latin typeface="Times New Roman"/>
                <a:ea typeface="宋体"/>
              </a:rPr>
              <a:t>与</a:t>
            </a:r>
            <a:r>
              <a:rPr b="0" lang="en-US" sz="1600" spc="-1" strike="noStrike">
                <a:solidFill>
                  <a:srgbClr val="000000"/>
                </a:solidFill>
                <a:latin typeface="Times New Roman"/>
                <a:ea typeface="宋体"/>
              </a:rPr>
              <a:t>tolerance</a:t>
            </a:r>
            <a:r>
              <a:rPr b="0" lang="zh-CN" sz="1600" spc="-1" strike="noStrike">
                <a:solidFill>
                  <a:srgbClr val="000000"/>
                </a:solidFill>
                <a:latin typeface="Times New Roman"/>
                <a:ea typeface="宋体"/>
              </a:rPr>
              <a:t>在本句中作动词，分别解释为“标注所需尺寸”和“规定公差”。</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在设计评审与评估阶段，零件被最大程度地标注准确尺寸并规定公差，以满足制造要求。</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6) The CAD system is also capable of developing and drafting sectional views of the part, scaling the drawings, and performing transformations in order to present various views of the par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t>
            </a:r>
            <a:r>
              <a:rPr b="0" lang="en-US" sz="1600" spc="-1" strike="noStrike">
                <a:solidFill>
                  <a:srgbClr val="000000"/>
                </a:solidFill>
                <a:latin typeface="Times New Roman"/>
                <a:ea typeface="宋体"/>
              </a:rPr>
              <a:t>be capable of …” </a:t>
            </a:r>
            <a:r>
              <a:rPr b="0" lang="zh-CN" sz="1600" spc="-1" strike="noStrike">
                <a:solidFill>
                  <a:srgbClr val="000000"/>
                </a:solidFill>
                <a:latin typeface="Times New Roman"/>
                <a:ea typeface="宋体"/>
              </a:rPr>
              <a:t>在此含义为“能够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600" spc="-1" strike="noStrike">
                <a:solidFill>
                  <a:srgbClr val="000000"/>
                </a:solidFill>
                <a:latin typeface="Times New Roman"/>
                <a:ea typeface="宋体"/>
              </a:rPr>
              <a:t>译：</a:t>
            </a:r>
            <a:r>
              <a:rPr b="0" lang="en-US" sz="1600" spc="-1" strike="noStrike">
                <a:solidFill>
                  <a:srgbClr val="000000"/>
                </a:solidFill>
                <a:latin typeface="Times New Roman"/>
                <a:ea typeface="宋体"/>
              </a:rPr>
              <a:t>CAD</a:t>
            </a:r>
            <a:r>
              <a:rPr b="0" lang="zh-CN" sz="1600" spc="-1" strike="noStrike">
                <a:solidFill>
                  <a:srgbClr val="000000"/>
                </a:solidFill>
                <a:latin typeface="Times New Roman"/>
                <a:ea typeface="宋体"/>
              </a:rPr>
              <a:t>系统也能够生成零件剖视草图并进行缩放、绘制，同时也可以进行转换以呈现零件的各种剖面。</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29T06:06:34Z</dcterms:modified>
  <cp:revision>8</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