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42566-89A5-419E-94CF-CB857E484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E8AF3D-88AE-4156-A25F-C64ECEC34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D3B34C-F4DA-414E-AACC-8553A76A6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C8A4EE-C90D-47B1-94DC-C9DABFB0C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5EFD63-2763-4D62-B5D9-65436195F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6151A-A956-490D-99CB-6E9741221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CB3912-52ED-49CB-AE3E-3DEDCA4F86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663E7-5D8A-4A03-8210-C83ACBD990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8C7CD-7045-478E-8514-6489828B4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EC74D-8D13-410E-AED1-21C15E10AC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F7AAE-B4E0-4AED-86F0-B11618DEE5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C8B7E-C95D-4EF5-A412-EF8AC35E9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FC1EC-17D1-438D-8ED8-4436B43D27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1E2AF-BC01-4DC4-97E8-2960D76FD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56EED-B0FE-4526-815B-B87749C42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C869EB-3F5B-4305-9277-9E001F1C120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3E91A0-8406-42E6-8DCB-3297A236BC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49063D-105D-4347-ADD2-5F1FED6AFF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1F607A-6DA7-4909-ABC9-26C56EFF74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5BB69C-49F3-4BC4-8462-4C2C24F358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074ED-0959-4C3E-91DA-E244F35925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012DA3-9476-4060-A221-06736E1C9D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7EE27-E4E9-42E5-B014-0EBBE2C1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483B0-82EA-4FB5-8657-8EB637A879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EDDFC1-3C09-44FD-94C6-6D80558509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44098F-F51D-4DD9-A8A2-94ADCA684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A9681-5268-4964-A9A5-943F0B3AC2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86AADB-9169-4009-8284-A007C84B60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CA3CF4-91CF-4857-A730-D600B74F963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64056A-B52D-45CB-BF96-2C114CE80A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FB02D5-370A-496E-8659-29F774C1033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C4B8E7-BBE7-4EAE-AF6B-AE15628228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0E8535-8B81-4160-A6C7-271E9F6FC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4608B-83DF-4998-B4EA-6E5176E69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16CF1F-96D5-4FE6-AC8D-A6E4EA9539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204658-E694-4922-BA4B-B96FFFF456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7D996C6-39AE-4465-A372-0FBF490117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5DBF1D-3B69-491C-8DF0-7CFF686E31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78A90F-8844-4FE7-93D2-BF61D0BF24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9DBEC0-D487-4A39-AF10-05D73FDCA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9FA9E8-5B6C-4C86-A2B4-A4223A18E8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F66C0E-3308-4BA3-AB96-A526545FD0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F4F286-B33E-4C37-823B-F7872A83F9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4C5EAE4-FE0B-4131-AEAD-409F7C2B943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B979F5-1A72-45EF-8290-4CA8323896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E6F3C9-21B3-4051-B4DD-4A7F6A23B52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9A19EC-62A9-4E7B-99E8-76E51EAEC7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F63317-1902-4654-ACFC-EC7B28FC81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3B42B9-1B25-411C-A7C7-2DDE4FA3A6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1B78A-60B8-4DAE-A95D-199E2DC7E6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22BFA5-AAF7-4EA9-8B92-9CF0C330B2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A14E33-6FB2-4051-8A0B-C13EC76020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9B331B-449B-4447-9971-5BF7AEBAE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98D66B-5CD1-4C5C-ADCB-B0EE6B4E50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C9AEEB1-A665-4D15-A57C-E66D9127D0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2804D-48DA-447B-BA1A-83B9F0AE0B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66791C-0F59-4098-9E81-C185ED416AC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B179C4E-F197-4085-A23D-B110AE3F644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EB7BC6-53D3-4EEB-84AB-A7981C53819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52BEF8-6BE3-42A7-83F9-E19C1185AB3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6C7AF2-2A67-4A34-9ADD-140162450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2F8475-8465-4080-9B05-38E35F5A4D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72D95F-9893-4E5D-9167-C9EC0F320E7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727C3-03FC-4200-8F24-F88F681592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42F0EE-2DF6-4542-BCEA-356B716D53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3CF4DD-8E25-48BC-A7C3-2900D5CE217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45612-2E83-432D-832B-53FAE8E18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024320-81B6-4C50-8F86-976BB3686D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B77226B-0069-4209-A97D-E4D96DF6E0A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F8B74C-B553-496C-9C17-4A0C4AC9EA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170F9D-AE11-405E-A101-F909EA3BA5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E14AAF-1543-4B42-A5C9-6E24B67F0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79E45C6-C876-4D7D-AB6A-040D98E37B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2F7966-3E10-4A0A-8957-282345FC4D6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00BC179-8460-4498-A458-11B2DCC2E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3E83C1-4AD1-4FCB-86C6-E1B0C8E01B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A6EF54-AE3F-4EA9-80D4-C6711AEC7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87595C-8EE3-4902-A495-FE1172CBA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55274-C04E-466B-B583-BE9414B9AF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577861-5CCC-400E-8882-C709526E1F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29B5F9-C1D0-46A2-93E7-477EE82F3F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2C41FE4-7662-425F-990E-3A4F6340E0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2045F6-B34A-4F06-AFB5-CDEDE0917A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CBFFCF-83DE-4279-8565-9EC0AF2C47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F524D9-59A3-4ABD-9633-7F8E2AB45E0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EBE431-0205-478D-AC81-B62FF1B754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407B19B-9C30-407D-A944-915D0CBF52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B40A86-FED7-4AD2-A958-A4485D1867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B869C-D20B-4B09-8403-399491088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558778-2C55-4057-83F2-05D6984253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EEC979-3ABF-462A-A603-8F560914FE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9153A4-5883-464E-99A4-8BE3904E40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F51C1F-1DA4-497C-8AFF-B0B259FF47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2A230-DF35-448C-AE32-F347135A2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3A6AEA-618C-4DEC-BEA3-1BDAE6B4C7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9D1362-3B10-4D62-BDB6-E2FE2FECB81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0CD32-9B2E-4702-AE2A-97273DB7D8E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5070E7-4B18-4D95-B191-B6068882194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2A2CE5-BB95-4943-B3CB-C5FD3BA20F9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91DD67-1ECF-4916-8F7A-AC41AD28AA2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E70EF7-5080-460E-A4AF-719625E2991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8C2586-BE4A-409C-BC98-7A240E5E0EC5}"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B8574E-5981-45EA-B5C8-E5F1F91CBBB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93A73C-35EA-404C-ACA8-27FB72A0473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3 BASIC KNOWLEDGE OF GROUND HANDLING AND SERVICING</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地勤服务基本知识</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5" name="文本框 3"/>
          <p:cNvSpPr/>
          <p:nvPr/>
        </p:nvSpPr>
        <p:spPr>
          <a:xfrm>
            <a:off x="136440" y="662040"/>
            <a:ext cx="4291200" cy="557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ow   v. &amp;n.  </a:t>
            </a:r>
            <a:r>
              <a:rPr b="0" lang="zh-CN" sz="1500" spc="-1" strike="noStrike">
                <a:solidFill>
                  <a:srgbClr val="000000"/>
                </a:solidFill>
                <a:latin typeface="Times New Roman"/>
                <a:ea typeface="宋体"/>
              </a:rPr>
              <a:t>拖（飞机）</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hock/chocking   </a:t>
            </a:r>
            <a:r>
              <a:rPr b="0" lang="zh-CN" sz="1500" spc="-1" strike="noStrike">
                <a:solidFill>
                  <a:srgbClr val="000000"/>
                </a:solidFill>
                <a:latin typeface="Times New Roman"/>
                <a:ea typeface="宋体"/>
              </a:rPr>
              <a:t>轮挡</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挡轮挡</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moval  n.  </a:t>
            </a:r>
            <a:r>
              <a:rPr b="0" lang="zh-CN" sz="1500" spc="-1" strike="noStrike">
                <a:solidFill>
                  <a:srgbClr val="000000"/>
                </a:solidFill>
                <a:latin typeface="Times New Roman"/>
                <a:ea typeface="宋体"/>
              </a:rPr>
              <a:t>拆除</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uelling/defueling  n.  </a:t>
            </a:r>
            <a:r>
              <a:rPr b="0" lang="zh-CN" sz="1500" spc="-1" strike="noStrike">
                <a:solidFill>
                  <a:srgbClr val="000000"/>
                </a:solidFill>
                <a:latin typeface="Times New Roman"/>
                <a:ea typeface="宋体"/>
              </a:rPr>
              <a:t>加油</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抽油</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xygen charging   </a:t>
            </a:r>
            <a:r>
              <a:rPr b="0" lang="zh-CN" sz="1500" spc="-1" strike="noStrike">
                <a:solidFill>
                  <a:srgbClr val="000000"/>
                </a:solidFill>
                <a:latin typeface="Times New Roman"/>
                <a:ea typeface="宋体"/>
              </a:rPr>
              <a:t>氧气灌充</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e-ice/ anti-ice   v.  </a:t>
            </a:r>
            <a:r>
              <a:rPr b="0" lang="zh-CN" sz="1500" spc="-1" strike="noStrike">
                <a:solidFill>
                  <a:srgbClr val="000000"/>
                </a:solidFill>
                <a:latin typeface="Times New Roman"/>
                <a:ea typeface="宋体"/>
              </a:rPr>
              <a:t>除防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rost   v.   </a:t>
            </a:r>
            <a:r>
              <a:rPr b="0" lang="zh-CN" sz="1500" spc="-1" strike="noStrike">
                <a:solidFill>
                  <a:srgbClr val="000000"/>
                </a:solidFill>
                <a:latin typeface="Times New Roman"/>
                <a:ea typeface="宋体"/>
              </a:rPr>
              <a:t>结霜</a:t>
            </a:r>
            <a:r>
              <a:rPr b="0" lang="en-US" sz="1500" spc="-1" strike="noStrike">
                <a:solidFill>
                  <a:srgbClr val="000000"/>
                </a:solidFill>
                <a:latin typeface="Times New Roman"/>
                <a:ea typeface="宋体"/>
              </a:rPr>
              <a:t>;  n. </a:t>
            </a:r>
            <a:r>
              <a:rPr b="0" lang="zh-CN" sz="1500" spc="-1" strike="noStrike">
                <a:solidFill>
                  <a:srgbClr val="000000"/>
                </a:solidFill>
                <a:latin typeface="Times New Roman"/>
                <a:ea typeface="宋体"/>
              </a:rPr>
              <a:t>霜</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hangar  n.  </a:t>
            </a:r>
            <a:r>
              <a:rPr b="0" lang="zh-CN" sz="1500" spc="-1" strike="noStrike">
                <a:solidFill>
                  <a:srgbClr val="000000"/>
                </a:solidFill>
                <a:latin typeface="Times New Roman"/>
                <a:ea typeface="宋体"/>
              </a:rPr>
              <a:t>机库</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jack  n.  </a:t>
            </a:r>
            <a:r>
              <a:rPr b="0" lang="zh-CN" sz="1500" spc="-1" strike="noStrike">
                <a:solidFill>
                  <a:srgbClr val="000000"/>
                </a:solidFill>
                <a:latin typeface="Times New Roman"/>
                <a:ea typeface="宋体"/>
              </a:rPr>
              <a:t>千斤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jacking  n.  </a:t>
            </a:r>
            <a:r>
              <a:rPr b="0" lang="zh-CN" sz="1500" spc="-1" strike="noStrike">
                <a:solidFill>
                  <a:srgbClr val="000000"/>
                </a:solidFill>
                <a:latin typeface="Times New Roman"/>
                <a:ea typeface="宋体"/>
              </a:rPr>
              <a:t>顶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hoist    v.  </a:t>
            </a:r>
            <a:r>
              <a:rPr b="0" lang="zh-CN" sz="1500" spc="-1" strike="noStrike">
                <a:solidFill>
                  <a:srgbClr val="000000"/>
                </a:solidFill>
                <a:latin typeface="Times New Roman"/>
                <a:ea typeface="宋体"/>
              </a:rPr>
              <a:t>（用起重机）吊起；</a:t>
            </a:r>
            <a:r>
              <a:rPr b="0" lang="en-US" sz="1500" spc="-1" strike="noStrike">
                <a:solidFill>
                  <a:srgbClr val="000000"/>
                </a:solidFill>
                <a:latin typeface="Times New Roman"/>
                <a:ea typeface="宋体"/>
              </a:rPr>
              <a:t>n.</a:t>
            </a:r>
            <a:r>
              <a:rPr b="0" lang="zh-CN" sz="1500" spc="-1" strike="noStrike">
                <a:solidFill>
                  <a:srgbClr val="000000"/>
                </a:solidFill>
                <a:latin typeface="Times New Roman"/>
                <a:ea typeface="宋体"/>
              </a:rPr>
              <a:t>起重器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ovision  n.  </a:t>
            </a:r>
            <a:r>
              <a:rPr b="0" lang="zh-CN" sz="1500" spc="-1" strike="noStrike">
                <a:solidFill>
                  <a:srgbClr val="000000"/>
                </a:solidFill>
                <a:latin typeface="Times New Roman"/>
                <a:ea typeface="宋体"/>
              </a:rPr>
              <a:t>提供</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axiing  v.  </a:t>
            </a:r>
            <a:r>
              <a:rPr b="0" lang="zh-CN" sz="1500" spc="-1" strike="noStrike">
                <a:solidFill>
                  <a:srgbClr val="000000"/>
                </a:solidFill>
                <a:latin typeface="Times New Roman"/>
                <a:ea typeface="宋体"/>
              </a:rPr>
              <a:t>滑行</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learance  n.   </a:t>
            </a:r>
            <a:r>
              <a:rPr b="0" lang="zh-CN" sz="1500" spc="-1" strike="noStrike">
                <a:solidFill>
                  <a:srgbClr val="000000"/>
                </a:solidFill>
                <a:latin typeface="Times New Roman"/>
                <a:ea typeface="宋体"/>
              </a:rPr>
              <a:t>净空，许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ignalman   n.   </a:t>
            </a:r>
            <a:r>
              <a:rPr b="0" lang="zh-CN" sz="1500" spc="-1" strike="noStrike">
                <a:solidFill>
                  <a:srgbClr val="000000"/>
                </a:solidFill>
                <a:latin typeface="Times New Roman"/>
                <a:ea typeface="宋体"/>
              </a:rPr>
              <a:t>信号员</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bstruction  n.   </a:t>
            </a:r>
            <a:r>
              <a:rPr b="0" lang="zh-CN" sz="1500" spc="-1" strike="noStrike">
                <a:solidFill>
                  <a:srgbClr val="000000"/>
                </a:solidFill>
                <a:latin typeface="Times New Roman"/>
                <a:ea typeface="宋体"/>
              </a:rPr>
              <a:t>障碍，阻碍</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ersonnel   n.  </a:t>
            </a:r>
            <a:r>
              <a:rPr b="0" lang="zh-CN" sz="1500" spc="-1" strike="noStrike">
                <a:solidFill>
                  <a:srgbClr val="000000"/>
                </a:solidFill>
                <a:latin typeface="Times New Roman"/>
                <a:ea typeface="宋体"/>
              </a:rPr>
              <a:t>人员，职员</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wivel   v.   </a:t>
            </a:r>
            <a:r>
              <a:rPr b="0" lang="zh-CN" sz="1500" spc="-1" strike="noStrike">
                <a:solidFill>
                  <a:srgbClr val="000000"/>
                </a:solidFill>
                <a:latin typeface="Times New Roman"/>
                <a:ea typeface="宋体"/>
              </a:rPr>
              <a:t>转动，旋转</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let/outlet   n.   </a:t>
            </a:r>
            <a:r>
              <a:rPr b="0" lang="zh-CN" sz="1500" spc="-1" strike="noStrike">
                <a:solidFill>
                  <a:srgbClr val="000000"/>
                </a:solidFill>
                <a:latin typeface="Times New Roman"/>
                <a:ea typeface="宋体"/>
              </a:rPr>
              <a:t>进口，入口</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出口；排水口；通风口</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tastrophic   adj.   </a:t>
            </a:r>
            <a:r>
              <a:rPr b="0" lang="zh-CN" sz="1500" spc="-1" strike="noStrike">
                <a:solidFill>
                  <a:srgbClr val="000000"/>
                </a:solidFill>
                <a:latin typeface="Times New Roman"/>
                <a:ea typeface="宋体"/>
              </a:rPr>
              <a:t>灾难性的，惨重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jure   n.   </a:t>
            </a:r>
            <a:r>
              <a:rPr b="0" lang="zh-CN" sz="1500" spc="-1" strike="noStrike">
                <a:solidFill>
                  <a:srgbClr val="000000"/>
                </a:solidFill>
                <a:latin typeface="Times New Roman"/>
                <a:ea typeface="宋体"/>
              </a:rPr>
              <a:t>伤害，损害</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ag    n.   </a:t>
            </a:r>
            <a:r>
              <a:rPr b="0" lang="zh-CN" sz="1500" spc="-1" strike="noStrike">
                <a:solidFill>
                  <a:srgbClr val="000000"/>
                </a:solidFill>
                <a:latin typeface="Times New Roman"/>
                <a:ea typeface="宋体"/>
              </a:rPr>
              <a:t>碎屑；破布</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amp   n.   </a:t>
            </a:r>
            <a:r>
              <a:rPr b="0" lang="zh-CN" sz="1500" spc="-1" strike="noStrike">
                <a:solidFill>
                  <a:srgbClr val="000000"/>
                </a:solidFill>
                <a:latin typeface="Times New Roman"/>
                <a:ea typeface="宋体"/>
              </a:rPr>
              <a:t>停机坪；坡道；活动舷梯</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eposit   n.   </a:t>
            </a:r>
            <a:r>
              <a:rPr b="0" lang="zh-CN" sz="1500" spc="-1" strike="noStrike">
                <a:solidFill>
                  <a:srgbClr val="000000"/>
                </a:solidFill>
                <a:latin typeface="Times New Roman"/>
                <a:ea typeface="宋体"/>
              </a:rPr>
              <a:t>放置，存放；沉淀</a:t>
            </a:r>
            <a:endParaRPr b="0" lang="en-US" sz="1500" spc="-1" strike="noStrike">
              <a:solidFill>
                <a:srgbClr val="000000"/>
              </a:solidFill>
              <a:latin typeface="Calibri"/>
            </a:endParaRPr>
          </a:p>
        </p:txBody>
      </p:sp>
      <p:sp>
        <p:nvSpPr>
          <p:cNvPr id="386" name="文本框 7"/>
          <p:cNvSpPr/>
          <p:nvPr/>
        </p:nvSpPr>
        <p:spPr>
          <a:xfrm>
            <a:off x="4427640" y="671400"/>
            <a:ext cx="45766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 aware that   </a:t>
            </a:r>
            <a:r>
              <a:rPr b="0" lang="zh-CN" sz="1600" spc="-1" strike="noStrike">
                <a:solidFill>
                  <a:srgbClr val="000000"/>
                </a:solidFill>
                <a:latin typeface="Times New Roman"/>
                <a:ea typeface="宋体"/>
              </a:rPr>
              <a:t>意识到</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lluminate   v.   </a:t>
            </a:r>
            <a:r>
              <a:rPr b="0" lang="zh-CN" sz="1600" spc="-1" strike="noStrike">
                <a:solidFill>
                  <a:srgbClr val="000000"/>
                </a:solidFill>
                <a:latin typeface="Times New Roman"/>
                <a:ea typeface="宋体"/>
              </a:rPr>
              <a:t>照明，点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acon   n.   </a:t>
            </a:r>
            <a:r>
              <a:rPr b="0" lang="zh-CN" sz="1600" spc="-1" strike="noStrike">
                <a:solidFill>
                  <a:srgbClr val="000000"/>
                </a:solidFill>
                <a:latin typeface="Times New Roman"/>
                <a:ea typeface="宋体"/>
              </a:rPr>
              <a:t>信标</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pproach   v.  </a:t>
            </a:r>
            <a:r>
              <a:rPr b="0" lang="zh-CN" sz="1600" spc="-1" strike="noStrike">
                <a:solidFill>
                  <a:srgbClr val="000000"/>
                </a:solidFill>
                <a:latin typeface="Times New Roman"/>
                <a:ea typeface="宋体"/>
              </a:rPr>
              <a:t>接近</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in   v.  </a:t>
            </a:r>
            <a:r>
              <a:rPr b="0" lang="zh-CN" sz="1600" spc="-1" strike="noStrike">
                <a:solidFill>
                  <a:srgbClr val="000000"/>
                </a:solidFill>
                <a:latin typeface="Times New Roman"/>
                <a:ea typeface="宋体"/>
              </a:rPr>
              <a:t>旋转</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gest   v.   </a:t>
            </a:r>
            <a:r>
              <a:rPr b="0" lang="zh-CN" sz="1600" spc="-1" strike="noStrike">
                <a:solidFill>
                  <a:srgbClr val="000000"/>
                </a:solidFill>
                <a:latin typeface="Times New Roman"/>
                <a:ea typeface="宋体"/>
              </a:rPr>
              <a:t>吞下，获取，</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itrogen   n.   </a:t>
            </a:r>
            <a:r>
              <a:rPr b="0" lang="zh-CN" sz="1600" spc="-1" strike="noStrike">
                <a:solidFill>
                  <a:srgbClr val="000000"/>
                </a:solidFill>
                <a:latin typeface="Times New Roman"/>
                <a:ea typeface="宋体"/>
              </a:rPr>
              <a:t>氮气</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flate/deflate    v.   </a:t>
            </a:r>
            <a:r>
              <a:rPr b="0" lang="zh-CN" sz="1600" spc="-1" strike="noStrike">
                <a:solidFill>
                  <a:srgbClr val="000000"/>
                </a:solidFill>
                <a:latin typeface="Times New Roman"/>
                <a:ea typeface="宋体"/>
              </a:rPr>
              <a:t>（轮胎）充</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放气</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cetylene   n.   </a:t>
            </a:r>
            <a:r>
              <a:rPr b="0" lang="zh-CN" sz="1600" spc="-1" strike="noStrike">
                <a:solidFill>
                  <a:srgbClr val="000000"/>
                </a:solidFill>
                <a:latin typeface="Times New Roman"/>
                <a:ea typeface="宋体"/>
              </a:rPr>
              <a:t>乙快</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rass   n.   </a:t>
            </a:r>
            <a:r>
              <a:rPr b="0" lang="zh-CN" sz="1600" spc="-1" strike="noStrike">
                <a:solidFill>
                  <a:srgbClr val="000000"/>
                </a:solidFill>
                <a:latin typeface="Times New Roman"/>
                <a:ea typeface="宋体"/>
              </a:rPr>
              <a:t>黄铜</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azard    n.   </a:t>
            </a:r>
            <a:r>
              <a:rPr b="0" lang="zh-CN" sz="1600" spc="-1" strike="noStrike">
                <a:solidFill>
                  <a:srgbClr val="000000"/>
                </a:solidFill>
                <a:latin typeface="Times New Roman"/>
                <a:ea typeface="宋体"/>
              </a:rPr>
              <a:t>危险</a:t>
            </a:r>
            <a:r>
              <a:rPr b="0" lang="en-US" sz="1600" spc="-1" strike="noStrike">
                <a:solidFill>
                  <a:srgbClr val="000000"/>
                </a:solidFill>
                <a:latin typeface="Times New Roman"/>
                <a:ea typeface="宋体"/>
              </a:rPr>
              <a:t>; v.</a:t>
            </a:r>
            <a:r>
              <a:rPr b="0" lang="zh-CN" sz="1600" spc="-1" strike="noStrike">
                <a:solidFill>
                  <a:srgbClr val="000000"/>
                </a:solidFill>
                <a:latin typeface="Times New Roman"/>
                <a:ea typeface="宋体"/>
              </a:rPr>
              <a:t>冒危险</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troleum  n.  </a:t>
            </a:r>
            <a:r>
              <a:rPr b="0" lang="zh-CN" sz="1600" spc="-1" strike="noStrike">
                <a:solidFill>
                  <a:srgbClr val="000000"/>
                </a:solidFill>
                <a:latin typeface="Times New Roman"/>
                <a:ea typeface="宋体"/>
              </a:rPr>
              <a:t>石油，石油制品</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ontaneously   adv.   </a:t>
            </a:r>
            <a:r>
              <a:rPr b="0" lang="zh-CN" sz="1600" spc="-1" strike="noStrike">
                <a:solidFill>
                  <a:srgbClr val="000000"/>
                </a:solidFill>
                <a:latin typeface="Times New Roman"/>
                <a:ea typeface="宋体"/>
              </a:rPr>
              <a:t>自发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rease   n.   </a:t>
            </a:r>
            <a:r>
              <a:rPr b="0" lang="zh-CN" sz="1600" spc="-1" strike="noStrike">
                <a:solidFill>
                  <a:srgbClr val="000000"/>
                </a:solidFill>
                <a:latin typeface="Times New Roman"/>
                <a:ea typeface="宋体"/>
              </a:rPr>
              <a:t>油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reasy   adj.   </a:t>
            </a:r>
            <a:r>
              <a:rPr b="0" lang="zh-CN" sz="1600" spc="-1" strike="noStrike">
                <a:solidFill>
                  <a:srgbClr val="000000"/>
                </a:solidFill>
                <a:latin typeface="Times New Roman"/>
                <a:ea typeface="宋体"/>
              </a:rPr>
              <a:t>涂有油脂的，油腻的</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8" name="文本框 6"/>
          <p:cNvSpPr/>
          <p:nvPr/>
        </p:nvSpPr>
        <p:spPr>
          <a:xfrm>
            <a:off x="250920" y="612720"/>
            <a:ext cx="85690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For this type of jacking, some manufacturers have made provisions on. the strut for tile placement of a short hydraulic jack. When using this method, never place the jack under the brake housing or in any location that is not specifically approved by the manufactur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注意此句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never do sth."</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any sth. that is not”</a:t>
            </a:r>
            <a:r>
              <a:rPr b="0" lang="zh-CN" sz="1600" spc="-1" strike="noStrike">
                <a:solidFill>
                  <a:srgbClr val="000000"/>
                </a:solidFill>
                <a:latin typeface="Times New Roman"/>
                <a:ea typeface="宋体"/>
              </a:rPr>
              <a:t>表达的强调否定的意思。</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对于这种类型的顶升，有的制造厂商在支柱上已预备了可放置这种短千斤顶的地方。当使用此法顶升时，千万不要将千斤顶顶在刹车组件壳体或任何未经厂家许可的地方。</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If this should occur, lower the jack and straighten it, and then raise the wheel again. </a:t>
            </a:r>
            <a:r>
              <a:rPr b="0" lang="zh-CN" sz="1600" spc="-1" strike="noStrike">
                <a:solidFill>
                  <a:srgbClr val="000000"/>
                </a:solidFill>
                <a:latin typeface="Times New Roman"/>
                <a:ea typeface="宋体"/>
              </a:rPr>
              <a:t>分析：这里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should”</a:t>
            </a:r>
            <a:r>
              <a:rPr b="0" lang="zh-CN" sz="1600" spc="-1" strike="noStrike">
                <a:solidFill>
                  <a:srgbClr val="000000"/>
                </a:solidFill>
                <a:latin typeface="Times New Roman"/>
                <a:ea typeface="宋体"/>
              </a:rPr>
              <a:t>不是应该的意思，是典型的航空英语虚拟语气句型，应翻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如果，万一</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如果这种情况发生了，放低千斤顶，使它直立，然后重新顶升机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Only qualified persons authorized to taxi aircraft may actually taxi an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此句为强调语句，过去分词短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uthorized to taxi aircraft"</a:t>
            </a:r>
            <a:r>
              <a:rPr b="0" lang="zh-CN" sz="1600" spc="-1" strike="noStrike">
                <a:solidFill>
                  <a:srgbClr val="000000"/>
                </a:solidFill>
                <a:latin typeface="Times New Roman"/>
                <a:ea typeface="宋体"/>
              </a:rPr>
              <a:t>作定语，修饰</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qualified persons"</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只有被授权</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指挥操作</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飞机滑行的合格人员才能真正</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指挥</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飞机滑行。</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Large aircraft are towed with a tractor (special towing vehicle), connected by a special tow bar, or towed by a towbar-less aircraft towing tractor/vehicl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此句有两个并列谓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towed with”</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towed by",</a:t>
            </a:r>
            <a:r>
              <a:rPr b="0" lang="zh-CN" sz="1600" spc="-1" strike="noStrike">
                <a:solidFill>
                  <a:srgbClr val="000000"/>
                </a:solidFill>
                <a:latin typeface="Times New Roman"/>
                <a:ea typeface="宋体"/>
              </a:rPr>
              <a:t>此处的</a:t>
            </a:r>
            <a:r>
              <a:rPr b="0" lang="en-US" sz="1600" spc="-1" strike="noStrike">
                <a:solidFill>
                  <a:srgbClr val="000000"/>
                </a:solidFill>
                <a:latin typeface="Times New Roman"/>
                <a:ea typeface="宋体"/>
              </a:rPr>
              <a:t>a towbar-less aircraft towing tractor/vehicle</a:t>
            </a:r>
            <a:r>
              <a:rPr b="0" lang="zh-CN" sz="1600" spc="-1" strike="noStrike">
                <a:solidFill>
                  <a:srgbClr val="000000"/>
                </a:solidFill>
                <a:latin typeface="Times New Roman"/>
                <a:ea typeface="宋体"/>
              </a:rPr>
              <a:t>称为无杆式拖车，其另一个在外场常用的名称为：抱轮式牵引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拖车。</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大型飞机用一根专用的拖把连接牵引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专用拖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进行拖动，或用无杆式飞机牵引车</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拖车进行拖动。</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24000" y="615960"/>
            <a:ext cx="84247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common servicing tasks for an aircraft in line maintenance include parking, towing, wheel chocking, fitting and removal of the protection devices of an aircraf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connecting ground power and pneumatic supplie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water servicing (fill and drai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fuelling and de-fuelling</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ir and oxygen charging</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necessary cleaning</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e-icing arid removal of snow and frost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e will learn some basic knowledge about ground handling and servicing in detai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Jacking the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ircraft must often be raised from a hangar floor for weighing, maintenance or repair. Chapter 07 LIFTING AND SHORING in Maintenance Manual provides the necessary information for jacking the airplane (Figure 1-1).</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several methods of doing this. You should follow the aircraft manufacturer’s instructions. If an aircraft slips out of a hoist or falls off a jack, the cost to repair the air-craft is usually quite high.</a:t>
            </a:r>
            <a:endParaRPr b="0" lang="en-US" sz="1600" spc="-1" strike="noStrike">
              <a:solidFill>
                <a:srgbClr val="000000"/>
              </a:solidFill>
              <a:latin typeface="Calibri"/>
            </a:endParaRPr>
          </a:p>
        </p:txBody>
      </p:sp>
      <p:pic>
        <p:nvPicPr>
          <p:cNvPr id="355" name="图片 5" descr=""/>
          <p:cNvPicPr/>
          <p:nvPr/>
        </p:nvPicPr>
        <p:blipFill>
          <a:blip r:embed="rId1"/>
          <a:stretch/>
        </p:blipFill>
        <p:spPr>
          <a:xfrm>
            <a:off x="3613320" y="3662280"/>
            <a:ext cx="5144760" cy="2359080"/>
          </a:xfrm>
          <a:prstGeom prst="rect">
            <a:avLst/>
          </a:prstGeom>
          <a:ln w="0">
            <a:noFill/>
          </a:ln>
        </p:spPr>
      </p:pic>
      <p:sp>
        <p:nvSpPr>
          <p:cNvPr id="356" name="文本框 9"/>
          <p:cNvSpPr/>
          <p:nvPr/>
        </p:nvSpPr>
        <p:spPr>
          <a:xfrm>
            <a:off x="324000" y="3681360"/>
            <a:ext cx="328932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y aircraft have stressed panels that must be installed before an aircraft is jacked, hoisted, or moved. Most modem aircraft have jack pads located on their main wing spars(Figure 1-2). Refer to Airframe Repair Manual for information on installation of these pane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3"/>
          <p:cNvSpPr/>
          <p:nvPr/>
        </p:nvSpPr>
        <p:spPr>
          <a:xfrm>
            <a:off x="250920" y="601560"/>
            <a:ext cx="367344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is often necessary to lift only one wheel from the floor to change a tire or to service a wheel or brake. For this type of jacking, some manufacturers have made provisions on the strut for the placement of a short hydraulic jack (Figure 1-3). When using this method, never place the jack under the brake housing or in any location that is not specifically approved by the manufacturer.</a:t>
            </a:r>
            <a:endParaRPr b="0" lang="en-US" sz="1600" spc="-1" strike="noStrike">
              <a:solidFill>
                <a:srgbClr val="000000"/>
              </a:solidFill>
              <a:latin typeface="Calibri"/>
            </a:endParaRPr>
          </a:p>
        </p:txBody>
      </p:sp>
      <p:pic>
        <p:nvPicPr>
          <p:cNvPr id="359" name="图片 5" descr=""/>
          <p:cNvPicPr/>
          <p:nvPr/>
        </p:nvPicPr>
        <p:blipFill>
          <a:blip r:embed="rId1"/>
          <a:stretch/>
        </p:blipFill>
        <p:spPr>
          <a:xfrm>
            <a:off x="3924360" y="601560"/>
            <a:ext cx="4968720" cy="2251080"/>
          </a:xfrm>
          <a:prstGeom prst="rect">
            <a:avLst/>
          </a:prstGeom>
          <a:ln w="0">
            <a:noFill/>
          </a:ln>
        </p:spPr>
      </p:pic>
      <p:sp>
        <p:nvSpPr>
          <p:cNvPr id="360" name="文本框 8"/>
          <p:cNvSpPr/>
          <p:nvPr/>
        </p:nvSpPr>
        <p:spPr>
          <a:xfrm>
            <a:off x="333360" y="3156120"/>
            <a:ext cx="85694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is usually recommended, that both wheels NOT be lifted off the floor at the same time when jacking from the landing gear stru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hen jacked from the. struts, some aircraft have a tendency to move sideways and tilt the jack as the weight is removed from the tire. If this should occur, lower the jack and straighten it, and then raise the wheel again. To keep the aircraft from moving while it is on the jack, the wheels that are not jacked should be securely chocked. Figure3-4 and Figure1-5 show some typical kinds of chock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ost important consideration when jacking an aircraft is to follow the manufacturer's instructions in detail. Be sure to use the proper jacks so that the aircraft remains level with no tendency for it to slip off the jacks. Most higher capacity jacks have screw-type safety collars to prevent the jack from inadvertently retracting. Be sure that these collars are screwed down as the airplane is raised. Jacks that do not have the screw-type safety usually have holes drilled in the shaft so lock pins can be inserted to guard against the jack retract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2" name="图片 2" descr=""/>
          <p:cNvPicPr/>
          <p:nvPr/>
        </p:nvPicPr>
        <p:blipFill>
          <a:blip r:embed="rId1"/>
          <a:stretch/>
        </p:blipFill>
        <p:spPr>
          <a:xfrm>
            <a:off x="4965840" y="260280"/>
            <a:ext cx="3062160" cy="2772000"/>
          </a:xfrm>
          <a:prstGeom prst="rect">
            <a:avLst/>
          </a:prstGeom>
          <a:ln w="0">
            <a:noFill/>
          </a:ln>
        </p:spPr>
      </p:pic>
      <p:sp>
        <p:nvSpPr>
          <p:cNvPr id="363" name="文本框 4"/>
          <p:cNvSpPr/>
          <p:nvPr/>
        </p:nvSpPr>
        <p:spPr>
          <a:xfrm>
            <a:off x="176040" y="598320"/>
            <a:ext cx="4695840" cy="77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uard against any movement within the aircraft when it is on jacks, since shifting the weight behind the jack could cause the aircraft to tilt enough to fall off the jack.</a:t>
            </a:r>
            <a:endParaRPr b="0" lang="en-US" sz="1500" spc="-1" strike="noStrike">
              <a:solidFill>
                <a:srgbClr val="000000"/>
              </a:solidFill>
              <a:latin typeface="Calibri"/>
            </a:endParaRPr>
          </a:p>
        </p:txBody>
      </p:sp>
      <p:pic>
        <p:nvPicPr>
          <p:cNvPr id="364" name="图片 8" descr=""/>
          <p:cNvPicPr/>
          <p:nvPr/>
        </p:nvPicPr>
        <p:blipFill>
          <a:blip r:embed="rId2"/>
          <a:stretch/>
        </p:blipFill>
        <p:spPr>
          <a:xfrm>
            <a:off x="314280" y="1370160"/>
            <a:ext cx="3540240" cy="4889520"/>
          </a:xfrm>
          <a:prstGeom prst="rect">
            <a:avLst/>
          </a:prstGeom>
          <a:ln w="0">
            <a:noFill/>
          </a:ln>
        </p:spPr>
      </p:pic>
      <p:sp>
        <p:nvSpPr>
          <p:cNvPr id="365" name="文本框 10"/>
          <p:cNvSpPr/>
          <p:nvPr/>
        </p:nvSpPr>
        <p:spPr>
          <a:xfrm>
            <a:off x="4048200" y="2781360"/>
            <a:ext cx="4897440" cy="351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uard against any movement within the aircraft when it is on jacks, since shifting the weight behind the jack could cause the aircraft to tilt enough to fall off the jack.</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efore lowering the aircraft, be sure to remove workstands, ladders and other equipment. Items placed under the aircraft while it was on jacks could cause damage when the aircraft is lowered. Furthermore, be sure that the landing gear is down and locked before the aircraft is lowered evenly.</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axiing Aircraf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irplanes and helicopters are designed to fly, and movement on the ground is often a rather awkward procedure. Because of this, only qualified persons authorized to taxi aircraft may actually taxi an aircraft. Chapter 09 TOWING AND TAXIING in Maintenance Manual provides the necessary information for taxiing the airplane.</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2"/>
          <p:cNvSpPr/>
          <p:nvPr/>
        </p:nvSpPr>
        <p:spPr>
          <a:xfrm>
            <a:off x="250920" y="598320"/>
            <a:ext cx="849780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ure 1-6 Standard hand signals allow ground personnel to direct the movement of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fore starting an engine, be sure that the areas in front and behind the aircraft are clear of people and equipment. A maintenance technician should be checked out by a properly qualified instructor before taxiing a new or different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rom the cockpit, it is difficult to assure that there is sufficient clearance between the aircraft structure and any buildings or other aircraft. Therefore, it is a good policy to station signalmen where they can watch the wings or rotor and any obstructions. When this is done, it is important that all personnel use the same signals and understand exactly what the signals mean to avoid misunderstanding at a crucial time(Figure 1-6). The signalman has the responsibility of remaining in a position that is visible from the cockpit. To ensure that you can be seen at all times, make sure that you can see the pilot’s eyes while directing him.</a:t>
            </a:r>
            <a:endParaRPr b="0" lang="en-US" sz="1600" spc="-1" strike="noStrike">
              <a:solidFill>
                <a:srgbClr val="000000"/>
              </a:solidFill>
              <a:latin typeface="Calibri"/>
            </a:endParaRPr>
          </a:p>
        </p:txBody>
      </p:sp>
      <p:pic>
        <p:nvPicPr>
          <p:cNvPr id="368" name="图片 6" descr=""/>
          <p:cNvPicPr/>
          <p:nvPr/>
        </p:nvPicPr>
        <p:blipFill>
          <a:blip r:embed="rId1"/>
          <a:stretch/>
        </p:blipFill>
        <p:spPr>
          <a:xfrm>
            <a:off x="4140360" y="3459240"/>
            <a:ext cx="4632120" cy="1914480"/>
          </a:xfrm>
          <a:prstGeom prst="rect">
            <a:avLst/>
          </a:prstGeom>
          <a:ln w="0">
            <a:noFill/>
          </a:ln>
        </p:spPr>
      </p:pic>
      <p:sp>
        <p:nvSpPr>
          <p:cNvPr id="369" name="文本框 8"/>
          <p:cNvSpPr/>
          <p:nvPr/>
        </p:nvSpPr>
        <p:spPr>
          <a:xfrm>
            <a:off x="353880" y="3424320"/>
            <a:ext cx="36720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hen taxiing an aircraft at a tower-controlled airport, you typically must receive a clearance from ground control before you begin taxiing. Located in the cab of the control power is a powerful light that controllers can use to direct light beams of various colors toward your aircraft. Each color or color combination has a specific meaning for an aircraft on the airport surface (Table 1-1).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3"/>
          <p:cNvSpPr/>
          <p:nvPr/>
        </p:nvSpPr>
        <p:spPr>
          <a:xfrm>
            <a:off x="128520" y="765000"/>
            <a:ext cx="357984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nce the aircraft is in motion, immediately tap the brakes to insure they are working properly. After testing the brakes, test the nose gear steering system to make sure it is operat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wing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t is often necessary to move an aircraft without using its engines. This can be accomplished by towing the aircraft. Again, Chapter 09 TOWING AND TAXIING in Maintenance Manual provides the necessary information for towing the airplane.</a:t>
            </a:r>
            <a:endParaRPr b="0" lang="en-US" sz="1600" spc="-1" strike="noStrike">
              <a:solidFill>
                <a:srgbClr val="000000"/>
              </a:solidFill>
              <a:latin typeface="Calibri"/>
            </a:endParaRPr>
          </a:p>
        </p:txBody>
      </p:sp>
      <p:pic>
        <p:nvPicPr>
          <p:cNvPr id="372" name="图片 5" descr=""/>
          <p:cNvPicPr/>
          <p:nvPr/>
        </p:nvPicPr>
        <p:blipFill>
          <a:blip r:embed="rId1"/>
          <a:stretch/>
        </p:blipFill>
        <p:spPr>
          <a:xfrm>
            <a:off x="3824280" y="731880"/>
            <a:ext cx="5308560" cy="2625840"/>
          </a:xfrm>
          <a:prstGeom prst="rect">
            <a:avLst/>
          </a:prstGeom>
          <a:ln w="0">
            <a:noFill/>
          </a:ln>
        </p:spPr>
      </p:pic>
      <p:sp>
        <p:nvSpPr>
          <p:cNvPr id="373" name="文本框 7"/>
          <p:cNvSpPr/>
          <p:nvPr/>
        </p:nvSpPr>
        <p:spPr>
          <a:xfrm>
            <a:off x="128520" y="4030560"/>
            <a:ext cx="36957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arge aircraft are towed with a tractor (special towing vehicle), connected by a special tow bar (Figure 1-7), or towed by a towbar-less aircraft towing tractor/vehicle (Figure 1</a:t>
            </a:r>
            <a:r>
              <a:rPr b="0" lang="en-US" sz="1600" spc="-1" strike="noStrike">
                <a:solidFill>
                  <a:srgbClr val="000000"/>
                </a:solidFill>
                <a:latin typeface="Times New Roman"/>
                <a:ea typeface="微软雅黑"/>
              </a:rPr>
              <a:t>-</a:t>
            </a:r>
            <a:r>
              <a:rPr b="0" lang="en-US" sz="1600" spc="-1" strike="noStrike">
                <a:solidFill>
                  <a:srgbClr val="000000"/>
                </a:solidFill>
                <a:latin typeface="Times New Roman"/>
                <a:ea typeface="宋体"/>
              </a:rPr>
              <a:t>8). Extreme care must be used to avoid towing an aircraft too fast and to be sure that here is always sufficient clearance between the wings and any obstructions.</a:t>
            </a:r>
            <a:endParaRPr b="0" lang="en-US" sz="1600" spc="-1" strike="noStrike">
              <a:solidFill>
                <a:srgbClr val="000000"/>
              </a:solidFill>
              <a:latin typeface="Calibri"/>
            </a:endParaRPr>
          </a:p>
        </p:txBody>
      </p:sp>
      <p:sp>
        <p:nvSpPr>
          <p:cNvPr id="374" name="文本框 11"/>
          <p:cNvSpPr/>
          <p:nvPr/>
        </p:nvSpPr>
        <p:spPr>
          <a:xfrm>
            <a:off x="4065480" y="4030560"/>
            <a:ext cx="482436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hen an aircraft is being towed, a qualified person should be in the cockpit to operate the aircraft brakes when needed since the brakes on a towing vehicle are usually insufficient to overcome a large aircraft's momentum. Extra personnel should be assigned to watch the wing tips and tail for clearance between other objec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6" name="文本框 2"/>
          <p:cNvSpPr/>
          <p:nvPr/>
        </p:nvSpPr>
        <p:spPr>
          <a:xfrm>
            <a:off x="250920" y="598320"/>
            <a:ext cx="439236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nose gear on most aircraft has a very definite limit to the amount it can be tamed and, when towing, it is easy to exceed this limit. If the turning radius is exceeded, the nose gear strut and steering mechanism will be damaged. Damage can be quite extensive, requiring replacement of the nose gear shock strut. Some aircraft have a method of disconnecting a locking device so the nose wheel can be swiveled to facilitate maneuvering. If this is the case, the locking device must always be disconnected when an aircraft is towed. Furthermore, remember to reset the lock after removing the tow-bar from the aircraft. Persons riding in the aircraft should not attempt to steer the nose wheel when a tow bar is attached to the aircra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eign Object Damage (FOD)</a:t>
            </a:r>
            <a:endParaRPr b="0" lang="en-US" sz="1600" spc="-1" strike="noStrike">
              <a:solidFill>
                <a:srgbClr val="000000"/>
              </a:solidFill>
              <a:latin typeface="Calibri"/>
            </a:endParaRPr>
          </a:p>
        </p:txBody>
      </p:sp>
      <p:pic>
        <p:nvPicPr>
          <p:cNvPr id="377" name="图片 6" descr=""/>
          <p:cNvPicPr/>
          <p:nvPr/>
        </p:nvPicPr>
        <p:blipFill>
          <a:blip r:embed="rId1"/>
          <a:stretch/>
        </p:blipFill>
        <p:spPr>
          <a:xfrm>
            <a:off x="4768920" y="409680"/>
            <a:ext cx="4110120" cy="4098960"/>
          </a:xfrm>
          <a:prstGeom prst="rect">
            <a:avLst/>
          </a:prstGeom>
          <a:ln w="0">
            <a:noFill/>
          </a:ln>
        </p:spPr>
      </p:pic>
      <p:sp>
        <p:nvSpPr>
          <p:cNvPr id="378" name="文本框 10"/>
          <p:cNvSpPr/>
          <p:nvPr/>
        </p:nvSpPr>
        <p:spPr>
          <a:xfrm>
            <a:off x="250920" y="4876920"/>
            <a:ext cx="8665920" cy="1554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f foreign objects such as nuts, bolts, and safety wire are drawn into the inlet of a turbine engine, or through the arc of a rotating propeller blade, they can easily cause damage that can lead to catastrophic failure. Furthermore, if these objects are caught in an engine’s high-velocity exhaust and strike another person, these objects can cause serious injury. Therefore, it is extremely important that an airport flight line be kept clean. Furthermore, you, as an aircraft maintenance technician, should develop the habit of picking up all loose hardware and rags you find on the ramp and deposit them in a suitable contain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0" name="文本框 3"/>
          <p:cNvSpPr/>
          <p:nvPr/>
        </p:nvSpPr>
        <p:spPr>
          <a:xfrm>
            <a:off x="250920" y="598320"/>
            <a:ext cx="853416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Your personal safety is much more important than damage to equipment. Therefore, be aware that propellers and jet intakes make aircraft operation areas extremely dangerous places. Sound maintenance practice requires that aircraft operating their engines must illuminate their navigation lights and rotating beacons. Furthermore, a second person should be stationed on the ground to warn anyone in the area. If it is necessary to approach an aircraft whose engine is running, be sure that you have the attention of the person in the cockpit so they know where you are at all times. The danger of a propeller is so obvious that it hardly needs mention, but sadly enough, many people have been killed by walking into a spinning propeller. Always be cautious of rotating propell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urbojet aircraft are dangerous from both the front and the rear. When an engine is running, it moves a large volume of air and produces a low-pressure area in front of the intake (Figure 1-9). This low-pressure area can draw a person into the engine, and can certainly ingest such items as hats, clipboards, and loose items of clothing. Behind the aircraft in the exhaust area, the high-velocity exhaust can cause severe damage to both people and equipment.</a:t>
            </a:r>
            <a:endParaRPr b="0" lang="en-US" sz="1600" spc="-1" strike="noStrike">
              <a:solidFill>
                <a:srgbClr val="000000"/>
              </a:solidFill>
              <a:latin typeface="Calibri"/>
            </a:endParaRPr>
          </a:p>
        </p:txBody>
      </p:sp>
      <p:sp>
        <p:nvSpPr>
          <p:cNvPr id="381" name="文本框 5"/>
          <p:cNvSpPr/>
          <p:nvPr/>
        </p:nvSpPr>
        <p:spPr>
          <a:xfrm>
            <a:off x="358920" y="3890880"/>
            <a:ext cx="842616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afety around Compressed Ga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pressed gases are found in all aircraft maintenance shops. For example, compressed air powers pneumatic drill motors, rivet guns, paint spray guns, and cleaning guns. In addition, compressed nitrogen is used to inflate tires and shock struts while compressed acetylene is used in weld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st shop compressed air is held in storage tanks and routed throughout the shop in high pressure lines. This high pressure presents a serious threat of injury. For example, if a concentrated stream of compressed air is blown across a cut in the skin, it is possible for the air to enter the bloodstream and cause severe injury or death. Be very careful when using compressed air not to blow dirt or chips into the face of anyone standing nearb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3" name="文本框 2"/>
          <p:cNvSpPr/>
          <p:nvPr/>
        </p:nvSpPr>
        <p:spPr>
          <a:xfrm>
            <a:off x="431640" y="598320"/>
            <a:ext cx="828072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 prevent eye injury, you should wear eye protection when using pneumatic tools. To prevent injury from a ruptured hose, always keep air hoses and fittings in good condi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ar too many accidents occur when inflating or deflating tires. Always use calibrated tire gauges, and make certain to use a regulator that is in good working condi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igh-pressure compressed gases are especially dangerous if they are mishandled. Oxygen and nitrogen are often found in aviation maintenance shops stored in steel cylinders under a pressure of around 2,000 psi. These cylinders have brass valves screwed into them. If a cylinder should be knocked over and the valve broken off, the escaping high-pressure gas would propel the tank like a rocket. Because this would create a substantial hazard, you should make sure that all gas cylinders axe properly supported. A common method of securing high pressure cylinders in storage is by chaining them to a building. Furthermore, a cap should be securely installed on any tank that is not connected into a system. This protects the valve from dama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t is extremely important that oxygen cylinders be treated with special care. In addition to having all of the dangers inherent with other high-pressure gases, oxygen always possesses the risk of explosion. For example, you must never allow oxygen to come in contact with petroleum products such as oil or grease, since oxygen causes these materials to ignite spontaneously and bum. Furthermore, never use an oily rag, or tools that are oily or greasy, to install a fitting or a regulator on an oxygen cylinde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6:22:27Z</dcterms:modified>
  <cp:revision>3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