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7DBACD-E6F3-4AE6-B6E6-B847CBE7D5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ADF1A1-1A1A-4E85-89F7-5FB8CA397D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B38E3-5153-40AF-A364-5C26961AB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51C1EE-1150-4BDB-9D33-189A6FB65A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1FC74-43A1-4CA2-8069-6CA132A870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2FEEE4-469A-44FD-93C4-B7EB21D7C3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5F10F-5FB0-459D-AA79-48C6E4A469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C04E20-5B4A-44FC-BAC7-88480559D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A67E06-3C97-4CB6-B0FC-B5CE27A89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0F5F89-4893-419F-AB60-669196ABC8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4CA30-0326-445B-8C05-06989E00A4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D1F40-A908-49B7-B0A4-DF8DA0971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062637-3C92-4F25-B220-A840518F97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F32E61-C8DA-4788-B3F8-C3AA75C32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FA093E-5327-431A-B9D4-0485C2743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F460D0-FDB4-409B-8B46-0D030AABA9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6B498-9A6D-4E11-BBC1-4DA06B1295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C083B9-1A2C-4AAD-A02E-E041378733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9E3ED0A-CC81-4450-BB95-93D27EADE1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F7B3B1-28E7-4882-B362-6ECF3F7E43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C4914C4-99FA-4AD4-9774-2AF877CE049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BAC286-D18C-4413-BEA0-04CA37E06D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2DBA72-2ACF-4CD9-ACEB-56183C149A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398FB3-E8E4-4641-8116-8B11F676D49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640C7F-1EA7-4D18-B87A-321868A9668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FE58B2-2E32-404C-9024-67DC264670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515B5-6CB1-4FBA-970E-E797726B74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C02713-4139-4503-B607-6F6A84E2EB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D2CEC7F-0EB5-4B1B-A3A9-5991F53FDD1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FF1CDF-07A9-4457-BDE1-8DAA84C27D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9BD6C74-8659-4056-A59C-FE8876C86DB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007535-463A-4EB2-88AA-D3D3B302E4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92FC96-BF13-4D72-8BAD-6EF7173F58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DAB9AF-3936-486C-97CE-CBAE34DEF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BADA92-6D2F-4BF3-85A2-289A4A0CDD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873588-CE58-4AD7-8EF2-6CC3442DC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72BBF28-80F8-494B-8B33-EC9A50723D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1B8B22-5423-4F04-A58C-1EA991E1F9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2B42D1-35E4-4FF2-BA52-A67810E70B6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44D50D4-5052-4984-AB7E-58F176A5717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D8172AF-15B6-4352-9362-8921956B16F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BE9ADA4-6CD0-4391-ABAA-1248F79E44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A29CE2-7BEB-4728-9666-7494654D65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C6ACCF-5DDA-4C30-91E9-2D95030BC94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9C956A-012E-40A0-BEC8-3F6670580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822DA1-C356-4907-97BE-4D334050D9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947426-6C41-40C6-85F7-5282892399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DCBE46-3BCF-4B79-8963-A859FED5CB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66C999-4B26-4512-BE20-721E3CE53ED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31E6C2-8702-4124-870D-8CA9A61591E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0C2C9D-7900-4967-9740-3C41B231D5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580A197-B321-46A2-984B-C09654D2B6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57F9B7-2898-4560-A576-AF0E516B0A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BF61763-7B7D-450D-8BC9-4D58D1A0C02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98F05BE-1754-4FBB-87B4-4922C944CA2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DB264-CBEC-4B4E-A201-308775ADC2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A19E45C-3030-4E7D-8232-B89FB7882C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B823F1D-C530-41F3-8FE6-B81F95B7C8E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5DB277-F5F4-4234-81E3-4EC15F6CA19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FBDA6C-FEC1-4C9A-AD8F-F58807F6253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E470FCD-D229-4609-9609-496C258CAF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954EA07-FD15-408A-A70B-8EF4D21DFE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2C01BF-6772-4710-957A-554BAF050E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84390-A800-4720-8EDA-6459EF7D6C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7FB08D-2643-4FF0-B7CB-D853BC4FC4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707B00-50A4-4F6A-852C-E3818EBE34D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45929-C7FC-4693-9064-45FC963FB4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4D0FB98-FDDC-4DC9-BD92-CA7658166B3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35C254E-EA34-4E76-8774-72506E00B17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7454E8D-93FE-4A0C-9AA9-A22CE9FE45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D4469FD-A594-433A-80FC-B835DA600A2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BE3C129-F0F8-4F82-8628-96F680E1CFB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DC3373-8A83-41BA-AEEC-3C8C067454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66CD692-EAB1-46B8-B050-6E8FBC2C3F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03F72A-4B58-4C6B-9EC5-21EE7980A40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F2DA775-E523-46C5-B8A9-495C9B8047C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D25CFB-BD15-4418-9A8E-A366A887FE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A233F9-6B5A-44C7-9DE6-C80939FB3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6F40E3-0A72-45F5-BC98-0A94D369FC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CEDBD1-D4E8-4354-AAE1-3C578678A5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95B90C-D477-4E60-9C29-4138C25EFA5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F73F03-8556-4F58-A2AF-5BA910962D4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03590B-80B6-48EA-84BE-888A690073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52C5DD8-0673-4DB5-8073-9EFA35A909C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9C67E5C-1355-4AC3-83F7-A1591406418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A46232C-2845-41B3-9AD6-8A92A2F8C8A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6ADB0F8-1131-4807-9801-10CC2B1F378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BDEFF6-A296-4541-B351-275AD0EA23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D27C8-A772-4E6B-94FE-83CA7803BE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2205BB6-67E0-4B68-81B4-CBEAFDBC378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FD1D8E-6F74-405E-AA70-09665CAFD37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478F98-AB2C-4F5B-83C3-4B57354986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145F6A-9648-4D0A-9D8C-4345AF22CA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25EEEC-1341-4382-865A-E05AD6D5EA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A9632BF-94E7-4C27-B0FF-FAB8897DB77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0A58C77-02FA-469F-B630-C263E418E7D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995431-A8F4-49DC-A357-7EFEEAFDFF65}"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B175DBA-22EB-4C43-8A38-DA1BF9739D9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04FB733-3B7F-4E29-BB2F-234CEAE9C7B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E90DEE-33CC-49E0-A0B3-6D59931152B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EF4DF2-EAD3-4506-BE7A-9C93BF915D7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027082-23BB-42B9-8810-A623C4557058}"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959092-7EC5-4B47-BE6B-9B1B9C39E73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193D50-B603-466C-9844-CC38B36AB98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4 HEAT TREATMENT OF METAL</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金属热处理</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5048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8" name="文本框 6"/>
          <p:cNvSpPr/>
          <p:nvPr/>
        </p:nvSpPr>
        <p:spPr>
          <a:xfrm>
            <a:off x="250920" y="612720"/>
            <a:ext cx="8569080" cy="4202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Complex Sentence Analysi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1) It is known that the eutectoid steel (T8) under equilibrium conditions contains, all austenite above 727℃, whereas below, it is pearlite</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①</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that</a:t>
            </a:r>
            <a:r>
              <a:rPr b="0" lang="zh-CN" sz="1500" spc="-1" strike="noStrike">
                <a:solidFill>
                  <a:srgbClr val="000000"/>
                </a:solidFill>
                <a:latin typeface="Times New Roman"/>
                <a:ea typeface="宋体"/>
              </a:rPr>
              <a:t>：引导主语从句。</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②</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eutectoid steel</a:t>
            </a:r>
            <a:r>
              <a:rPr b="0" lang="zh-CN" sz="1500" spc="-1" strike="noStrike">
                <a:solidFill>
                  <a:srgbClr val="000000"/>
                </a:solidFill>
                <a:latin typeface="Times New Roman"/>
                <a:ea typeface="宋体"/>
              </a:rPr>
              <a:t>：共析钢。</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③</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below</a:t>
            </a:r>
            <a:r>
              <a:rPr b="0" lang="zh-CN" sz="1500" spc="-1" strike="noStrike">
                <a:solidFill>
                  <a:srgbClr val="000000"/>
                </a:solidFill>
                <a:latin typeface="Times New Roman"/>
                <a:ea typeface="宋体"/>
              </a:rPr>
              <a:t>指低于</a:t>
            </a:r>
            <a:r>
              <a:rPr b="0" lang="en-US" sz="1500" spc="-1" strike="noStrike">
                <a:solidFill>
                  <a:srgbClr val="000000"/>
                </a:solidFill>
                <a:latin typeface="Times New Roman"/>
                <a:ea typeface="宋体"/>
              </a:rPr>
              <a:t>727℃</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共析钢</a:t>
            </a:r>
            <a:r>
              <a:rPr b="0" lang="en-US" sz="1500" spc="-1" strike="noStrike">
                <a:solidFill>
                  <a:srgbClr val="000000"/>
                </a:solidFill>
                <a:latin typeface="Times New Roman"/>
                <a:ea typeface="宋体"/>
              </a:rPr>
              <a:t>(T8)</a:t>
            </a:r>
            <a:r>
              <a:rPr b="0" lang="zh-CN" sz="1500" spc="-1" strike="noStrike">
                <a:solidFill>
                  <a:srgbClr val="000000"/>
                </a:solidFill>
                <a:latin typeface="Times New Roman"/>
                <a:ea typeface="宋体"/>
              </a:rPr>
              <a:t>在平衡条件下，在</a:t>
            </a:r>
            <a:r>
              <a:rPr b="0" lang="en-US" sz="1500" spc="-1" strike="noStrike">
                <a:solidFill>
                  <a:srgbClr val="000000"/>
                </a:solidFill>
                <a:latin typeface="Times New Roman"/>
                <a:ea typeface="宋体"/>
              </a:rPr>
              <a:t>727℃</a:t>
            </a:r>
            <a:r>
              <a:rPr b="0" lang="zh-CN" sz="1500" spc="-1" strike="noStrike">
                <a:solidFill>
                  <a:srgbClr val="000000"/>
                </a:solidFill>
                <a:latin typeface="Times New Roman"/>
                <a:ea typeface="宋体"/>
              </a:rPr>
              <a:t>以上时全为奥氏体，低于此温度则为珠光体。</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2) These points are then plotted on a graph with time and temperature as the axes</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with time and temperature as the axes</a:t>
            </a:r>
            <a:r>
              <a:rPr b="0" lang="zh-CN" sz="1500" spc="-1" strike="noStrike">
                <a:solidFill>
                  <a:srgbClr val="000000"/>
                </a:solidFill>
                <a:latin typeface="Times New Roman"/>
                <a:ea typeface="宋体"/>
              </a:rPr>
              <a:t>：以时间和温度为坐标轴。</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然后将这些点以时间和温度为轴绘制在图表上。</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3) Plain low carbon steels, when fully annealed, are soft and relatively weak, offering little resistance to cutting, but usually having sufficient ductility and toughness that a cut chip tends to pull and tear the surface from which it is removed, leaving a comparatively poor quality surface, which results in a poor machinability rating.</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该句的基本句型为</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主语</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连系动词</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表语</a:t>
            </a: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即</a:t>
            </a:r>
            <a:r>
              <a:rPr b="0" lang="en-US" sz="1500" spc="-1" strike="noStrike">
                <a:solidFill>
                  <a:srgbClr val="000000"/>
                </a:solidFill>
                <a:latin typeface="Times New Roman"/>
                <a:ea typeface="宋体"/>
              </a:rPr>
              <a:t>Plain low carbon steels are soft and relatively weak.</a:t>
            </a:r>
            <a:r>
              <a:rPr b="0" lang="zh-CN" sz="1500" spc="-1" strike="noStrike">
                <a:solidFill>
                  <a:srgbClr val="000000"/>
                </a:solidFill>
                <a:latin typeface="Times New Roman"/>
                <a:ea typeface="宋体"/>
              </a:rPr>
              <a:t>短语</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when fully annealed** </a:t>
            </a:r>
            <a:r>
              <a:rPr b="0" lang="zh-CN" sz="1500" spc="-1" strike="noStrike">
                <a:solidFill>
                  <a:srgbClr val="000000"/>
                </a:solidFill>
                <a:latin typeface="Times New Roman"/>
                <a:ea typeface="宋体"/>
              </a:rPr>
              <a:t>在句中作状语，相当于在</a:t>
            </a: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when”</a:t>
            </a:r>
            <a:r>
              <a:rPr b="0" lang="zh-CN" sz="1500" spc="-1" strike="noStrike">
                <a:solidFill>
                  <a:srgbClr val="000000"/>
                </a:solidFill>
                <a:latin typeface="Times New Roman"/>
                <a:ea typeface="宋体"/>
              </a:rPr>
              <a:t>后省略了</a:t>
            </a: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they are”</a:t>
            </a:r>
            <a:r>
              <a:rPr b="0" lang="zh-CN" sz="1500" spc="-1" strike="noStrike">
                <a:solidFill>
                  <a:srgbClr val="000000"/>
                </a:solidFill>
                <a:latin typeface="Times New Roman"/>
                <a:ea typeface="宋体"/>
              </a:rPr>
              <a:t>的状语从句。</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当完全退火时，普通低碳钢硬度较低，强度较小，对切削的阻力较小</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但通常由于塑性和韧性太大以致切屑离开工件表面时会划伤表面，工件表面质量较差，导致较差的切削加工性。</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0" name="文本框 6"/>
          <p:cNvSpPr/>
          <p:nvPr/>
        </p:nvSpPr>
        <p:spPr>
          <a:xfrm>
            <a:off x="250920" y="612720"/>
            <a:ext cx="8569080" cy="1463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Complex Sentence Analysi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4) The machinability of many of the higher plain carbon and most of the alloy steels can usually be greatly improved by annealing, as they are often too hard and strong to be easily cut at any but their softest 8ndition.</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注意：在</a:t>
            </a: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as…” </a:t>
            </a:r>
            <a:r>
              <a:rPr b="0" lang="zh-CN" sz="1500" spc="-1" strike="noStrike">
                <a:solidFill>
                  <a:srgbClr val="000000"/>
                </a:solidFill>
                <a:latin typeface="Times New Roman"/>
                <a:ea typeface="宋体"/>
              </a:rPr>
              <a:t>从句中有一个</a:t>
            </a:r>
            <a:r>
              <a:rPr b="0" lang="en-US" sz="1500" spc="-1" strike="noStrike">
                <a:solidFill>
                  <a:srgbClr val="000000"/>
                </a:solidFill>
                <a:latin typeface="Times New Roman"/>
                <a:ea typeface="宋体"/>
              </a:rPr>
              <a:t>"too…to…”</a:t>
            </a:r>
            <a:r>
              <a:rPr b="0" lang="zh-CN" sz="1500" spc="-1" strike="noStrike">
                <a:solidFill>
                  <a:srgbClr val="000000"/>
                </a:solidFill>
                <a:latin typeface="Times New Roman"/>
                <a:ea typeface="宋体"/>
              </a:rPr>
              <a:t>结构，翻译为</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太</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而不能</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另外该句中的</a:t>
            </a:r>
            <a:r>
              <a:rPr b="0" lang="en-US" sz="1500" spc="-1" strike="noStrike">
                <a:solidFill>
                  <a:srgbClr val="000000"/>
                </a:solidFill>
                <a:latin typeface="Times New Roman"/>
                <a:ea typeface="宋体"/>
              </a:rPr>
              <a:t>“</a:t>
            </a:r>
            <a:r>
              <a:rPr b="0" lang="en-US" sz="1500" spc="-1" strike="noStrike">
                <a:solidFill>
                  <a:srgbClr val="000000"/>
                </a:solidFill>
                <a:latin typeface="Times New Roman"/>
                <a:ea typeface="宋体"/>
              </a:rPr>
              <a:t>but”</a:t>
            </a:r>
            <a:r>
              <a:rPr b="0" lang="zh-CN" sz="1500" spc="-1" strike="noStrike">
                <a:solidFill>
                  <a:srgbClr val="000000"/>
                </a:solidFill>
                <a:latin typeface="Times New Roman"/>
                <a:ea typeface="宋体"/>
              </a:rPr>
              <a:t>译为</a:t>
            </a:r>
            <a:r>
              <a:rPr b="0" lang="en-US" sz="1500" spc="-1" strike="noStrike">
                <a:solidFill>
                  <a:srgbClr val="000000"/>
                </a:solidFill>
                <a:latin typeface="Times New Roman"/>
                <a:ea typeface="宋体"/>
              </a:rPr>
              <a:t> “</a:t>
            </a:r>
            <a:r>
              <a:rPr b="0" lang="zh-CN" sz="1500" spc="-1" strike="noStrike">
                <a:solidFill>
                  <a:srgbClr val="000000"/>
                </a:solidFill>
                <a:latin typeface="Times New Roman"/>
                <a:ea typeface="宋体"/>
              </a:rPr>
              <a:t>除了</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译：许多高碳钢和大多数合金钢的切削加工性通常可通过退火大大改善</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因为除了在最软条件下之外</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它们的硬度和强度太高而不易加工。</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179280" y="428760"/>
            <a:ext cx="8425080" cy="59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 </a:t>
            </a:r>
            <a:r>
              <a:rPr b="1" lang="en-US" sz="1600" spc="-1" strike="noStrike">
                <a:solidFill>
                  <a:srgbClr val="0563c1"/>
                </a:solidFill>
                <a:latin typeface="Times New Roman"/>
                <a:ea typeface="宋体"/>
              </a:rPr>
              <a:t>heat treatment cycle curv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generally accepted definition for heat treating metals and metal alloys is “heating and cooling a solid metal or alloy in a way so as to obtain specific conditions and/or properties.” Heating for the sole purpose of hot working (as in forging operations) is excluded from this definition. Likewise, the types of heat treatment that are sometimes used for products such as glass or plastics are also excluded from coverage by this defini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Transformation Curv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basis for heat treatment is the time-temperature-transformation curves or TTT curves where, in a single diagram all the three parameters are plotted. Because of the shape of the curves, they are also sometimes called C-curves or S-curv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o plot TTT curves, the particular steel is held at a given temperature and the structure is examined at predetermined intervals to record the amount of transformation taken place. It is known that the eutectoid steel (T8) under equilibrium conditions contains, all austenite above 727℃, whereas below, It is pearlite.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lassification of Heat Treating Process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some instances, the heat treatment procedures are clear in terms of technology and application. In other cases, however, description or simple explanation is not enough, as the same technique may often be used for different purposes. For example, T8 steel is carbon tool steel, which is a hardened plastic mold steel. Its chemical composition includes carbon C, phosphorus P, chromium Cr, nickel Ni, copper Cu and so on. T8 steel has high hardness and wear resistance after quenching and tempering, but low thermal hardness, poor hardenability, easy deformation, plasticity and strength. In order to improve the strength and toughness of T8 steel, a secondary heat treatment is usually required. By changing the temperature and duration of heat treatment to obtain the bainite we want, the heat treatment curve is shown in Figure 1-1.</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2"/>
          <p:cNvSpPr/>
          <p:nvPr/>
        </p:nvSpPr>
        <p:spPr>
          <a:xfrm>
            <a:off x="108000" y="765000"/>
            <a:ext cx="511164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Of course, stress relief and tempering can often also be done using the same equipment and using the same time and temperature cycles. However, the goals of the two processes are different.</a:t>
            </a:r>
            <a:endParaRPr b="0" lang="en-US" sz="1600" spc="-1" strike="noStrike">
              <a:solidFill>
                <a:srgbClr val="000000"/>
              </a:solidFill>
              <a:latin typeface="Calibri"/>
            </a:endParaRPr>
          </a:p>
        </p:txBody>
      </p:sp>
      <p:pic>
        <p:nvPicPr>
          <p:cNvPr id="357" name="Picture 7" descr="15-1"/>
          <p:cNvPicPr/>
          <p:nvPr/>
        </p:nvPicPr>
        <p:blipFill>
          <a:blip r:embed="rId1"/>
          <a:stretch/>
        </p:blipFill>
        <p:spPr>
          <a:xfrm>
            <a:off x="5580000" y="430200"/>
            <a:ext cx="3456000" cy="3105000"/>
          </a:xfrm>
          <a:prstGeom prst="rect">
            <a:avLst/>
          </a:prstGeom>
          <a:ln w="0">
            <a:noFill/>
          </a:ln>
        </p:spPr>
      </p:pic>
      <p:sp>
        <p:nvSpPr>
          <p:cNvPr id="358" name="文本框 6"/>
          <p:cNvSpPr/>
          <p:nvPr/>
        </p:nvSpPr>
        <p:spPr>
          <a:xfrm>
            <a:off x="6167520" y="3459240"/>
            <a:ext cx="28684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1 Isothermal Decomposition Diagram of T8 Steel</a:t>
            </a:r>
            <a:endParaRPr b="0" lang="en-US" sz="1400" spc="-1" strike="noStrike">
              <a:solidFill>
                <a:srgbClr val="000000"/>
              </a:solidFill>
              <a:latin typeface="Calibri"/>
            </a:endParaRPr>
          </a:p>
        </p:txBody>
      </p:sp>
      <p:sp>
        <p:nvSpPr>
          <p:cNvPr id="359" name="文本框 8"/>
          <p:cNvSpPr/>
          <p:nvPr/>
        </p:nvSpPr>
        <p:spPr>
          <a:xfrm>
            <a:off x="120600" y="1841400"/>
            <a:ext cx="481968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I Heat Treatment of Metal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Heat treatment is the operation of heating and cooling a metal in its solid state to change its physical properties. According to the procedure used, steel can be hardened to resist cutting action and abrasion, or it can be softened to permit machining. With the proper heat treatment internal stresses may be removed, grain size reduced, toughness increased, or a hard surface produced on a ductile interior.</a:t>
            </a:r>
            <a:endParaRPr b="0" lang="en-US" sz="1600" spc="-1" strike="noStrike">
              <a:solidFill>
                <a:srgbClr val="000000"/>
              </a:solidFill>
              <a:latin typeface="Calibri"/>
            </a:endParaRPr>
          </a:p>
        </p:txBody>
      </p:sp>
      <p:sp>
        <p:nvSpPr>
          <p:cNvPr id="360" name="文本框 10"/>
          <p:cNvSpPr/>
          <p:nvPr/>
        </p:nvSpPr>
        <p:spPr>
          <a:xfrm>
            <a:off x="120600" y="4162320"/>
            <a:ext cx="877248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 following discussion applies principally to the heat treatment of plain-carbon steels. With this process the rate of cooling is the controlling factor, rapid cooling from above the critical range results in hard structure, whereas very slow cooling produces the opposite effec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Annealing. The primary purpose of annealing is to soften hard steel so that it may be machined or cold worked. This is usually accomplished by heating the steel to slightly above the critical temperature, holding it there until the temperature of the piece is uniform throughout, and then cooling at a slowly controlled rate so that the temperature of the surface and that of the center of the piece are approximately the same. This process is known as full annealing because it wipes out all trace of previous structure, refines the crystalline structure, and softens the metal. Annealing also relieves internal stresses previously set up in the metal.</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2" name="文本框 2"/>
          <p:cNvSpPr/>
          <p:nvPr/>
        </p:nvSpPr>
        <p:spPr>
          <a:xfrm>
            <a:off x="179280" y="692280"/>
            <a:ext cx="8569440" cy="447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Plain low carbon steels, when fully annealed, are soft and relatively weak, offering little resistance to cutting, but usually having sufficient ductility and toughness that a cut chip tends to pull and tear the surface from which it is removed, leaving a comparatively poor quality surface, which results in a poor machinability rating. For such steels annealing may not be the most suitable treatment. The machinability of many of the higher plain carbon steels and most of the alloy steels can usually be greatly improved by annealing, as they are often too hard and strong to be easily cut at any but their softest condition. The procedure for annealing hypoeutectoid steel is to heat it slowly to about 60cT above the Ac3 line, to soak for a long enough period that the temperature equalizes throughout the material and homogeneous austenite is formed, and then to allow the steel to cool very slowly by cooling it in the furnace or burying it in lime or some other insulating materials. For maximum softness and ductility the cooling rate should be very slow, such as allowing the parts to cool down with the furnace. The higher the carbon content, the slower this rate must b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Normalizing and Spheroidizing. The process of normalizing consists of heating the steel about 10t to 40t above the upper critical range and cooling in still air to room temperature. This process is principally used with low and medium-carbon steels as well as alloy steels to make the grain structure more uniform, to relieve internal stresses, or to achieve desired results in physical properties. Most commercial steels are normalized after being rolled or cas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2"/>
          <p:cNvSpPr/>
          <p:nvPr/>
        </p:nvSpPr>
        <p:spPr>
          <a:xfrm>
            <a:off x="179280" y="620640"/>
            <a:ext cx="8640720" cy="3744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Spheroidizing is the process of producing a structure in which the cementite is in a spheroidal distribution. If a steel is heated slowly to a temperature just below the critical range and held there for a prolonged period of time, this structure will be obtained. The globular structure obtained gives improved machinability to the steel. This treatment is particularly useful for hypereutectoid steels that must be machin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Hardening. Most of the heat treatment hardening processes for steel is based on the production of high percentages of martensite. The first step, therefore, is that used for most of the other heat- treating processes to produce austenite. Hypoeutectoid steels are heated to about 60</a:t>
            </a:r>
            <a:r>
              <a:rPr b="0" lang="en-US" sz="1600" spc="-1" strike="noStrike" baseline="30000">
                <a:solidFill>
                  <a:srgbClr val="000000"/>
                </a:solidFill>
                <a:latin typeface="Times New Roman"/>
                <a:ea typeface="宋体"/>
              </a:rPr>
              <a:t>o</a:t>
            </a:r>
            <a:r>
              <a:rPr b="0" lang="en-US" sz="1600" spc="-1" strike="noStrike">
                <a:solidFill>
                  <a:srgbClr val="000000"/>
                </a:solidFill>
                <a:latin typeface="Times New Roman"/>
                <a:ea typeface="宋体"/>
              </a:rPr>
              <a:t>C above the Ac3 temperature and allowed to soak to obtain temperature uniformity and austenite homogeneity. Hypereutectoid steels are soaked at about 60 T above the Ac1 temperature, which leaves some iron carbide present in the materia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 second step involves cooling rapidly in an attempt to avoid pearlite transformation. The cooling rate is determined by the temperature and the ability of the quenching media to carry heat away from the surface of the material being quenched and by the conduction of heat through the material itself</a:t>
            </a:r>
            <a:endParaRPr b="0" lang="en-US" sz="1600" spc="-1" strike="noStrike">
              <a:solidFill>
                <a:srgbClr val="000000"/>
              </a:solidFill>
              <a:latin typeface="Calibri"/>
            </a:endParaRPr>
          </a:p>
        </p:txBody>
      </p:sp>
      <p:sp>
        <p:nvSpPr>
          <p:cNvPr id="365" name="文本框 5"/>
          <p:cNvSpPr/>
          <p:nvPr/>
        </p:nvSpPr>
        <p:spPr>
          <a:xfrm>
            <a:off x="179280" y="4289400"/>
            <a:ext cx="86407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Heat-treating quenching High temperature gradients contribute to high stresses that cause distortion and cracking, so the quench should only as extreme as is necessary to produce the desired structure. Care must be exercised in quenching that heat is removed uniformly to minimize thermal stresses. For example, a long slender bar should be end-quenched, that is, inserted into the quenching medium vertically so that the entire section is subjected to temperature change at one time. If a shape of this kind of bar were to be quenched in a way that caused one side to drop in temperature before the other, change of dimensions would likely cause high stresses producing plastic flow and permanent distortion.</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7" name="文本框 2"/>
          <p:cNvSpPr/>
          <p:nvPr/>
        </p:nvSpPr>
        <p:spPr>
          <a:xfrm>
            <a:off x="358920" y="598320"/>
            <a:ext cx="842616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wo special types of quenching are conducted to minimize quenching stresses and decrease the tendency for distortion and cracking. In both, the hardened steel is quenched in a salt bath held at a selected lower temperature before being allowed to cool. These processes, known as austempering and martempering, result in products having certain desirable physical properti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empering. Steel that has been hardened by rapid quenching is brittle and not suitable for most uses.    By tempering or drawing, the hardness and brittleness may be reduced to the desired point for service conditions. As these properties are reduced there is also a decrease in tensile strength and an increase in the ductility and toughness of the steel. The operation consists of reheating quench-hardened steel to some temperature below the critical range followed by any rate of cooling. Although this process softens steel, it differs considerably from annealing in that the process lends itself to close control of the physical properties and in most cases does not soften the steel to the extent that annealing would. The final hardened steel obtained from tempering is called tempered martensite..</a:t>
            </a:r>
            <a:endParaRPr b="0" lang="en-US" sz="1600" spc="-1" strike="noStrike">
              <a:solidFill>
                <a:srgbClr val="000000"/>
              </a:solidFill>
              <a:latin typeface="Calibri"/>
            </a:endParaRPr>
          </a:p>
        </p:txBody>
      </p:sp>
      <p:sp>
        <p:nvSpPr>
          <p:cNvPr id="368" name="文本框 6"/>
          <p:cNvSpPr/>
          <p:nvPr/>
        </p:nvSpPr>
        <p:spPr>
          <a:xfrm>
            <a:off x="358920" y="4148280"/>
            <a:ext cx="842616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 magnitude of the structural changes and the change of properties caused by tempering depend upon the temperature to which the steel is reheated. The higher the temperature, the greater the effect, so the choice of temperature will generally depend on willingness to sacrifice hardness and strength to gain ductility and toughness. Reheating to a temperature below 10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has little noticeable effect on hardened plain carbon steel. For temperature between 100</a:t>
            </a:r>
            <a:r>
              <a:rPr b="0" lang="en-US" sz="1600" spc="-1" strike="noStrike" baseline="30000">
                <a:solidFill>
                  <a:srgbClr val="000000"/>
                </a:solidFill>
                <a:latin typeface="Times New Roman"/>
                <a:ea typeface="宋体"/>
              </a:rPr>
              <a:t> o</a:t>
            </a:r>
            <a:r>
              <a:rPr b="0" lang="en-US" sz="1600" spc="-1" strike="noStrike">
                <a:solidFill>
                  <a:srgbClr val="000000"/>
                </a:solidFill>
                <a:latin typeface="Times New Roman"/>
                <a:ea typeface="宋体"/>
              </a:rPr>
              <a:t>C and 200</a:t>
            </a:r>
            <a:r>
              <a:rPr b="0" lang="en-US" sz="1600" spc="-1" strike="noStrike" baseline="30000">
                <a:solidFill>
                  <a:srgbClr val="000000"/>
                </a:solidFill>
                <a:latin typeface="Times New Roman"/>
                <a:ea typeface="宋体"/>
              </a:rPr>
              <a:t> o</a:t>
            </a:r>
            <a:r>
              <a:rPr b="0" lang="en-US" sz="1600" spc="-1" strike="noStrike">
                <a:solidFill>
                  <a:srgbClr val="000000"/>
                </a:solidFill>
                <a:latin typeface="Times New Roman"/>
                <a:ea typeface="宋体"/>
              </a:rPr>
              <a:t>C, there is evidence of some structural changes. For temperature above 200</a:t>
            </a:r>
            <a:r>
              <a:rPr b="0" lang="en-US" sz="1600" spc="-1" strike="noStrike" baseline="30000">
                <a:solidFill>
                  <a:srgbClr val="000000"/>
                </a:solidFill>
                <a:latin typeface="Times New Roman"/>
                <a:ea typeface="宋体"/>
              </a:rPr>
              <a:t> o</a:t>
            </a:r>
            <a:r>
              <a:rPr b="0" lang="en-US" sz="1600" spc="-1" strike="noStrike">
                <a:solidFill>
                  <a:srgbClr val="000000"/>
                </a:solidFill>
                <a:latin typeface="Times New Roman"/>
                <a:ea typeface="宋体"/>
              </a:rPr>
              <a:t>C marked changes in structure and properties appear. Prolonged heating at just under the A 1 temperature will result in a spheroidized structure similar to that produced by the spheroidizing proces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0" name="文本框 4"/>
          <p:cNvSpPr/>
          <p:nvPr/>
        </p:nvSpPr>
        <p:spPr>
          <a:xfrm>
            <a:off x="179280" y="765000"/>
            <a:ext cx="864072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High-alloy air-hardened steels are never normalized, since to do so would cause them to harden and defeat the primary purpos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ool steels are normally spheroidized to improve machinability. This is accomplished by heating to a temperature between 1380~1400°F (749~760</a:t>
            </a:r>
            <a:r>
              <a:rPr b="0" lang="en-US" sz="1600" spc="-1" strike="noStrike" baseline="30000">
                <a:solidFill>
                  <a:srgbClr val="000000"/>
                </a:solidFill>
                <a:latin typeface="Times New Roman"/>
                <a:ea typeface="宋体"/>
              </a:rPr>
              <a:t> o</a:t>
            </a:r>
            <a:r>
              <a:rPr b="0" lang="en-US" sz="1600" spc="-1" strike="noStrike">
                <a:solidFill>
                  <a:srgbClr val="000000"/>
                </a:solidFill>
                <a:latin typeface="Times New Roman"/>
                <a:ea typeface="宋体"/>
              </a:rPr>
              <a:t>C)for carbon steels and higher for many alloy tool steels, holding at heat one to four hours, and cooling slowly in the furnac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Large dies are usually roughed out, then stress-relieved and finish-machined. This will minimize change of shape not only during machining but during subsequent heat treating as well. Welded sections will also have locked-in stresses owing to a combination of differential heating and cooling cycles as well as to changes in cross section. Such stresses will cause considerable movement in machining operation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ool steel is generally purchased in the annealed condition. Sometimes it is necessary to rework a tool that has been hardened, and the tool must then be annealed. For this type of anneal, the steel is heated slightly above its critical range and then cooled very slowl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ase Hardening. The addition of carbon to the surface of steel parts and the subsequent hardening operations are important phases in heat treating. The process may involve the use of molten sodium cyanide mixture, pack carburizing with activated solid material such as charcoal or coke, gas or oil carburizing, and dry cyani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2" name="文本框 2"/>
          <p:cNvSpPr/>
          <p:nvPr/>
        </p:nvSpPr>
        <p:spPr>
          <a:xfrm>
            <a:off x="684360" y="703440"/>
            <a:ext cx="4576680" cy="4569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I</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orge   </a:t>
            </a:r>
            <a:r>
              <a:rPr b="0" i="1" lang="en-US" sz="1400" spc="-1" strike="noStrike">
                <a:solidFill>
                  <a:srgbClr val="000000"/>
                </a:solidFill>
                <a:latin typeface="Times New Roman"/>
                <a:ea typeface="宋体"/>
              </a:rPr>
              <a:t>v</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锻造</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utectoid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共析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ustenite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奥氏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earlite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珠光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artensitic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马氏体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tress relieving   </a:t>
            </a:r>
            <a:r>
              <a:rPr b="0" lang="zh-CN" sz="1400" spc="-1" strike="noStrike">
                <a:solidFill>
                  <a:srgbClr val="000000"/>
                </a:solidFill>
                <a:latin typeface="Times New Roman"/>
                <a:ea typeface="宋体"/>
              </a:rPr>
              <a:t>消除应力，低温退火</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empering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回火</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normalizing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常化，正火</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errous alloy   </a:t>
            </a:r>
            <a:r>
              <a:rPr b="0" lang="zh-CN" sz="1400" spc="-1" strike="noStrike">
                <a:solidFill>
                  <a:srgbClr val="000000"/>
                </a:solidFill>
                <a:latin typeface="Times New Roman"/>
                <a:ea typeface="宋体"/>
              </a:rPr>
              <a:t>铁合金</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ransformation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变换，转换，相变</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till   </a:t>
            </a:r>
            <a:r>
              <a:rPr b="0" i="1" lang="en-US" sz="1400" spc="-1" strike="noStrike">
                <a:solidFill>
                  <a:srgbClr val="000000"/>
                </a:solidFill>
                <a:latin typeface="Times New Roman"/>
                <a:ea typeface="宋体"/>
              </a:rPr>
              <a:t>adj.   </a:t>
            </a:r>
            <a:r>
              <a:rPr b="0" lang="zh-CN" sz="1400" spc="-1" strike="noStrike">
                <a:solidFill>
                  <a:srgbClr val="000000"/>
                </a:solidFill>
                <a:latin typeface="Times New Roman"/>
                <a:ea typeface="宋体"/>
              </a:rPr>
              <a:t>不动的，静止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ull annealing   </a:t>
            </a:r>
            <a:r>
              <a:rPr b="0" lang="zh-CN" sz="1400" spc="-1" strike="noStrike">
                <a:solidFill>
                  <a:srgbClr val="000000"/>
                </a:solidFill>
                <a:latin typeface="Times New Roman"/>
                <a:ea typeface="宋体"/>
              </a:rPr>
              <a:t>完全退火</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notably   </a:t>
            </a:r>
            <a:r>
              <a:rPr b="0" i="1" lang="en-US" sz="1400" spc="-1" strike="noStrike">
                <a:solidFill>
                  <a:srgbClr val="000000"/>
                </a:solidFill>
                <a:latin typeface="Times New Roman"/>
                <a:ea typeface="宋体"/>
              </a:rPr>
              <a:t>adv.</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显著地，特别是</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ustenitize   </a:t>
            </a:r>
            <a:r>
              <a:rPr b="0" i="1" lang="en-US" sz="1400" spc="-1" strike="noStrike">
                <a:solidFill>
                  <a:srgbClr val="000000"/>
                </a:solidFill>
                <a:latin typeface="Times New Roman"/>
                <a:ea typeface="宋体"/>
              </a:rPr>
              <a:t>v.   </a:t>
            </a:r>
            <a:r>
              <a:rPr b="0" lang="zh-CN" sz="1400" spc="-1" strike="noStrike">
                <a:solidFill>
                  <a:srgbClr val="000000"/>
                </a:solidFill>
                <a:latin typeface="Times New Roman"/>
                <a:ea typeface="宋体"/>
              </a:rPr>
              <a:t>奥氏体化，使成奥氏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enote   </a:t>
            </a:r>
            <a:r>
              <a:rPr b="0" i="1" lang="en-US" sz="1400" spc="-1" strike="noStrike">
                <a:solidFill>
                  <a:srgbClr val="000000"/>
                </a:solidFill>
                <a:latin typeface="Times New Roman"/>
                <a:ea typeface="宋体"/>
              </a:rPr>
              <a:t>v.   </a:t>
            </a:r>
            <a:r>
              <a:rPr b="0" lang="zh-CN" sz="1400" spc="-1" strike="noStrike">
                <a:solidFill>
                  <a:srgbClr val="000000"/>
                </a:solidFill>
                <a:latin typeface="Times New Roman"/>
                <a:ea typeface="宋体"/>
              </a:rPr>
              <a:t>指示，表示，概述</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achinability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切削加工性，机械加工性能</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acilitation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便于</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process   </a:t>
            </a:r>
            <a:r>
              <a:rPr b="0" i="1" lang="en-US" sz="1400" spc="-1" strike="noStrike">
                <a:solidFill>
                  <a:srgbClr val="000000"/>
                </a:solidFill>
                <a:latin typeface="Times New Roman"/>
                <a:ea typeface="宋体"/>
              </a:rPr>
              <a:t>adj.    </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加工、处理</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过程中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qualification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资格，条件，限制，限定</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quenching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淬火</a:t>
            </a:r>
            <a:endParaRPr b="0" lang="en-US" sz="1400" spc="-1" strike="noStrike">
              <a:solidFill>
                <a:srgbClr val="000000"/>
              </a:solidFill>
              <a:latin typeface="Calibri"/>
            </a:endParaRPr>
          </a:p>
        </p:txBody>
      </p:sp>
      <p:sp>
        <p:nvSpPr>
          <p:cNvPr id="373" name="文本框 7"/>
          <p:cNvSpPr/>
          <p:nvPr/>
        </p:nvSpPr>
        <p:spPr>
          <a:xfrm>
            <a:off x="4427640" y="843120"/>
            <a:ext cx="4578120" cy="2012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rine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盐水</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austic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腐蚀性的，碱性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queous   </a:t>
            </a:r>
            <a:r>
              <a:rPr b="0" i="1" lang="en-US" sz="1400" spc="-1" strike="noStrike">
                <a:solidFill>
                  <a:srgbClr val="000000"/>
                </a:solidFill>
                <a:latin typeface="Times New Roman"/>
                <a:ea typeface="宋体"/>
              </a:rPr>
              <a:t>adj.   </a:t>
            </a:r>
            <a:r>
              <a:rPr b="0" lang="zh-CN" sz="1400" spc="-1" strike="noStrike">
                <a:solidFill>
                  <a:srgbClr val="000000"/>
                </a:solidFill>
                <a:latin typeface="Times New Roman"/>
                <a:ea typeface="宋体"/>
              </a:rPr>
              <a:t>水的，水成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warp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翘曲，变形</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glossary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词汇表，术语汇编</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quench-hardened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淬火硬化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rocess annealing   </a:t>
            </a:r>
            <a:r>
              <a:rPr b="0" lang="zh-CN" sz="1400" spc="-1" strike="noStrike">
                <a:solidFill>
                  <a:srgbClr val="000000"/>
                </a:solidFill>
                <a:latin typeface="Times New Roman"/>
                <a:ea typeface="宋体"/>
              </a:rPr>
              <a:t>工序间退火，中间退火</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og quenching  </a:t>
            </a:r>
            <a:r>
              <a:rPr b="0" lang="zh-CN" sz="1400" spc="-1" strike="noStrike">
                <a:solidFill>
                  <a:srgbClr val="000000"/>
                </a:solidFill>
                <a:latin typeface="Times New Roman"/>
                <a:ea typeface="宋体"/>
              </a:rPr>
              <a:t>喷雾淬火</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hot quenching   </a:t>
            </a:r>
            <a:r>
              <a:rPr b="0" lang="zh-CN" sz="1400" spc="-1" strike="noStrike">
                <a:solidFill>
                  <a:srgbClr val="000000"/>
                </a:solidFill>
                <a:latin typeface="Times New Roman"/>
                <a:ea typeface="宋体"/>
              </a:rPr>
              <a:t>高温淬火，热淬火</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75" name="文本框 3" descr=""/>
          <p:cNvPicPr/>
          <p:nvPr/>
        </p:nvPicPr>
        <p:blipFill>
          <a:blip r:embed="rId1"/>
          <a:stretch/>
        </p:blipFill>
        <p:spPr>
          <a:xfrm>
            <a:off x="92160" y="895320"/>
            <a:ext cx="4387680" cy="4657680"/>
          </a:xfrm>
          <a:prstGeom prst="rect">
            <a:avLst/>
          </a:prstGeom>
          <a:ln w="0">
            <a:noFill/>
          </a:ln>
        </p:spPr>
      </p:pic>
      <p:pic>
        <p:nvPicPr>
          <p:cNvPr id="376" name="文本框 6" descr=""/>
          <p:cNvPicPr/>
          <p:nvPr/>
        </p:nvPicPr>
        <p:blipFill>
          <a:blip r:embed="rId2"/>
          <a:stretch/>
        </p:blipFill>
        <p:spPr>
          <a:xfrm>
            <a:off x="4664160" y="963720"/>
            <a:ext cx="4095720" cy="4016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29T07:02:46Z</dcterms:modified>
  <cp:revision>14</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