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41128-4C08-4EFF-AD58-C62234BE9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7BD2E-CD75-4D43-82CD-8006EC4906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1FC823-9C8E-479F-A782-2A03121903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09D32-E6A2-4EB8-AC08-0FD5071E5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AA953D-C0EE-4B04-9CAA-717B26F557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1D24B-3446-4735-93CE-D131419C97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35B2D8-FFC7-4276-B2E2-1CB2CEF94B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A16F46-17C9-47D6-82E3-8682B634E9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18B983-AF26-4CCE-80BC-AC8B9C2C8C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2C8375-8607-4936-BA09-D96603432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17E66B-79B5-4DF9-87B6-C819C8C95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40939A-EA34-472F-8AC5-511F3C14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D43AC-28AE-4080-B346-49BA3EA435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76CF56-37BD-495D-AD0A-F45FCB640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83561F-56FB-4D99-BD3E-F57C4C933C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5A9802-0A54-47BC-9A87-B283764B44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AF1430-1EE7-40EF-AEB7-E77CFA275E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4B8F45-F816-4542-B4F4-8834E6D934B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CD5D92-A134-4B80-81E5-E75BBE887E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94C02D-D240-4EFF-8A4A-7ED6707C2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2A8AA-11F7-4BC5-8366-B775413FCA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45B097-E54D-46B5-9B6F-6AF5F9913B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87334-60CF-4331-956A-0037F21F8C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96FB44-CDA2-40E1-B299-8394FB629B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F91C52-E79A-4494-A378-9E44D4D71E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B94DE7-8C99-4F6A-81FC-C28FF722A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5AC986-6CB0-49AA-8031-5599A025D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7FF13E-E9E3-4C29-848F-C277C38858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3C6C52-85F4-4545-9BB0-3FF34E187EB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92AE5B-B6A3-447D-85FC-0C6C0889F9A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6C71D0-DF28-48C4-81A7-EE5540C8A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139489A-334B-471A-822D-092521D355C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76B49-D7DC-45AE-974F-46C1EF5AF6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DCA51-70FC-4A5D-B4F4-899583C141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452944D-8521-4665-938C-7394CD0189C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C6A29B-265F-4153-8E66-6079FF1500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CDEA5-0B71-4FE5-9506-6361991CCA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E5EBC16-37C9-4232-81CC-3A6AF1DC45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44356B-FE30-4161-9E46-5479402DEB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765984-5C9F-4BA4-9E85-70EF5AECA6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66B7C3-2325-4105-A81A-DFB31E0046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586EC9-E0B8-4F18-AA21-77133EF6B5C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0BAFA1-B299-4022-BBA3-34B4BD909F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5B4E9D-075C-450B-A893-E3845393DF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71657-802F-48B6-B62F-54E543312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D644C9-0CD5-433C-A786-D46E07005D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3CFAF9C-D834-4878-97AB-A34E1997A6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2592B14-C867-496F-92B2-44863976D57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2C1D4B2-E812-46B8-A14E-77E0D92870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46ACEE-B3C0-4E9B-9D11-C2C8DA3FD8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6ADF6-547D-4AA4-A92A-F9DB3A692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5996F5-921D-4BCF-98D9-D1104A9DE3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F737FD-6F25-4AA6-8974-25ED628D15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BDD038-607A-4239-8B40-EEAB783596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81B44C-C65D-43FC-8FDE-C98F7632DC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B14F7-C505-483E-88D5-F6E55B3A89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955ADA-912C-4110-BBA3-70B4633F724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EF8404-E0B3-47C4-8EAC-9F03CA6FFE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0D1B22-27F3-4324-A759-3CFE310F6C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CD20E2-9BCD-4130-A9FD-ACC8DCA77C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D0D9DBA-10E0-4D79-BB8B-20515DBB94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D9C3D3-CCAA-40CD-ACFC-138DFF378E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BF0B02-A958-4EB2-8CFD-C5E94E62446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24210C-1E28-49B3-885F-5D1EC9772B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70E983-76BD-49EC-9C6F-A92F0DD909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6FC18E-45FD-48DE-8FE3-1154565769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52A72-D5BD-40B4-B2D9-92CCCDFC3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DE2ABC0-BD66-4499-A26B-A17600A088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C54580-FDA4-4366-B934-893BEEF58C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8CD782-49C2-4738-AD24-950767C991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C00B78-E7B1-4FAB-80E2-BAC3542C24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C7554E-6CB0-44CF-93F2-ACE51EEE65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BFE494-1482-4358-9BF1-C47B082FCF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25F719-9795-4AEC-A02C-603E5EF088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7F6C88-AA2F-4F7E-873D-06918D065D4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C884A6-9C35-45E2-9454-5A9149A389F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D86FF2-7808-4AAF-9F8B-8927B634A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FF7488-F654-4B27-888A-E4E966A9E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A03EF0-EF5B-4178-9CB1-18456F70C8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D7BF14-AA2A-44E7-9B98-DFE9B923B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B5E4E09-4A48-4780-84C4-DB1B7DB4764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25C004-8387-4BD5-BE5F-044E3DA5128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63D8FE-CCB8-46F6-B35D-1644A5882C8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D39B0B-5F96-4434-AA96-D52BEEEE0E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629B6F1-4868-430E-BB44-9765F08CA7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2759F7-2E1F-483A-A6C6-1A0B2F1229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08554BB-5784-4F99-B776-663F5E78F4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B20C1E-8CB7-40B6-AF35-3D160C18E0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2FE786-C59B-498E-B4E2-4B0CA1D35C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FFBD3A-216C-4D1C-B069-37204EF97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7DC2CF-DEBE-4440-B415-01C23801A28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FBA136-87C6-474B-8F28-B7F2E60B3B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A43E48-0CB2-4AAA-BE10-CD1F08EE0C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AFF0E58-F66C-460B-9CBB-4DF3FB5B39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C0092A-E490-4B05-9A3C-DCF4847AEED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9694B1B-5C8A-4413-A1D3-CC91596EB12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0C98EC-6E6D-4628-AC10-76D2E96E770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CB9B53-8B40-4063-A9CC-4F877346518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973E3-2625-42C4-A8C5-5F5EB9857AD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B14BD0-9AAE-44AA-9725-662CB25FA58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4C4B22-DC7A-4CFA-A085-2F75192E8C6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AB76B9-7C8B-4D60-A3C8-16E0C57AE8F9}"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C7DB9-CC11-4554-98FD-ADDA14A99E3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AA6AC9-2577-4C2F-8C1C-98E98626913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37052"/>
                </a:solidFill>
                <a:latin typeface="Times New Roman"/>
                <a:ea typeface="宋体"/>
              </a:rPr>
              <a:t>1.2 CENTRIFUGE</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离心机</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7" name="文本框 3"/>
          <p:cNvSpPr/>
          <p:nvPr/>
        </p:nvSpPr>
        <p:spPr>
          <a:xfrm>
            <a:off x="179280" y="600120"/>
            <a:ext cx="842508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4 The lubricant of differentia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 No.15 or No.18 by hyperbolic gear lubrica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brasive period for a new differential is 150 hours and then the gear oil must be' changed, and after then, the gear oil should be changed every 500 hours. The changing procedure is as follow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Drain out the old lubrica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Fill in 4kg diesel oil and put on oil cap</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Turn on the differential by hand for several circles and then drain out the diesel oi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Fill in 3 litre gear lubricant, which should be filtered by 80 to 100 mesh screen before fi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Set the filling hole to level position. If the lubricant is overflow, it shows that the lubricant is enoug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5 The working oil of coupl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o.20 or lNo.30 turbine oil are adopted, after running 3000hours more or less, testing aging or changing oil is necessar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6 Take care of the assembling marks when disassembling or assembling rotating parts. The assembling surface must be clean and no burr or object in order to keep its dynamic balancing preci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7 It is not allowed to beat with metal when dismantling or assembling bearing so as not to influence its precision or to be broken. Be careful not to damage the sealing surface when disassembling sealing r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8 Check the electric connection regularly and check if nut outside the column is loos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9" name="文本框 2"/>
          <p:cNvSpPr/>
          <p:nvPr/>
        </p:nvSpPr>
        <p:spPr>
          <a:xfrm>
            <a:off x="3240" y="631800"/>
            <a:ext cx="482436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5 Warn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5.1 When using the machine in winter, check if it is frozen by turning the wheel manually if it is frozen, heat it with steam or other method. Remember to drain out the slush from the drum so as not to be frozen when stopping machine in wint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5.2 It is not allowed to open drum cover or belt cover during runn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5.3 The flow volume does not exceed the processing capability of the centrifuge, or lead to overload or safety bolt cutt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5.4 If the viscosity of well drilling liquid is too high, fill appropriate water for dilution so as to speed up the slush subsidence and raise the processing capability of the centrifug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5.5 Short phase running is prohibit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8. Illustration of electric control</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ain circuit diagram and control circuit diagram of the centrifugal pump are shown in Figures 1-1 and 1-2.</a:t>
            </a:r>
            <a:endParaRPr b="0" lang="en-US" sz="1600" spc="-1" strike="noStrike">
              <a:solidFill>
                <a:srgbClr val="000000"/>
              </a:solidFill>
              <a:latin typeface="Calibri"/>
            </a:endParaRPr>
          </a:p>
        </p:txBody>
      </p:sp>
      <p:pic>
        <p:nvPicPr>
          <p:cNvPr id="380" name="图片 5" descr=""/>
          <p:cNvPicPr/>
          <p:nvPr/>
        </p:nvPicPr>
        <p:blipFill>
          <a:blip r:embed="rId1"/>
          <a:stretch/>
        </p:blipFill>
        <p:spPr>
          <a:xfrm>
            <a:off x="4862520" y="1125360"/>
            <a:ext cx="4038480" cy="3619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2" name="图片 3" descr=""/>
          <p:cNvPicPr/>
          <p:nvPr/>
        </p:nvPicPr>
        <p:blipFill>
          <a:blip r:embed="rId1"/>
          <a:stretch/>
        </p:blipFill>
        <p:spPr>
          <a:xfrm>
            <a:off x="168120" y="692280"/>
            <a:ext cx="4714920" cy="3047760"/>
          </a:xfrm>
          <a:prstGeom prst="rect">
            <a:avLst/>
          </a:prstGeom>
          <a:ln w="0">
            <a:noFill/>
          </a:ln>
        </p:spPr>
      </p:pic>
      <p:sp>
        <p:nvSpPr>
          <p:cNvPr id="383" name="文本框 6"/>
          <p:cNvSpPr/>
          <p:nvPr/>
        </p:nvSpPr>
        <p:spPr>
          <a:xfrm>
            <a:off x="4896000" y="907920"/>
            <a:ext cx="4068720" cy="420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①</a:t>
            </a:r>
            <a:r>
              <a:rPr b="0" lang="en-US" sz="1500" spc="-1" strike="noStrike">
                <a:solidFill>
                  <a:srgbClr val="000000"/>
                </a:solidFill>
                <a:latin typeface="Times New Roman"/>
                <a:ea typeface="宋体"/>
              </a:rPr>
              <a:t>Time accumulate organ </a:t>
            </a:r>
            <a:r>
              <a:rPr b="0" lang="zh-CN" sz="1500" spc="-1" strike="noStrike">
                <a:solidFill>
                  <a:srgbClr val="000000"/>
                </a:solidFill>
                <a:latin typeface="Times New Roman"/>
                <a:ea typeface="宋体"/>
              </a:rPr>
              <a:t>②</a:t>
            </a:r>
            <a:r>
              <a:rPr b="0" lang="en-US" sz="1500" spc="-1" strike="noStrike">
                <a:solidFill>
                  <a:srgbClr val="000000"/>
                </a:solidFill>
                <a:latin typeface="Times New Roman"/>
                <a:ea typeface="宋体"/>
              </a:rPr>
              <a:t>time </a:t>
            </a:r>
            <a:r>
              <a:rPr b="0" lang="zh-CN" sz="1500" spc="-1" strike="noStrike">
                <a:solidFill>
                  <a:srgbClr val="000000"/>
                </a:solidFill>
                <a:latin typeface="Times New Roman"/>
                <a:ea typeface="宋体"/>
              </a:rPr>
              <a:t>③</a:t>
            </a:r>
            <a:r>
              <a:rPr b="0" lang="en-US" sz="1500" spc="-1" strike="noStrike">
                <a:solidFill>
                  <a:srgbClr val="000000"/>
                </a:solidFill>
                <a:latin typeface="Times New Roman"/>
                <a:ea typeface="宋体"/>
              </a:rPr>
              <a:t>Assistant machine </a:t>
            </a:r>
            <a:r>
              <a:rPr b="0" lang="zh-CN" sz="1500" spc="-1" strike="noStrike">
                <a:solidFill>
                  <a:srgbClr val="000000"/>
                </a:solidFill>
                <a:latin typeface="Times New Roman"/>
                <a:ea typeface="宋体"/>
              </a:rPr>
              <a:t>④</a:t>
            </a:r>
            <a:r>
              <a:rPr b="0" lang="en-US" sz="1500" spc="-1" strike="noStrike">
                <a:solidFill>
                  <a:srgbClr val="000000"/>
                </a:solidFill>
                <a:latin typeface="Times New Roman"/>
                <a:ea typeface="宋体"/>
              </a:rPr>
              <a:t>Main machine </a:t>
            </a:r>
            <a:r>
              <a:rPr b="0" lang="zh-CN" sz="1500" spc="-1" strike="noStrike">
                <a:solidFill>
                  <a:srgbClr val="000000"/>
                </a:solidFill>
                <a:latin typeface="Times New Roman"/>
                <a:ea typeface="宋体"/>
              </a:rPr>
              <a:t>⑤</a:t>
            </a:r>
            <a:r>
              <a:rPr b="0" lang="en-US" sz="1500" spc="-1" strike="noStrike">
                <a:solidFill>
                  <a:srgbClr val="000000"/>
                </a:solidFill>
                <a:latin typeface="Times New Roman"/>
                <a:ea typeface="宋体"/>
              </a:rPr>
              <a:t>Liquid supplying pump</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8.1 Press button SB1 to start aux.motor, 20 seconds later press SB3 to start main motor, meanwhile the chronography starts working to show the working times. The slush pumping system starts working.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8.2 After the washing is completed, press button SB2, shut down the main motor and the slush pump, the aux.motor keeps working for 30 seconds under the control of a time relay and then stop.</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8.3 If you press SB1 button other than SB3 button, the aux.motor is only working for 30 seconds and then stop. If you firstly press button SB3, the main motor will not start because of the action of interlocking uni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5" name="文本框 2"/>
          <p:cNvSpPr/>
          <p:nvPr/>
        </p:nvSpPr>
        <p:spPr>
          <a:xfrm>
            <a:off x="108000" y="614520"/>
            <a:ext cx="25192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9.Possible fault &amp; solu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possible faults and their solutions that may occur during the use of centrifugal pumps are shown in table 1-4.</a:t>
            </a:r>
            <a:endParaRPr b="0" lang="en-US" sz="1600" spc="-1" strike="noStrike">
              <a:solidFill>
                <a:srgbClr val="000000"/>
              </a:solidFill>
              <a:latin typeface="Calibri"/>
            </a:endParaRPr>
          </a:p>
        </p:txBody>
      </p:sp>
      <p:pic>
        <p:nvPicPr>
          <p:cNvPr id="386" name="图片 5" descr=""/>
          <p:cNvPicPr/>
          <p:nvPr/>
        </p:nvPicPr>
        <p:blipFill>
          <a:blip r:embed="rId1"/>
          <a:stretch/>
        </p:blipFill>
        <p:spPr>
          <a:xfrm>
            <a:off x="2787480" y="281160"/>
            <a:ext cx="6105600" cy="56862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8" name="文本框 3"/>
          <p:cNvSpPr/>
          <p:nvPr/>
        </p:nvSpPr>
        <p:spPr>
          <a:xfrm>
            <a:off x="181080" y="598320"/>
            <a:ext cx="36702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0.List of quick-wear parts &amp; standard parts</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vulnerable parts and standard parts of centrifugal pumps are shown in table 1-5.</a:t>
            </a:r>
            <a:endParaRPr b="0" lang="en-US" sz="15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able 1-5 List of vulnerable parts &amp; standard parts</a:t>
            </a:r>
            <a:endParaRPr b="0" lang="en-US" sz="1500" spc="-1" strike="noStrike">
              <a:solidFill>
                <a:srgbClr val="000000"/>
              </a:solidFill>
              <a:latin typeface="Calibri"/>
            </a:endParaRPr>
          </a:p>
        </p:txBody>
      </p:sp>
      <p:pic>
        <p:nvPicPr>
          <p:cNvPr id="389" name="图片 6" descr=""/>
          <p:cNvPicPr/>
          <p:nvPr/>
        </p:nvPicPr>
        <p:blipFill>
          <a:blip r:embed="rId1"/>
          <a:stretch/>
        </p:blipFill>
        <p:spPr>
          <a:xfrm>
            <a:off x="3914640" y="260280"/>
            <a:ext cx="5200920" cy="6597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1" name="文本框 2"/>
          <p:cNvSpPr/>
          <p:nvPr/>
        </p:nvSpPr>
        <p:spPr>
          <a:xfrm>
            <a:off x="108000" y="598320"/>
            <a:ext cx="885672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1.Accessories attached</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The centrifugal pump accessories are shown in table 1-6.</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able 1-6 Accessories attached</a:t>
            </a:r>
            <a:endParaRPr b="0" lang="en-US" sz="1400" spc="-1" strike="noStrike">
              <a:solidFill>
                <a:srgbClr val="000000"/>
              </a:solidFill>
              <a:latin typeface="Calibri"/>
            </a:endParaRPr>
          </a:p>
        </p:txBody>
      </p:sp>
      <p:pic>
        <p:nvPicPr>
          <p:cNvPr id="392" name="图片 5" descr=""/>
          <p:cNvPicPr/>
          <p:nvPr/>
        </p:nvPicPr>
        <p:blipFill>
          <a:blip r:embed="rId1"/>
          <a:stretch/>
        </p:blipFill>
        <p:spPr>
          <a:xfrm>
            <a:off x="468360" y="1430280"/>
            <a:ext cx="6664320" cy="3294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4" name="文本框 3"/>
          <p:cNvSpPr/>
          <p:nvPr/>
        </p:nvSpPr>
        <p:spPr>
          <a:xfrm>
            <a:off x="395280" y="598320"/>
            <a:ext cx="30970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2.Layout drawing (Drawing I)</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s shown in figure 1-3, the assembly diagram of the centrifugal pump is shown in table 1-7, which shows the centrifugal pump model and minimum size parameters.</a:t>
            </a:r>
            <a:endParaRPr b="0" lang="en-US" sz="1600" spc="-1" strike="noStrike">
              <a:solidFill>
                <a:srgbClr val="000000"/>
              </a:solidFill>
              <a:latin typeface="Calibri"/>
            </a:endParaRPr>
          </a:p>
        </p:txBody>
      </p:sp>
      <p:pic>
        <p:nvPicPr>
          <p:cNvPr id="395" name="Picutre 3" descr=""/>
          <p:cNvPicPr/>
          <p:nvPr/>
        </p:nvPicPr>
        <p:blipFill>
          <a:blip r:embed="rId1"/>
          <a:stretch/>
        </p:blipFill>
        <p:spPr>
          <a:xfrm>
            <a:off x="4591080" y="379440"/>
            <a:ext cx="4276800" cy="4530600"/>
          </a:xfrm>
          <a:prstGeom prst="rect">
            <a:avLst/>
          </a:prstGeom>
          <a:ln w="0">
            <a:noFill/>
          </a:ln>
        </p:spPr>
      </p:pic>
      <p:sp>
        <p:nvSpPr>
          <p:cNvPr id="396" name="文本框 6"/>
          <p:cNvSpPr/>
          <p:nvPr/>
        </p:nvSpPr>
        <p:spPr>
          <a:xfrm>
            <a:off x="5003640" y="4935600"/>
            <a:ext cx="400716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宋体"/>
              </a:rPr>
              <a:t>Fig.1-3 Centrifugal pump diagram</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宋体"/>
              </a:rPr>
              <a:t>1. Differential 2.screw in oil bole 3.Body of plough 4.Oil cup 5.upper cover of plough 6.Drum assembly 7.Bearing base 8.slush-inlet assembly 9.Hydraulic coupler 10.Reducer11.Main motor 12.Anti-exploration control device 13Aux.motor 14.Bearing base 15.General base</a:t>
            </a:r>
            <a:endParaRPr b="0" lang="en-US" sz="1200" spc="-1" strike="noStrike">
              <a:solidFill>
                <a:srgbClr val="000000"/>
              </a:solidFill>
              <a:latin typeface="Calibri"/>
            </a:endParaRPr>
          </a:p>
        </p:txBody>
      </p:sp>
      <p:pic>
        <p:nvPicPr>
          <p:cNvPr id="397" name="图片 8" descr=""/>
          <p:cNvPicPr/>
          <p:nvPr/>
        </p:nvPicPr>
        <p:blipFill>
          <a:blip r:embed="rId2"/>
          <a:stretch/>
        </p:blipFill>
        <p:spPr>
          <a:xfrm>
            <a:off x="0" y="2722680"/>
            <a:ext cx="4859280" cy="132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9" name="文本框 2"/>
          <p:cNvSpPr/>
          <p:nvPr/>
        </p:nvSpPr>
        <p:spPr>
          <a:xfrm>
            <a:off x="179280" y="598320"/>
            <a:ext cx="410544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3.structure drawing of differential(Drawing II)</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schematic diagram of the differential structure is shown in figure 1-4.</a:t>
            </a:r>
            <a:endParaRPr b="0" lang="en-US" sz="1500" spc="-1" strike="noStrike">
              <a:solidFill>
                <a:srgbClr val="000000"/>
              </a:solidFill>
              <a:latin typeface="Calibri"/>
            </a:endParaRPr>
          </a:p>
        </p:txBody>
      </p:sp>
      <p:pic>
        <p:nvPicPr>
          <p:cNvPr id="400" name="图片 1" descr=""/>
          <p:cNvPicPr/>
          <p:nvPr/>
        </p:nvPicPr>
        <p:blipFill>
          <a:blip r:embed="rId1"/>
          <a:stretch/>
        </p:blipFill>
        <p:spPr>
          <a:xfrm>
            <a:off x="179280" y="1427040"/>
            <a:ext cx="2376720" cy="3859200"/>
          </a:xfrm>
          <a:prstGeom prst="rect">
            <a:avLst/>
          </a:prstGeom>
          <a:ln w="0">
            <a:noFill/>
          </a:ln>
        </p:spPr>
      </p:pic>
      <p:sp>
        <p:nvSpPr>
          <p:cNvPr id="401" name="文本框 5"/>
          <p:cNvSpPr/>
          <p:nvPr/>
        </p:nvSpPr>
        <p:spPr>
          <a:xfrm>
            <a:off x="0" y="5430960"/>
            <a:ext cx="403236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宋体"/>
              </a:rPr>
              <a:t>Fig.1-4 Structure drawing of differential</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宋体"/>
              </a:rPr>
              <a:t>1.oil cup M8*l 2.Bearing end cover 3.Gear bearing 4.Safety bolt 5.Bearing cover 6.Bearing 213 7. Bearing 60213 8. Bearing body 9.Aux.belt</a:t>
            </a:r>
            <a:endParaRPr b="0" lang="en-US" sz="1200" spc="-1" strike="noStrike">
              <a:solidFill>
                <a:srgbClr val="000000"/>
              </a:solidFill>
              <a:latin typeface="Calibri"/>
            </a:endParaRPr>
          </a:p>
        </p:txBody>
      </p:sp>
      <p:sp>
        <p:nvSpPr>
          <p:cNvPr id="402" name="文本框 10"/>
          <p:cNvSpPr/>
          <p:nvPr/>
        </p:nvSpPr>
        <p:spPr>
          <a:xfrm>
            <a:off x="4317840" y="554040"/>
            <a:ext cx="459756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4.Structure drawing (Drawing lII)</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schematic diagram of the drum shaft assembly is shown in figure 1-5.</a:t>
            </a:r>
            <a:endParaRPr b="0" lang="en-US" sz="1500" spc="-1" strike="noStrike">
              <a:solidFill>
                <a:srgbClr val="000000"/>
              </a:solidFill>
              <a:latin typeface="Calibri"/>
            </a:endParaRPr>
          </a:p>
        </p:txBody>
      </p:sp>
      <p:pic>
        <p:nvPicPr>
          <p:cNvPr id="403" name="Picutre 4" descr=""/>
          <p:cNvPicPr/>
          <p:nvPr/>
        </p:nvPicPr>
        <p:blipFill>
          <a:blip r:embed="rId2"/>
          <a:stretch/>
        </p:blipFill>
        <p:spPr>
          <a:xfrm>
            <a:off x="4002120" y="1585800"/>
            <a:ext cx="4889520" cy="2203560"/>
          </a:xfrm>
          <a:prstGeom prst="rect">
            <a:avLst/>
          </a:prstGeom>
          <a:ln w="0">
            <a:noFill/>
          </a:ln>
        </p:spPr>
      </p:pic>
      <p:sp>
        <p:nvSpPr>
          <p:cNvPr id="404" name="文本框 12"/>
          <p:cNvSpPr/>
          <p:nvPr/>
        </p:nvSpPr>
        <p:spPr>
          <a:xfrm>
            <a:off x="4367160" y="3992400"/>
            <a:ext cx="4597560" cy="210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宋体"/>
              </a:rPr>
              <a:t>Fig.1-5 The overall structure of the device</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ea typeface="宋体"/>
              </a:rPr>
              <a:t>1.Aux.belt 2.Differential 3.Connecting flange of the differential 4.Bearing base 5.Oil cup 6.Flange shaft with big end 7.Straight Drum 8.Conveyor 9.Upper cover of plough l0.Corn Drum 11.Bearing base 12.Main belt wheel 13.O-ring 14.Angular contact ball bearing 15.Ball-shape bearing in deep channel 16.inner cauda flange shaft 17.Ball Shape bearing in deep channel 18.Flange shaft with small end 19.Slag discharging port 20.Slush inlet pipe 21.Body of plough 22.Spline Jacket 23.Oil seal 24.O-ring 25.Slush outlet 26.Ball-shape bearing in deep channel 27.Gas-outlet screw 28.Short-cyliuder-shape rolling bearing 29.Spline shaft</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406" name="文本框 2"/>
          <p:cNvSpPr/>
          <p:nvPr/>
        </p:nvSpPr>
        <p:spPr>
          <a:xfrm>
            <a:off x="539640" y="671400"/>
            <a:ext cx="806472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sposal</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处理，清除；（土地、财产等的）变卖，转让</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sassembling   </a:t>
            </a:r>
            <a:r>
              <a:rPr b="0" i="1" lang="en-US" sz="1600" spc="-1" strike="noStrike">
                <a:solidFill>
                  <a:srgbClr val="000000"/>
                </a:solidFill>
                <a:latin typeface="Times New Roman"/>
                <a:ea typeface="宋体"/>
              </a:rPr>
              <a:t>n.  </a:t>
            </a:r>
            <a:r>
              <a:rPr b="0" lang="zh-CN" sz="1600" spc="-1" strike="noStrike">
                <a:solidFill>
                  <a:srgbClr val="000000"/>
                </a:solidFill>
                <a:latin typeface="Times New Roman"/>
                <a:ea typeface="宋体"/>
              </a:rPr>
              <a:t>拆卸；反汇编</a:t>
            </a:r>
            <a:r>
              <a:rPr b="0" i="1"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拆开；分散（</a:t>
            </a:r>
            <a:r>
              <a:rPr b="0" lang="en-US" sz="1600" spc="-1" strike="noStrike">
                <a:solidFill>
                  <a:srgbClr val="000000"/>
                </a:solidFill>
                <a:latin typeface="Times New Roman"/>
                <a:ea typeface="宋体"/>
              </a:rPr>
              <a:t>disassemble</a:t>
            </a:r>
            <a:r>
              <a:rPr b="0" lang="zh-CN" sz="1600" spc="-1" strike="noStrike">
                <a:solidFill>
                  <a:srgbClr val="000000"/>
                </a:solidFill>
                <a:latin typeface="Times New Roman"/>
                <a:ea typeface="宋体"/>
              </a:rPr>
              <a:t>的</a:t>
            </a:r>
            <a:r>
              <a:rPr b="0" lang="en-US" sz="1600" spc="-1" strike="noStrike">
                <a:solidFill>
                  <a:srgbClr val="000000"/>
                </a:solidFill>
                <a:latin typeface="Times New Roman"/>
                <a:ea typeface="宋体"/>
              </a:rPr>
              <a:t>ing</a:t>
            </a:r>
            <a:r>
              <a:rPr b="0" lang="zh-CN" sz="1600" spc="-1" strike="noStrike">
                <a:solidFill>
                  <a:srgbClr val="000000"/>
                </a:solidFill>
                <a:latin typeface="Times New Roman"/>
                <a:ea typeface="宋体"/>
              </a:rPr>
              <a:t>形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lt wheel   </a:t>
            </a:r>
            <a:r>
              <a:rPr b="0" lang="zh-CN" sz="1600" spc="-1" strike="noStrike">
                <a:solidFill>
                  <a:srgbClr val="000000"/>
                </a:solidFill>
                <a:latin typeface="Times New Roman"/>
                <a:ea typeface="宋体"/>
              </a:rPr>
              <a:t>皮带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ransformation</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彻底或重大的）改观，变化，转变</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entrifuge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离心机</a:t>
            </a:r>
            <a:r>
              <a:rPr b="0" i="1"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用离心机分离；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受离心作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ae  </a:t>
            </a:r>
            <a:r>
              <a:rPr b="0" i="1" lang="en-US" sz="1600" spc="-1" strike="noStrike">
                <a:solidFill>
                  <a:srgbClr val="000000"/>
                </a:solidFill>
                <a:latin typeface="Times New Roman"/>
                <a:ea typeface="宋体"/>
              </a:rPr>
              <a:t> abbr.  </a:t>
            </a:r>
            <a:r>
              <a:rPr b="0" lang="zh-CN" sz="1600" spc="-1" strike="noStrike">
                <a:solidFill>
                  <a:srgbClr val="000000"/>
                </a:solidFill>
                <a:latin typeface="Times New Roman"/>
                <a:ea typeface="宋体"/>
              </a:rPr>
              <a:t>醋酸乙烯</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乙烯共聚乳液</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iscosity</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n.  </a:t>
            </a:r>
            <a:r>
              <a:rPr b="0" lang="zh-CN" sz="1600" spc="-1" strike="noStrike">
                <a:solidFill>
                  <a:srgbClr val="000000"/>
                </a:solidFill>
                <a:latin typeface="Times New Roman"/>
                <a:ea typeface="宋体"/>
              </a:rPr>
              <a:t>黏性；黏度</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arite</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n.   </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矿物</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重晶石</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venience</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方便，便利；便利的事物，便利设施；公共厕所</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rew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螺丝（钉）；螺杆，螺丝杆；螺旋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rew discharging centrifuge  </a:t>
            </a:r>
            <a:r>
              <a:rPr b="0" lang="zh-CN" sz="1600" spc="-1" strike="noStrike">
                <a:solidFill>
                  <a:srgbClr val="000000"/>
                </a:solidFill>
                <a:latin typeface="Times New Roman"/>
                <a:ea typeface="宋体"/>
              </a:rPr>
              <a:t>螺旋卸料离心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uxiliary   </a:t>
            </a:r>
            <a:r>
              <a:rPr b="0" i="1" lang="en-US" sz="1600" spc="-1" strike="noStrike">
                <a:solidFill>
                  <a:srgbClr val="000000"/>
                </a:solidFill>
                <a:latin typeface="Times New Roman"/>
                <a:ea typeface="宋体"/>
              </a:rPr>
              <a:t> adj.  </a:t>
            </a:r>
            <a:r>
              <a:rPr b="0" lang="zh-CN" sz="1600" spc="-1" strike="noStrike">
                <a:solidFill>
                  <a:srgbClr val="000000"/>
                </a:solidFill>
                <a:latin typeface="Times New Roman"/>
                <a:ea typeface="宋体"/>
              </a:rPr>
              <a:t>辅助的；备用的，后备的</a:t>
            </a:r>
            <a:r>
              <a:rPr b="0" lang="en-US" sz="1600" spc="-1" strike="noStrike">
                <a:solidFill>
                  <a:srgbClr val="000000"/>
                </a:solidFill>
                <a:latin typeface="Times New Roman"/>
                <a:ea typeface="宋体"/>
              </a:rPr>
              <a:t>;</a:t>
            </a:r>
            <a:r>
              <a:rPr b="0" i="1"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助手，辅助人员；</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fferential   </a:t>
            </a:r>
            <a:r>
              <a:rPr b="0" i="1" lang="en-US" sz="1600" spc="-1" strike="noStrike">
                <a:solidFill>
                  <a:srgbClr val="000000"/>
                </a:solidFill>
                <a:latin typeface="Times New Roman"/>
                <a:ea typeface="宋体"/>
              </a:rPr>
              <a:t> adj.  </a:t>
            </a:r>
            <a:r>
              <a:rPr b="0" lang="zh-CN" sz="1600" spc="-1" strike="noStrike">
                <a:solidFill>
                  <a:srgbClr val="000000"/>
                </a:solidFill>
                <a:latin typeface="Times New Roman"/>
                <a:ea typeface="宋体"/>
              </a:rPr>
              <a:t>微分的；差别的；特异的</a:t>
            </a:r>
            <a:r>
              <a:rPr b="0" lang="en-US" sz="1600" spc="-1" strike="noStrike">
                <a:solidFill>
                  <a:srgbClr val="000000"/>
                </a:solidFill>
                <a:latin typeface="Times New Roman"/>
                <a:ea typeface="宋体"/>
              </a:rPr>
              <a:t>;</a:t>
            </a:r>
            <a:r>
              <a:rPr b="0" i="1"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微分；差别</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rum assembly</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机</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摩擦鼓部件</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lough </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 v.  </a:t>
            </a:r>
            <a:r>
              <a:rPr b="0" lang="zh-CN" sz="1600" spc="-1" strike="noStrike">
                <a:solidFill>
                  <a:srgbClr val="000000"/>
                </a:solidFill>
                <a:latin typeface="Times New Roman"/>
                <a:ea typeface="宋体"/>
              </a:rPr>
              <a:t>耕，犁；（用或仿佛用犁）划出（沟或线）</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lange   </a:t>
            </a:r>
            <a:r>
              <a:rPr b="0" i="1" lang="en-US" sz="1600" spc="-1" strike="noStrike">
                <a:solidFill>
                  <a:srgbClr val="000000"/>
                </a:solidFill>
                <a:latin typeface="Times New Roman"/>
                <a:ea typeface="宋体"/>
              </a:rPr>
              <a:t>n.  </a:t>
            </a:r>
            <a:r>
              <a:rPr b="0" lang="zh-CN" sz="1600" spc="-1" strike="noStrike">
                <a:solidFill>
                  <a:srgbClr val="000000"/>
                </a:solidFill>
                <a:latin typeface="Times New Roman"/>
                <a:ea typeface="宋体"/>
              </a:rPr>
              <a:t>（机）法兰；（机）（古生）凸缘；轮缘；边缘</a:t>
            </a:r>
            <a:r>
              <a:rPr b="0" lang="en-US" sz="1600" spc="-1" strike="noStrike">
                <a:solidFill>
                  <a:srgbClr val="000000"/>
                </a:solidFill>
                <a:latin typeface="Times New Roman"/>
                <a:ea typeface="宋体"/>
              </a:rPr>
              <a:t>;</a:t>
            </a:r>
            <a:r>
              <a:rPr b="0" i="1" lang="en-US" sz="1600" spc="-1" strike="noStrike">
                <a:solidFill>
                  <a:srgbClr val="000000"/>
                </a:solidFill>
                <a:latin typeface="Times New Roman"/>
                <a:ea typeface="宋体"/>
              </a:rPr>
              <a:t>vt.</a:t>
            </a:r>
            <a:r>
              <a:rPr b="0" lang="zh-CN" sz="1600" spc="-1" strike="noStrike">
                <a:solidFill>
                  <a:srgbClr val="000000"/>
                </a:solidFill>
                <a:latin typeface="Times New Roman"/>
                <a:ea typeface="宋体"/>
              </a:rPr>
              <a:t>给</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装凸缘</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otating speed  </a:t>
            </a:r>
            <a:r>
              <a:rPr b="0" lang="zh-CN" sz="1600" spc="-1" strike="noStrike">
                <a:solidFill>
                  <a:srgbClr val="000000"/>
                </a:solidFill>
                <a:latin typeface="Times New Roman"/>
                <a:ea typeface="宋体"/>
              </a:rPr>
              <a:t>穿引速度；引纸抄速</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veyor</a:t>
            </a:r>
            <a:r>
              <a:rPr b="0" lang="en-US" sz="1600" spc="-1" strike="noStrike">
                <a:solidFill>
                  <a:srgbClr val="000000"/>
                </a:solidFill>
                <a:latin typeface="Times New Roman"/>
                <a:ea typeface="宋体"/>
              </a:rPr>
              <a:t>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传送带，传送装置；传播者，传达者</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408" name="文本框 2"/>
          <p:cNvSpPr/>
          <p:nvPr/>
        </p:nvSpPr>
        <p:spPr>
          <a:xfrm>
            <a:off x="395280" y="765000"/>
            <a:ext cx="8353440" cy="323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e conveyor scrapes subsided slag on the inner wall of the drum and pushes them to the dry zone at the small end of the drum.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lag on</a:t>
            </a:r>
            <a:r>
              <a:rPr b="0" lang="zh-CN" sz="1600" spc="-1" strike="noStrike">
                <a:solidFill>
                  <a:srgbClr val="000000"/>
                </a:solidFill>
                <a:latin typeface="Times New Roman"/>
                <a:ea typeface="宋体"/>
              </a:rPr>
              <a:t>随便穿上；胡乱涂上；断然拒绝</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输送机将沉降渣刮落在滚筒内壁上，并将其推至滚筒小端干燥区。</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 slag is drained from the slag outlet to slag land. </a:t>
            </a:r>
            <a:endParaRPr b="0" lang="en-US" sz="1600" spc="-1" strike="noStrike">
              <a:solidFill>
                <a:srgbClr val="000000"/>
              </a:solidFill>
              <a:latin typeface="Calibri"/>
            </a:endParaRPr>
          </a:p>
          <a:p>
            <a:pPr>
              <a:lnSpc>
                <a:spcPts val="1573"/>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drained from</a:t>
            </a:r>
            <a:r>
              <a:rPr b="0" lang="zh-CN" sz="1600" spc="-1" strike="noStrike">
                <a:solidFill>
                  <a:srgbClr val="000000"/>
                </a:solidFill>
                <a:latin typeface="Times New Roman"/>
                <a:ea typeface="宋体"/>
              </a:rPr>
              <a:t>被抽干</a:t>
            </a:r>
            <a:r>
              <a:rPr b="0" lang="en-US" sz="1600" spc="-1" strike="noStrike">
                <a:solidFill>
                  <a:srgbClr val="000000"/>
                </a:solidFill>
                <a:latin typeface="Times New Roman"/>
                <a:ea typeface="宋体"/>
              </a:rPr>
              <a:t>; drain </a:t>
            </a:r>
            <a:r>
              <a:rPr b="0" lang="zh-CN" sz="1600" spc="-1" strike="noStrike">
                <a:solidFill>
                  <a:srgbClr val="000000"/>
                </a:solidFill>
                <a:latin typeface="Times New Roman"/>
                <a:ea typeface="宋体"/>
              </a:rPr>
              <a:t>排出，滤干，喝光</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渣从出渣口排至渣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Centrifuge should be horizontally and firmly mounted on top of No.3 tank far from inlet of slush pump in the circulation syste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mounted on</a:t>
            </a:r>
            <a:r>
              <a:rPr b="0" lang="zh-CN" sz="1600" spc="-1" strike="noStrike">
                <a:solidFill>
                  <a:srgbClr val="000000"/>
                </a:solidFill>
                <a:latin typeface="Times New Roman"/>
                <a:ea typeface="宋体"/>
              </a:rPr>
              <a:t>安装在：指某物被固定或安装在另一物体上。</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ar from</a:t>
            </a:r>
            <a:r>
              <a:rPr b="0" lang="zh-CN" sz="1600" spc="-1" strike="noStrike">
                <a:solidFill>
                  <a:srgbClr val="000000"/>
                </a:solidFill>
                <a:latin typeface="Times New Roman"/>
                <a:ea typeface="宋体"/>
              </a:rPr>
              <a:t>远离：表示距离、程度或关系上相距甚远，不接近。</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离心机应水平牢固地安装在</a:t>
            </a: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号槽顶部，远离循环系统的泥浆泵入口。</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58920" y="692280"/>
            <a:ext cx="842616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General descrip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ype LW400-NY-G and LW500-NY centrifuges (brief for the two-type centrifuges) are special devices to separate solid phase from well drilling liquid, which are new generation type developed and designed according to the actual demands of oil drilling and on the base of studying current domestic and foreign centrifuges. The max. disposal of type LW500-NY may reach 60 m3/h which make the well drilling liquid higher quality and shorten the time of liquid disposal. Without disassembling the belt wheel, type LW400-NY-G centrifuge can complete the transformation from slow speed to high speed only using one belt wheel, i.e. the drum can complete two rotating speed:1800r/h and 2400r/h. This solve the problem of choosing different centrifuge to match different well drilling mine shaft. Hard alloy is inlayed in the conveyor vaes of the two-type centrifuges lengthening their using life several tim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Applic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two-type centrifuges mainly used to control the density and viscosity, to reduce the solid content of well drilling liquid, to remove the harmful solid phase or recover barite, and to recover and reuse the bottom flow so as to guarantee the high performance of well drilling liquid and raise drilling spe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fter the well drilling liquid is processed, not only the density and the viscosity are controlled, its sand content is also cut down greatly. Therefore, the machine using life is extended. The economic benefit and social benefit are obviously obtain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cause the two-type centrifuges have features of reasonable design, good adaptability, high processing volume, easy operation and convenience of maintenance, and timely supply of parts, they are very popular with custom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3"/>
          <p:cNvSpPr/>
          <p:nvPr/>
        </p:nvSpPr>
        <p:spPr>
          <a:xfrm>
            <a:off x="179280" y="601560"/>
            <a:ext cx="459108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Main technical paramet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1 Description of machine type</a:t>
            </a:r>
            <a:endParaRPr b="0" lang="en-US" sz="1600" spc="-1" strike="noStrike">
              <a:solidFill>
                <a:srgbClr val="000000"/>
              </a:solidFill>
              <a:latin typeface="Calibri"/>
            </a:endParaRPr>
          </a:p>
        </p:txBody>
      </p:sp>
      <p:pic>
        <p:nvPicPr>
          <p:cNvPr id="357" name="图片 6" descr=""/>
          <p:cNvPicPr/>
          <p:nvPr/>
        </p:nvPicPr>
        <p:blipFill>
          <a:blip r:embed="rId1"/>
          <a:stretch/>
        </p:blipFill>
        <p:spPr>
          <a:xfrm>
            <a:off x="84240" y="1192320"/>
            <a:ext cx="4713120" cy="3120840"/>
          </a:xfrm>
          <a:prstGeom prst="rect">
            <a:avLst/>
          </a:prstGeom>
          <a:ln w="0">
            <a:noFill/>
          </a:ln>
        </p:spPr>
      </p:pic>
      <p:sp>
        <p:nvSpPr>
          <p:cNvPr id="358" name="文本框 8"/>
          <p:cNvSpPr/>
          <p:nvPr/>
        </p:nvSpPr>
        <p:spPr>
          <a:xfrm>
            <a:off x="4797360" y="601560"/>
            <a:ext cx="45910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2 Main parameters</a:t>
            </a:r>
            <a:endParaRPr b="0" lang="en-US" sz="1600" spc="-1" strike="noStrike">
              <a:solidFill>
                <a:srgbClr val="000000"/>
              </a:solidFill>
              <a:latin typeface="Calibri"/>
            </a:endParaRPr>
          </a:p>
        </p:txBody>
      </p:sp>
      <p:pic>
        <p:nvPicPr>
          <p:cNvPr id="359" name="图片 11" descr=""/>
          <p:cNvPicPr/>
          <p:nvPr/>
        </p:nvPicPr>
        <p:blipFill>
          <a:blip r:embed="rId2"/>
          <a:stretch/>
        </p:blipFill>
        <p:spPr>
          <a:xfrm>
            <a:off x="4754520" y="1127160"/>
            <a:ext cx="4346640" cy="1488960"/>
          </a:xfrm>
          <a:prstGeom prst="rect">
            <a:avLst/>
          </a:prstGeom>
          <a:ln w="0">
            <a:noFill/>
          </a:ln>
        </p:spPr>
      </p:pic>
      <p:sp>
        <p:nvSpPr>
          <p:cNvPr id="360" name="文本框 13"/>
          <p:cNvSpPr/>
          <p:nvPr/>
        </p:nvSpPr>
        <p:spPr>
          <a:xfrm>
            <a:off x="449280" y="4313160"/>
            <a:ext cx="8280360" cy="2469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Construction &amp; Working principle</a:t>
            </a:r>
            <a:endParaRPr b="0" lang="en-US" sz="13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4.1Construction</a:t>
            </a:r>
            <a:endParaRPr b="0" lang="en-US" sz="13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The two-type centrifuges consist of main motor, coupler, differential, drum assembly, upper cover of plough, body of plough, auxiliary motor, isolated anti-exploration control unit, General base and other auxiliary equipment. (Drawing 1)</a:t>
            </a:r>
            <a:endParaRPr b="0" lang="en-US" sz="13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4.1.1 Drum assembly</a:t>
            </a:r>
            <a:endParaRPr b="0" lang="en-US" sz="13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Times New Roman"/>
                <a:ea typeface="宋体"/>
              </a:rPr>
              <a:t>Drum assembly consists of straight drum, corn drum, flange shaft with big and small end, conveyor, and other parts. Straight drum, corn drum and conveyor are concentrically fixed on the both end bearing base of plough through flange shaft. The spline of the differential is connected with the spline Jacket of the conveyor through spline shaft. The shell is driven by the flange shaft which connects the big flange and drum assembly. Various speed can be obtained through adjusting therotating speed of input shaft of the differential. There are 6 adjustable overflow plates on the flange of big flange shaft. The subsidence area will be controlled through changing the covering area of the damper one overflow hole, thus the separating result will be changed.</a:t>
            </a:r>
            <a:endParaRPr b="0" lang="en-US" sz="1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3"/>
          <p:cNvSpPr/>
          <p:nvPr/>
        </p:nvSpPr>
        <p:spPr>
          <a:xfrm>
            <a:off x="287280" y="619200"/>
            <a:ext cx="856944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conveyor consists of column &amp; corn drum body, closure, rail splice, screw vanes welding assembly, flange shaft, spline and spline shaft. The screw vanes are evenly welded on the drum body. The vanes are inlayed hard alloy, so that wearability of vanes is raised and the using life is extended. There are 26 holes(F50mm) on the corn drum (LW400-NY-G22,LW500-NY26). Wear-resisting alloy is sprayed on the circle of the holes. The spline Jacket is connected with the spline on the column drum se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1.2 Differentia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differential is involute epicycilc gear type. It consists of two stage epicyclic gear. The surface of sun and epicyclic gears are hard processed, so that they have higher ability of bearing load. One safe bolt is placed on the input shaft end. When the push torque of conveyor is overload, the bolt will be cut down and the drum will be synchronous running with the conveyor and thus the centrifugal will be protected. Before restarting, the bottom end cover should be open and replace new bol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1.3 Electric control uni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terlocking unit is adopted to control both main and aux.motors. When starting the machine, the aux.Motor should be started firstly and then the main motor will be started in 20 seconds. When stopping the machine, the main motor stops while pressing the button, the interlocking unit will automatically cut down the aux.Motor in 30 seconds after the main motor stops. Meanwhile, a special anti-exploration breaker is provided slush-supplying pump.</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324000" y="598320"/>
            <a:ext cx="84960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2 Working principle (see Drawing III attach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well drilling liquid to be processed is sent to the input pipe of the drum small end by slush supplying pump and then to the liquid chamber, finally into drum through the suction of conveyor. The solid phase of well drilling liquid, on the action of centrifugal force produced by the drum rotation at high speed, is thrown to the drum inner wall and subside down. Meanwhile, the conveyor, driven by the output spline of differential, rotates as the same direction as the drum, however conveyor speed is a little slower than the drum. In this case, the speed difference is formed between the drum and the conveyor. The conveyor scrapes subsided slag on the inner wall of the drum and pushes them to the dry zone at the small end of the drum. The slag is drained from the slag outlet to slag land. The separated well liquid will overflow from the overflow port at the big end of drum and them drain out through the discharging hole on the plough. Now the separation has realized.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Parameters of attached devi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1 Slush supplying pump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1.1 Main parameters of slush supplying pump</a:t>
            </a:r>
            <a:endParaRPr b="0" lang="en-US" sz="1600" spc="-1" strike="noStrike">
              <a:solidFill>
                <a:srgbClr val="000000"/>
              </a:solidFill>
              <a:latin typeface="Calibri"/>
            </a:endParaRPr>
          </a:p>
        </p:txBody>
      </p:sp>
      <p:pic>
        <p:nvPicPr>
          <p:cNvPr id="365" name="图片 4" descr=""/>
          <p:cNvPicPr/>
          <p:nvPr/>
        </p:nvPicPr>
        <p:blipFill>
          <a:blip r:embed="rId1"/>
          <a:stretch/>
        </p:blipFill>
        <p:spPr>
          <a:xfrm>
            <a:off x="826920" y="4160880"/>
            <a:ext cx="7204320" cy="1954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3"/>
          <p:cNvSpPr/>
          <p:nvPr/>
        </p:nvSpPr>
        <p:spPr>
          <a:xfrm>
            <a:off x="324000" y="601560"/>
            <a:ext cx="83516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1.2 performan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lush supplying pump supplies slush for the centrifuge, which is desirable device to deliver fluid containing solid fiber impurity slush. It has features as high efficiency, energy saving, low noises table vibration etc.</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2 Hydraulic coupl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2.1 Main technical parameters</a:t>
            </a:r>
            <a:endParaRPr b="0" lang="en-US" sz="1600" spc="-1" strike="noStrike">
              <a:solidFill>
                <a:srgbClr val="000000"/>
              </a:solidFill>
              <a:latin typeface="Calibri"/>
            </a:endParaRPr>
          </a:p>
        </p:txBody>
      </p:sp>
      <p:pic>
        <p:nvPicPr>
          <p:cNvPr id="368" name="图片 6" descr=""/>
          <p:cNvPicPr/>
          <p:nvPr/>
        </p:nvPicPr>
        <p:blipFill>
          <a:blip r:embed="rId1"/>
          <a:stretch/>
        </p:blipFill>
        <p:spPr>
          <a:xfrm>
            <a:off x="600120" y="2138400"/>
            <a:ext cx="8085240" cy="1976400"/>
          </a:xfrm>
          <a:prstGeom prst="rect">
            <a:avLst/>
          </a:prstGeom>
          <a:ln w="0">
            <a:noFill/>
          </a:ln>
        </p:spPr>
      </p:pic>
      <p:sp>
        <p:nvSpPr>
          <p:cNvPr id="369" name="文本框 8"/>
          <p:cNvSpPr/>
          <p:nvPr/>
        </p:nvSpPr>
        <p:spPr>
          <a:xfrm>
            <a:off x="600120" y="4292640"/>
            <a:ext cx="80755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5.2.2 Performanc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It is a power delivery device by using hydraulic delivery, which has features of steady start with load. lt can improve motors starting performance and protect motor when overload. lt can also isolate twisting vibration and impac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2"/>
          <p:cNvSpPr/>
          <p:nvPr/>
        </p:nvSpPr>
        <p:spPr>
          <a:xfrm>
            <a:off x="179280" y="615960"/>
            <a:ext cx="8496360" cy="5054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2.3 Notes in the oper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 The wording temperature is not over 90</a:t>
            </a:r>
            <a:r>
              <a:rPr b="0" lang="en-US" sz="1600" spc="-1" strike="noStrike" baseline="30000">
                <a:solidFill>
                  <a:srgbClr val="000000"/>
                </a:solidFill>
                <a:latin typeface="Times New Roman"/>
                <a:ea typeface="宋体"/>
              </a:rPr>
              <a:t>O</a:t>
            </a:r>
            <a:r>
              <a:rPr b="0" lang="en-US" sz="1600" spc="-1" strike="noStrike">
                <a:solidFill>
                  <a:srgbClr val="000000"/>
                </a:solidFill>
                <a:latin typeface="Times New Roman"/>
                <a:ea typeface="宋体"/>
              </a:rPr>
              <a:t>C</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 it is not allowed to open the eutectic plug so as not to occur scald accid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It is not allowed to change the wording liquid medium of coupler randomly. Any filling should be done strictly in accordance with specific regul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Do not disassemble the coupler randomly so as not to break sealing ring and balance preci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To check the working oil quality after 3000 hours of running. The oil should be changed if it is found ba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Installation &amp; Adjust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1 Centrifuge should be horizontally and firmly mounted on top of No.3 tank far from inlet of slush pump in the circulation system. The rotation center of drum should be consistent with liquid flow direction. lt can be arranged according to local actual condition as wel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2 Connect the slush supplying pump with pipe and put the pipe in No.2 tank. Connect circuit of slush supplying pump with anti-exploration switc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3 The inclining angle of the slag draining land is not less than 60 degree, while the angle of the overflow pipe must be over 45 degree so that the bottom flow and the overflow can be drained out of centrifuge rapidl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6.4 An additional power switch should be mounted beside the electric control box of the centrifuge. Do not use the control box of centrifuge as power switch, so as to cut down power when fault occur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3"/>
          <p:cNvSpPr/>
          <p:nvPr/>
        </p:nvSpPr>
        <p:spPr>
          <a:xfrm>
            <a:off x="324000" y="598320"/>
            <a:ext cx="84960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Operation &amp; Maintenanc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Properly use and maintenance of centrifuge is the prerequisite of utilizing its excellent performance and extending its using lif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1 Preparation before star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Before starting a new or a long time no use centrifuge, be sure to check all part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1.1 To check if the fasten parts are loose and there is no object that influence rotating around the rotating part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1.2 To check the lubricant condition of all parts (new centrifuge has been fully filled before sale), and make sure that the oil volume of the bearing base and the oil level of the differential and the coupler reaches to the specified standar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1.3 To check tightness of triangle belt or narrow v-belt: Use hand to turn main motor wheel for 3 cycles and then check in there is block and unusual sound. The tightness of v-belt should be proper.</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1.4 For long time no use centrifuge, firstly open the dear water valve ,and then clean the drum and conveyor, restart it when there is no block insid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2 Start running</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2.1 Turn off power switch, press the button of aux.Motor and (hen check if there is unusual sound,20 seconds late, press the button of main motor. And then check the rotating direction for both motors. If the rotation direction is wrong, stop to adjust i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5" name="文本框 2"/>
          <p:cNvSpPr/>
          <p:nvPr/>
        </p:nvSpPr>
        <p:spPr>
          <a:xfrm>
            <a:off x="358920" y="633240"/>
            <a:ext cx="8426160" cy="6177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2.2 After the centrifuge has been running well without load for 10 to 15 minutes, start the slush supplying pump, and open the control valve from small to big until the supplying volume is proper.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2.3 Viscosity is one of the important factor of influencing the separating ability. Filling water may speed up the subsidence of solid phase. Open the water valve for dilution when the viscosity is too high(normal 30 to 40 second).The value of dilution water is normal 15 to 201/mi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2.4 To check the running condition regularly. If there is unusual high temperature in some part, unusual sound or pipe leakage has been found, make the reason clear and rectify i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2.5 Efficient vibration or other abnormal appearance had been found, shut down power at once, stop slush supplying, close slush pump and valve, open water valve and clean drum and conveyo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3 Stop runn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3.1 Close slush pump and open water valv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3.2 Keep centrifuge running for 10 to 15 minutes. When the slag inside the drum has been completely washed out and clear water flow out, shut down slush valve and main motor. The aux.Motor will stop automatically in 30 second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 Maintenan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1 Before operation, operator must carefully understand the construction, performance and operating skill requirement, and let the machine run strictly in accordance with the operating rules and regula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2 Operator should regularly check the motor current and the bearing temperature, check the tightness of triangle belt, the temperature of the differential, the oil level of differential and coupler after machine stop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4.3 The lubricant of main bearing and conveyor bear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 No.2 lithium base grease. lt is necessary to fill every 100 hours running. The filling hole of the main bearing is on the bearing base, while the filling hole of the conveyor is on the flange shaft of big and small flange of dru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12-18T15:24:12Z</dcterms:modified>
  <cp:revision>4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