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40670-20A8-42A8-9C65-6E36D1745E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A3443E-D4D9-41DA-9A23-2AADD8883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2BA9B3-A58B-4814-BE71-A6C2DCDCAD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084942-5358-45F8-9ED0-D57B9D7B4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C70AF5-B48C-4142-8769-48A32FE25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4FF06-E14B-4B0D-92AA-FF016DDF90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51D05-DF9A-4F90-B99B-67D73CAB7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D24BDC-EF30-4E51-B54A-8A0A3F541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5CB89-F2C1-4EE7-9A13-C4ED4DFDB8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F8A945-BD2E-4F4D-9CAD-EE755C2E9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483F2E-DD16-403B-9371-A29E0322A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B18DB-9ED3-493E-8B3E-BC645E4FB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237A5-228C-4E4A-AF83-836CD7354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03521-FBB7-4661-9971-2586FD14C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849FB0-9514-44B5-98E4-18104EC87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65247C-1AFC-4F19-B964-F27125A0A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FFBF7D-8AB9-4B87-AD80-CC982F0C4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851A004-B8B9-47E0-B9D6-6F84B7E582E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33B77C-8DD8-4E61-9AD3-E93BD8F2CB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C5DE9B-C356-4F0F-B054-4304F063D1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ECE9241-57D5-433D-A812-2AC7F0D06B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1A3760-B162-4E49-8D71-DAAD86101A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2CFFC-C2BA-4EC7-AF76-194AC81779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275A9C-6E6F-4512-B059-1315246B98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59A582-8591-4059-BD59-E98D16FB94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4606D-BFE8-4762-9030-FA169FFF58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2D9141-68B5-420E-BB9D-AF55B18DE2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2F0262-4CE7-4906-A78A-EC39DA32D7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2BFF47-07B4-4DBA-9374-0CF54CB074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6DF846-525F-49D2-969A-B6ACA88F64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F70812-FF6D-40FD-8480-50F8551A42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AE6345-257C-40F5-BDC5-1454C670731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A51E06-79CF-4B58-A311-3657DCB039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86A32-2DFC-4239-A91C-311A6A012F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40CE04-33CE-4E9C-95F2-D9C1CC1CF0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7A7EA3-CA0A-4CA5-80F7-FEDC4A4A4E6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BA6FDA-3A28-4BA5-9F01-B7364BCF19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C1E6E3-934B-49DE-A075-807273CF7B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935854-B4D9-4ABB-BB70-A066803636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B2A71-D575-45DE-ADAD-82631B9869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886D81-C280-465B-BAA8-2EC772E9F5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E5CAE1-7F25-46D2-9F1A-671CB583FC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A55D79-9BD0-457D-8877-8DDD7BDADA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6D029FF-0886-41A4-B45A-800C21BCF2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90825-88F2-4615-83DC-EE81CAD4B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E01F40-88A6-492A-870F-E0E8981C8F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C1DDD7-31AF-46CE-9005-87F2A20089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C260A8-291A-4088-8D81-753C030570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205FF90-84E1-4831-B0B3-F1A3415FF3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F6FCCD-B21D-4030-A587-9032F4842F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7F97D8-6154-4198-9FA2-F64A63F2F0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A5D1DA-2CB8-4FA4-98DD-8739E2AA90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06429F-E9C3-4F03-9C9D-EFD8FEAA55E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3E2DDB-C59E-4A76-BA0A-BCEC9D7FEE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B69BDE-3860-4194-8D92-5A389BB67B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B5213-7631-4DBF-8A49-59B778A15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8A0322-59B7-4F30-B508-336E898DD2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26420ED-2EB1-4769-A530-2AAFFF8423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A50DCA-1E53-4FC4-BB50-04CC6ACBDC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3BC5D9-FD4A-4996-A4EC-21A059FA99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00DC90-B5D7-47AC-9380-7109492135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A6B326-FD31-442A-8296-34B27FACE2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5D28FE-0DB5-4AA3-8923-D6C62D70963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E496AD-00FE-484B-8F2F-DD5109C0A5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C3F8F9-9E9F-449E-9CEA-7C9FD7C207C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011929-33E0-45B2-AAB1-C8B5AC816B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85544-8983-4B8E-908A-9C4142D34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3029D63-FBC1-40D9-BA35-313EA91473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A72E74-50B1-4260-8794-6DB2F989EF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436026-3D63-4900-8920-033CECE2867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BC221C-A803-4218-A317-E0228E1610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4E50F7-36E0-4175-B5CE-BAD8FC78610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089A87B-0DF4-4F98-82C7-38F1D7ABFB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F798FC-71B3-4E5C-B962-013025622C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8315BC-CAEA-4851-9CA1-E58245687CA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C443F2-B73E-4C37-AEA7-18B62D387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E75E0F-ED1C-4F1B-B2F5-B9DFD38A6C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5C44C-510B-4DCA-89F0-E16A2AE01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01AC91-D29F-44F9-9C29-9F99BDFA06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962F41-86FC-4E25-A4C7-ACEF315D9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CEF2F8-3692-470F-8755-8F3CE14F40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6DCDAE-CEEA-4E5F-BE91-C0AC17EEE9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C74F884-02AF-417A-A802-D5173EBB27E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E522AF9-C5B6-415C-AD56-3233AA54D1B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7DB9A0-F671-422C-8CB2-1B2F1167CA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CAFACB8-9853-4AB6-B3B7-3F6091B5DC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465964B-C52F-4BC0-A6F4-BB67BBE845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0B4A93-648A-4FA4-84AC-DD5EB7DA3A9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28D65-D00C-4865-9719-64CC1481C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DA749DF-9071-4DFF-9E8F-69D2EF076A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8634EA-631E-4E6A-A3E7-F3E5B869C2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EF4B5C-C2F1-43F2-A7E4-85E1E7470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832AF1-EF91-4303-9453-C69A721CC64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C8D969-CEB4-4960-B42C-8BEF265EEC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3B9F93-F91A-462A-970B-5865621E3A6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661E78D-B4A2-45DA-8567-6F6E5F05C4B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9AF3CA-2CA4-4821-9355-095E5BAB3F51}"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A1EAA-2C57-4069-A2D3-1E74FD75228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2F3271-45CC-410E-8366-B8DC73F7369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6D30C4-2FBE-4C60-BA2E-6D38F57FACB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9F6B1-982B-43BF-9881-AECB636D0AB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21B64F-FA4B-4FD7-8837-E761F32641C7}"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EA9D08-7F8B-4D9D-9599-1D84D0D7AD2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6E44AD-651D-42A9-ACEB-B3BB3E8F305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Times New Roman"/>
                <a:ea typeface="宋体"/>
              </a:rPr>
              <a:t>1.1 THERMAL STORAGE</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Calibri Light"/>
                <a:ea typeface="等线"/>
              </a:rPr>
              <a:t>热存储</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5048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324000" y="595440"/>
            <a:ext cx="849600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rmal storage is the temporary storage of high or low-temperature energy for later use.</a:t>
            </a:r>
            <a:r>
              <a:rPr b="0" lang="en-US" sz="1600" spc="-1" strike="noStrike" baseline="30000">
                <a:solidFill>
                  <a:srgbClr val="000000"/>
                </a:solidFill>
                <a:latin typeface="Times New Roman"/>
                <a:ea typeface="宋体"/>
              </a:rPr>
              <a:t> </a:t>
            </a:r>
            <a:r>
              <a:rPr b="0" lang="en-US" sz="1600" spc="-1" strike="noStrike">
                <a:solidFill>
                  <a:srgbClr val="000000"/>
                </a:solidFill>
                <a:latin typeface="Times New Roman"/>
                <a:ea typeface="宋体"/>
              </a:rPr>
              <a:t>Examples of thermal storage are the storage of solar energy for night heating and the storage of summer heat for winter use, the storage of winter ice for space cooling in the summer, and the storage of heat or coolness generated electrically during off-peak hours for use during subsequent peak hours. Most thermal storage applications involve a 24-hours storage cycle, although weekly and seasonal cycles are also us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hen the period of energy availability is longer than the period of energy use, thermal storage permits the installation of smaller heating or cooling equipment than would otherwise be required. In many cases, storage can provide benefits for both heating and cooling, either simultaneously or at different times of the yea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nditions favoring thermal storage include high loads of relatively short duration; high electric power demand charges; low cost electrical energy during off-peak hours; need for cooling backup in case of power outage or a refrigeration plant failure (only chilled water pumps must be powered by the emergency generator), need to provide cooling for small after-hour loads such as cooling of restaurants, mid-height elevator equipment rooms, individual offices, and computer rooms; building expansion (installation of storage may eliminate the need for heating/cooling plant expansion); need to provide a fire fighting reservoir; need to supplement a limited capacity generation plant; and other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2"/>
          <p:cNvSpPr/>
          <p:nvPr/>
        </p:nvSpPr>
        <p:spPr>
          <a:xfrm>
            <a:off x="250920" y="598320"/>
            <a:ext cx="828180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sensible heat storage, storage is accomplished by raising or lowering the temperature of the storage medium, i.e. , water, rock beds, bricks, sand, or soi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latent heat storage, storage is accomplished by a change in the physical state of the storage medium, usually from liquid to solid (heat of fusion) or vice versa. Typical materials are water/ice, salt hydrates, and certain polymers. Energy densities for latent heat storage are greater than those for sensible heat storage, which results in smaller and lighter storage devices and lower storage loss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torage efficiency is the ratio of energy that can be withdrawn from storage, divided by the amount put into storage.</a:t>
            </a:r>
            <a:r>
              <a:rPr b="0" lang="en-US" sz="1600" spc="-1" strike="noStrike" baseline="30000">
                <a:solidFill>
                  <a:srgbClr val="000000"/>
                </a:solidFill>
                <a:latin typeface="Times New Roman"/>
                <a:ea typeface="宋体"/>
              </a:rPr>
              <a:t> 4</a:t>
            </a:r>
            <a:r>
              <a:rPr b="0" lang="en-US" sz="1600" spc="-1" strike="noStrike">
                <a:solidFill>
                  <a:srgbClr val="000000"/>
                </a:solidFill>
                <a:latin typeface="Times New Roman"/>
                <a:ea typeface="宋体"/>
              </a:rPr>
              <a:t> Storage efficiencies up to 90% can be achieved in well-stratified water tanks that are fully charged and discharged on a daily cycle. All storage devices are subject to standby losses, which are generally proportional to the exposed surface area of the storage vessel.</a:t>
            </a:r>
            <a:r>
              <a:rPr b="0" lang="en-US" sz="1600" spc="-1" strike="noStrike" baseline="30000">
                <a:solidFill>
                  <a:srgbClr val="000000"/>
                </a:solidFill>
                <a:latin typeface="Times New Roman"/>
                <a:ea typeface="宋体"/>
              </a:rPr>
              <a:t>5</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or HVAC and refrigeration purposes, water and phase change materials (PCMs)-particularly ice-constitute the principal storage media. Soil, rock, and other solids are also used. Water has the advantage of universal availability, low cost, and transportability through other system components.  Some phase change materials are viscous and corrosive and must be segregated within the container for the heat transfer medium. If heating and cooling storage is required, two phase change materials must be provided, unless heat pumping is us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58" name="文本框 2" descr=""/>
          <p:cNvPicPr/>
          <p:nvPr/>
        </p:nvPicPr>
        <p:blipFill>
          <a:blip r:embed="rId1"/>
          <a:stretch/>
        </p:blipFill>
        <p:spPr>
          <a:xfrm>
            <a:off x="73080" y="811080"/>
            <a:ext cx="4243320" cy="4102200"/>
          </a:xfrm>
          <a:prstGeom prst="rect">
            <a:avLst/>
          </a:prstGeom>
          <a:ln w="0">
            <a:noFill/>
          </a:ln>
        </p:spPr>
      </p:pic>
      <p:sp>
        <p:nvSpPr>
          <p:cNvPr id="359" name="文本框 5"/>
          <p:cNvSpPr/>
          <p:nvPr/>
        </p:nvSpPr>
        <p:spPr>
          <a:xfrm>
            <a:off x="4457880" y="836640"/>
            <a:ext cx="45781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hase   n.   </a:t>
            </a:r>
            <a:r>
              <a:rPr b="0" lang="zh-CN" sz="1600" spc="-1" strike="noStrike">
                <a:solidFill>
                  <a:srgbClr val="000000"/>
                </a:solidFill>
                <a:latin typeface="Times New Roman"/>
                <a:ea typeface="宋体"/>
              </a:rPr>
              <a:t>阶段</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状态</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相</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相位</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ransportability   n.   </a:t>
            </a:r>
            <a:r>
              <a:rPr b="0" lang="zh-CN" sz="1600" spc="-1" strike="noStrike">
                <a:solidFill>
                  <a:srgbClr val="000000"/>
                </a:solidFill>
                <a:latin typeface="Times New Roman"/>
                <a:ea typeface="宋体"/>
              </a:rPr>
              <a:t>可运输性</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应处以流放</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mponent   n.   </a:t>
            </a:r>
            <a:r>
              <a:rPr b="0" lang="zh-CN" sz="1600" spc="-1" strike="noStrike">
                <a:solidFill>
                  <a:srgbClr val="000000"/>
                </a:solidFill>
                <a:latin typeface="Times New Roman"/>
                <a:ea typeface="宋体"/>
              </a:rPr>
              <a:t>元</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部</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件</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部</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分</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iscous   adj.   </a:t>
            </a:r>
            <a:r>
              <a:rPr b="0" lang="zh-CN" sz="1600" spc="-1" strike="noStrike">
                <a:solidFill>
                  <a:srgbClr val="000000"/>
                </a:solidFill>
                <a:latin typeface="Times New Roman"/>
                <a:ea typeface="宋体"/>
              </a:rPr>
              <a:t>粘性的</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粘滞的</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胶粘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rrosive   adj.   </a:t>
            </a:r>
            <a:r>
              <a:rPr b="0" lang="zh-CN" sz="1600" spc="-1" strike="noStrike">
                <a:solidFill>
                  <a:srgbClr val="000000"/>
                </a:solidFill>
                <a:latin typeface="Times New Roman"/>
                <a:ea typeface="宋体"/>
              </a:rPr>
              <a:t>腐蚀的</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蚀坏的</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腐蚀性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egregate   vt.   </a:t>
            </a:r>
            <a:r>
              <a:rPr b="0" lang="zh-CN" sz="1600" spc="-1" strike="noStrike">
                <a:solidFill>
                  <a:srgbClr val="000000"/>
                </a:solidFill>
                <a:latin typeface="Times New Roman"/>
                <a:ea typeface="宋体"/>
              </a:rPr>
              <a:t>分开</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离</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对</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实行种族隔离</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1" name="文本框 6"/>
          <p:cNvSpPr/>
          <p:nvPr/>
        </p:nvSpPr>
        <p:spPr>
          <a:xfrm>
            <a:off x="250920" y="612720"/>
            <a:ext cx="8569080" cy="325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Thermal storage is the temporary storage of high or low-temperature energy for later us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rmal storage   </a:t>
            </a:r>
            <a:r>
              <a:rPr b="0" lang="zh-CN" sz="1600" spc="-1" strike="noStrike">
                <a:solidFill>
                  <a:srgbClr val="000000"/>
                </a:solidFill>
                <a:latin typeface="Times New Roman"/>
                <a:ea typeface="宋体"/>
              </a:rPr>
              <a:t>应译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热贮存，蓄热以显热形式（温升）或潜热形式（相变）积聚在一物体或系统中的热量</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蓄热是暂时储存高温或低温能量以备后用。</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Examples of thermal storage are the storage of solar energy for night heating and the storage of summer heat for winter use, the storage of winter ice for space cooling in the summer, and the storage of heat or coolness generated electrically during off-peak hours for use during subsequent peak hou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off-peak hours</a:t>
            </a:r>
            <a:r>
              <a:rPr b="0" lang="zh-CN" sz="1600" spc="-1" strike="noStrike">
                <a:solidFill>
                  <a:srgbClr val="000000"/>
                </a:solidFill>
                <a:latin typeface="Times New Roman"/>
                <a:ea typeface="宋体"/>
              </a:rPr>
              <a:t>离峰时间（电力）；非交通繁忙时间；非峰荷时间。例如：</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llect this periodically during peak and off-peak hours.</a:t>
            </a:r>
            <a:r>
              <a:rPr b="0" lang="zh-CN" sz="1600" spc="-1" strike="noStrike">
                <a:solidFill>
                  <a:srgbClr val="000000"/>
                </a:solidFill>
                <a:latin typeface="Times New Roman"/>
                <a:ea typeface="宋体"/>
              </a:rPr>
              <a:t>在高峰和非高峰期定期收集这些信息。</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at meter will charge different prices for electricity depending on whether it's drawn during peak or off-peak hours.</a:t>
            </a:r>
            <a:r>
              <a:rPr b="0" lang="zh-CN" sz="1600" spc="-1" strike="noStrike">
                <a:solidFill>
                  <a:srgbClr val="000000"/>
                </a:solidFill>
                <a:latin typeface="Times New Roman"/>
                <a:ea typeface="宋体"/>
              </a:rPr>
              <a:t>该电表可以区别高峰时段和低谷时段来提供不同的电价。</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热储存的例子有</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储存太阳能用于夜间供暖，储存夏季热量供冬季使用，储存冬季冰用于夏季的空间冷却，以及储存非高峰时段用电产生的热量或凉爽，以供随后的高峰时段使用。</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3" name="文本框 6"/>
          <p:cNvSpPr/>
          <p:nvPr/>
        </p:nvSpPr>
        <p:spPr>
          <a:xfrm>
            <a:off x="250920" y="612720"/>
            <a:ext cx="8569080" cy="374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Conditions favoring thermal storage include high loads of relatively short duration; high electric power demand charges; low cost electrical energy during off-peak hours; need for cooling backup in case of power outage or a refrigeration plant failure (only chilled water pumps must be powered by the emergency generator), need to provide cooling for small after-hour loads such as cooling of restaurants, mid-height elevator equipment rooms, individual offices, and computer rooms; building expansion (installation of storage may eliminate the need fire fighting or heating/cooling plant expansion); need to provide a reservoir; need to supplement a limited capacity generation plant; and oth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这是一个长句。在科技英语中经常会遇到很长的句子，要认真分析其成分。本句是一个简单句，主语是</a:t>
            </a:r>
            <a:r>
              <a:rPr b="0" lang="en-US" sz="1600" spc="-1" strike="noStrike">
                <a:solidFill>
                  <a:srgbClr val="000000"/>
                </a:solidFill>
                <a:latin typeface="Times New Roman"/>
                <a:ea typeface="宋体"/>
              </a:rPr>
              <a:t>Condition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favoring thermal storage</a:t>
            </a:r>
            <a:r>
              <a:rPr b="0" lang="zh-CN" sz="1600" spc="-1" strike="noStrike">
                <a:solidFill>
                  <a:srgbClr val="000000"/>
                </a:solidFill>
                <a:latin typeface="Times New Roman"/>
                <a:ea typeface="宋体"/>
              </a:rPr>
              <a:t>是现在分词作定语修饰</a:t>
            </a:r>
            <a:r>
              <a:rPr b="0" lang="en-US" sz="1600" spc="-1" strike="noStrike">
                <a:solidFill>
                  <a:srgbClr val="000000"/>
                </a:solidFill>
                <a:latin typeface="Times New Roman"/>
                <a:ea typeface="宋体"/>
              </a:rPr>
              <a:t>conditions</a:t>
            </a:r>
            <a:r>
              <a:rPr b="0" lang="zh-CN" sz="1600" spc="-1" strike="noStrike">
                <a:solidFill>
                  <a:srgbClr val="000000"/>
                </a:solidFill>
                <a:latin typeface="Times New Roman"/>
                <a:ea typeface="宋体"/>
              </a:rPr>
              <a:t>；谓语是</a:t>
            </a:r>
            <a:r>
              <a:rPr b="0" lang="en-US" sz="1600" spc="-1" strike="noStrike">
                <a:solidFill>
                  <a:srgbClr val="000000"/>
                </a:solidFill>
                <a:latin typeface="Times New Roman"/>
                <a:ea typeface="宋体"/>
              </a:rPr>
              <a:t>include</a:t>
            </a:r>
            <a:r>
              <a:rPr b="0" lang="zh-CN" sz="1600" spc="-1" strike="noStrike">
                <a:solidFill>
                  <a:srgbClr val="000000"/>
                </a:solidFill>
                <a:latin typeface="Times New Roman"/>
                <a:ea typeface="宋体"/>
              </a:rPr>
              <a:t>，后面的是宾语部分，由若干并列成分构成。</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ower outage   </a:t>
            </a:r>
            <a:r>
              <a:rPr b="0" lang="zh-CN" sz="1600" spc="-1" strike="noStrike">
                <a:solidFill>
                  <a:srgbClr val="000000"/>
                </a:solidFill>
                <a:latin typeface="Times New Roman"/>
                <a:ea typeface="宋体"/>
              </a:rPr>
              <a:t>译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停电</a:t>
            </a:r>
            <a:r>
              <a:rPr b="0" lang="en-US"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fter-hour   </a:t>
            </a:r>
            <a:r>
              <a:rPr b="0" lang="zh-CN" sz="1600" spc="-1" strike="noStrike">
                <a:solidFill>
                  <a:srgbClr val="000000"/>
                </a:solidFill>
                <a:latin typeface="Times New Roman"/>
                <a:ea typeface="宋体"/>
              </a:rPr>
              <a:t>译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下班以后</a:t>
            </a:r>
            <a:r>
              <a:rPr b="0" lang="en-US"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有利于蓄热的条件包括高负荷相对较短的持续时间</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电力需求收费高；非高峰时段的低成本电能；需要在停电或制冷设备故障时提供备用冷却</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只有冷冻水泵必须由应急发电机供电</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需要为小的下班负荷提供冷却，如餐厅、中高电梯机房、个人办公室、电脑室的冷却；建筑物扩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安装储存库可能消除消防或增建供热</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制冷设备的需要</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需要提供蓄水池；需要补充容量有限的发电厂和其他人。</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5" name="文本框 6"/>
          <p:cNvSpPr/>
          <p:nvPr/>
        </p:nvSpPr>
        <p:spPr>
          <a:xfrm>
            <a:off x="250920" y="612720"/>
            <a:ext cx="8569080" cy="3501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Storage efficiency is the ratio of energy that can be withdrawn from storage, divided by the amount put into storage.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ratio of</a:t>
            </a:r>
            <a:r>
              <a:rPr b="0" lang="zh-CN" sz="1600" spc="-1" strike="noStrike">
                <a:solidFill>
                  <a:srgbClr val="000000"/>
                </a:solidFill>
                <a:latin typeface="Times New Roman"/>
                <a:ea typeface="宋体"/>
              </a:rPr>
              <a:t>意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比值</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例如：</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nd in practical terms, we can define the efficiency as the ratio of the heat in to the work out.</a:t>
            </a:r>
            <a:r>
              <a:rPr b="0" lang="zh-CN" sz="1600" spc="-1" strike="noStrike">
                <a:solidFill>
                  <a:srgbClr val="000000"/>
                </a:solidFill>
                <a:latin typeface="Times New Roman"/>
                <a:ea typeface="宋体"/>
              </a:rPr>
              <a:t>在实际中，我们定义</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效率为热与功的比值。</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ithdrawn </a:t>
            </a:r>
            <a:r>
              <a:rPr b="0" lang="zh-CN" sz="1600" spc="-1" strike="noStrike">
                <a:solidFill>
                  <a:srgbClr val="000000"/>
                </a:solidFill>
                <a:latin typeface="Times New Roman"/>
                <a:ea typeface="宋体"/>
              </a:rPr>
              <a:t>意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收回</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撤消</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例如：</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summons was withdrawn.</a:t>
            </a:r>
            <a:r>
              <a:rPr b="0" lang="zh-CN" sz="1600" spc="-1" strike="noStrike">
                <a:solidFill>
                  <a:srgbClr val="000000"/>
                </a:solidFill>
                <a:latin typeface="Times New Roman"/>
                <a:ea typeface="宋体"/>
              </a:rPr>
              <a:t>传票被撤回。</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存储效率是可以从存储中提取的能量除以存储的能量的比率。</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 All storage devices are subject to standby losses, which are generally proportional to the exposed surface area of the storage vesse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句中的</a:t>
            </a:r>
            <a:r>
              <a:rPr b="0" lang="en-US" sz="1600" spc="-1" strike="noStrike">
                <a:solidFill>
                  <a:srgbClr val="000000"/>
                </a:solidFill>
                <a:latin typeface="Times New Roman"/>
                <a:ea typeface="宋体"/>
              </a:rPr>
              <a:t>which</a:t>
            </a:r>
            <a:r>
              <a:rPr b="0" lang="zh-CN" sz="1600" spc="-1" strike="noStrike">
                <a:solidFill>
                  <a:srgbClr val="000000"/>
                </a:solidFill>
                <a:latin typeface="Times New Roman"/>
                <a:ea typeface="宋体"/>
              </a:rPr>
              <a:t>作关系代词，引出非限制性定语从句，指代</a:t>
            </a:r>
            <a:r>
              <a:rPr b="0" lang="en-US" sz="1600" spc="-1" strike="noStrike">
                <a:solidFill>
                  <a:srgbClr val="000000"/>
                </a:solidFill>
                <a:latin typeface="Times New Roman"/>
                <a:ea typeface="宋体"/>
              </a:rPr>
              <a:t>losses</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所有的存储设备都会受到待机损耗的影响，而待机损耗通常与存储容器的暴露表面积成正比。</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0T13:53:48Z</dcterms:modified>
  <cp:revision>2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