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C2D1D6-BF98-4859-8290-0A8B633DAF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F27B0-C390-4537-A782-38A93515A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7D397B-4D32-46C5-8922-6E0B3EC64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BA335B-F2F9-48E0-B59B-54C539F1CF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7EBBE0-B3EB-4D6F-93A5-0FDF2FA75B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4C4F58-D9E0-4254-A0B5-2AA14A84BD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F074FE-95CD-4CAC-ABD3-5395D75BF6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12086F-31E3-442E-9006-862AA30474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1EC369-2889-4D2C-8659-098D56D5C2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4D923-1B8E-493C-A997-E499F459B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A1822E-AEFD-4D76-8256-7D1F9DB4CC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795A5-19BC-4290-98DD-FCB65BC963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7D6434-4ADA-4B4F-908E-0FE9AA653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30E327-6A9C-4E6A-8889-40B1C310A6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8E9812-C312-494B-8A53-9EE1493A5C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C491CD-36E3-4311-9D5C-D4A75CC990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EFA5E-4E29-4972-A602-A64879EB5F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BD3CF8E-8AF4-4FD0-A9A2-DE4C740AC4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34EF070-0A35-4E9F-A4EA-F7B193DA2C1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3F40CA-2258-431A-A95F-6256E2AE4C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A6D06-220C-46EF-B394-96B7EC27F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3AC1D-B169-4227-96EE-D8A5C322D3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0C4C8-7F3E-4B7C-AD56-416E546150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AF0167-E1A9-4FAD-9F4C-B007C5B758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606E8C-C465-41F4-AD2D-A82FC00600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9F6721-5EB0-46E0-BA61-364C90C6C7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20C73E-DB11-497F-B88A-B1370288BD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C0096D-EB0E-41F7-8BB5-8ACC212AC2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794EB2-AF7A-4D12-90AB-1955FBBD2A6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264909-310C-43A8-927C-93D723774A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17BFA8-60F6-4212-A64A-020E56BCF43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B789FA-709F-4F11-8705-BFE1DF3073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B636242-AD1E-4095-91D7-CC355E2E1C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0AA5ED-A425-4264-B613-D1C90AF44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DAFB91-1F9E-4961-8546-C254ADB049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89B540-B897-4453-8740-C01F0AD4F0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5FF915C-B431-493C-AB4F-11257FA133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708AB9-8BE0-4770-A700-0D163CD2E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E8495D-F1FC-42DC-BDD5-E44BE8981E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A0DEED2-8AA5-4E86-AF42-DF742C3900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18CD7E-BD3C-486E-A8DB-F36E16FCA25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7531E3E-FC20-432F-A7A1-430A6514FEB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A03C0C6-9C2D-48CE-8D12-AD9D1F4B6E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D16F88E-322C-47A5-8BF0-DBAA507E21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1614A-7BB6-437D-991C-9A72DC86A5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EE1223-EF5B-4D9E-ADAB-3097409D88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286653-E32D-44E0-B6B4-E1B348432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4800C5-B662-4912-9911-F486015465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F708BC-B01B-4A29-A5F1-E908E09D16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938C3-0E39-4FD7-A598-438D3519EC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D2162C-986A-4E47-A843-357371745E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0708063-AD74-4C8E-BAF4-22FC8013932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4A5191-2A94-4DBD-AA22-3403BFE4A5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3DDCF0-1057-48CF-A3D3-ECB0A0DC4B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BC8AC0-5021-4CA8-93B1-A30DC3431BD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C2EA5-E19E-4ECA-AB70-27F3B7F94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6D8FA0A-C3A4-4FA9-BAB1-5EF8EF8C3F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A8BFF5-D603-4046-B247-BA3A261AF8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5C9ACB-C36E-4211-81AB-0A2CD5FB14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EE22C5-F0CF-4B61-AF37-9DE82367169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7C5F068-7622-40D7-B49E-97F4378F6C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E0F8CAC-7D77-4BCE-9BEE-7F7FDA50DD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290D55E-72DB-4C68-83FF-715BEECFDA7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4B5F2D-C7C4-43B1-8500-4FE864AE81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9E5F8A-A8C4-463B-897E-8EEA458E1E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25B3F-8A23-4CA5-A3C5-F7C7315E34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7037CF-F1A8-4AF1-A5C5-554454866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6A7CAAA-E23C-445F-9F3C-979D9BC2F6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F3496A-CC9B-4EDE-A1E1-F21F5641CCE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761D2B5-87C7-4A6F-BBE4-FD3DC36010D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E5D7BA1-C38C-459F-847D-A09101DF8E6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0EBF98-3B83-4721-88B9-F95A2BAE5A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BB4180-D375-4B85-8795-CEBF145502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9B303C-2530-4FF7-97DC-A7A9A31633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432AED-B43F-4D80-9396-6BFAE16DF0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8D93E1-94DA-463D-BA83-777C77441E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907A92-7F04-4AAA-9816-A7FD57C75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B4B26E-F253-4A85-9136-5D3144C36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5C9DA3-4E37-472B-AE59-CB1E78BB3B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49B828-4E1E-43BF-B1F8-82BC561CAC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F53398-5A44-46BF-BFF9-7D28CCF615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C220BD-1AC0-439A-BC56-99496CAA77B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5DA197-AB6D-49CA-B47F-758E5A8E19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D987C74-B347-424C-B55A-D97061582F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9B85134-9C73-4ABF-B569-8D904A2BCE8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D098D29-9429-4380-9981-CA183A065C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E1DB9E-B6CF-4E91-B9E7-184346181A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155B5E-177C-4279-8FEB-16685725FBA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CF020C-C03E-4729-9EA9-57D521F5B0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62ED0D-5178-4328-9002-8ADE6E5CC2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86DBF1-E3D2-40FE-A7E4-236AE50F08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AED784-A6D7-4623-AEA1-3CE2D8B489B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AD4E0A-0742-4E99-86CA-48602C68AC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2553C7-219A-44D3-9923-DA7351C6A5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0F6BC6C-D353-4C36-9291-8C11F9F6E23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34246C5-9188-4D2F-88FC-FBE5E366D55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326C46-EC90-447F-95E9-7C1E313655E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87952D-214F-4F32-95FB-B97FF31C2D0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A01A92-0073-4785-B61A-0A613CCECE9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4BB9C4-0872-4EBF-BB49-79023327EF1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5E9744-60FD-4B26-8438-3A94105CD0A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9FB142-8E17-42DB-84BE-AD3C265A239A}"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D1DEFE-7E10-4E11-97A4-9252231B71E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4A66B9-CAAA-4A6A-B795-9234B085B1B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4 Sensor Technology</a:t>
            </a:r>
            <a:endParaRPr b="0" lang="en-US" sz="1800" spc="-1" strike="noStrike">
              <a:solidFill>
                <a:srgbClr val="404040"/>
              </a:solidFill>
              <a:latin typeface="Calibri"/>
            </a:endParaRPr>
          </a:p>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20720" y="2786040"/>
            <a:ext cx="588960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68280" y="595440"/>
            <a:ext cx="835344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sensor is a device, which responds to an input quantity by generating a functionally related output usually in the form of an electrical or optical signal. Sensors and sensor systems perform a diversity of sensing functions allowing the acquisition, capture, communication, processing, and distribution of information about the states of physical systems. This may be chemical composition, texture and morphology, large-scale structure, position, and so on. Few products and services of the modem society would be possible without sensor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The sensor value chai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ensor technology is distinctly interdisciplinary. Few organizations have all the competencies necessary for the realization of a sensor solution in-hous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he realization of a sensor product requires tasks to be completed, ranging all the way from product definition to final product and subsequent marketing and service.</a:t>
            </a:r>
            <a:endParaRPr b="0" lang="en-US" sz="1800" spc="-1" strike="noStrike">
              <a:solidFill>
                <a:srgbClr val="000000"/>
              </a:solidFill>
              <a:latin typeface="Calibri"/>
            </a:endParaRPr>
          </a:p>
        </p:txBody>
      </p:sp>
      <p:sp>
        <p:nvSpPr>
          <p:cNvPr id="355" name="文本框 4"/>
          <p:cNvSpPr/>
          <p:nvPr/>
        </p:nvSpPr>
        <p:spPr>
          <a:xfrm>
            <a:off x="395280" y="3860640"/>
            <a:ext cx="8299440" cy="201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Wireless sensor technology</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For applications within health care, industrial automation, consumer products, and security there is a strong and growing need for wireless, self-powered sensors. Radio frequency identification technology (RFID) is an example of an emerging application with great potential. Sensors with wireless connections and no internal power supply are anticipated to become of great importance in areas like health care, consumer products, and structural health monitoring. Energy tapping, i.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7" name="文本框 2"/>
          <p:cNvSpPr/>
          <p:nvPr/>
        </p:nvSpPr>
        <p:spPr>
          <a:xfrm>
            <a:off x="324000" y="598320"/>
            <a:ext cx="835164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 sensor field where a large number of connected sensor nodes are embedded. Each node will consist of a wireless sensor often without any internal power supply. The sensor interacts with a transceiver which is again connected to an infrastructure, possibly to a so-called sink. The collection of data may be controlled by a managing device.</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Biometric sensor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This is another area where some markets are expected to exhibit strong growth over the next years®. Fingerprint identification equipment and iris scanners are examples of such markets that are spurred by the increasing demand within security.</a:t>
            </a:r>
            <a:endParaRPr b="0" lang="en-US" sz="1800" spc="-1" strike="noStrike">
              <a:solidFill>
                <a:srgbClr val="000000"/>
              </a:solidFill>
              <a:latin typeface="Calibri"/>
            </a:endParaRPr>
          </a:p>
        </p:txBody>
      </p:sp>
      <p:sp>
        <p:nvSpPr>
          <p:cNvPr id="358" name="文本框 4"/>
          <p:cNvSpPr/>
          <p:nvPr/>
        </p:nvSpPr>
        <p:spPr>
          <a:xfrm>
            <a:off x="299880" y="2906640"/>
            <a:ext cx="8353440" cy="2837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Times New Roman"/>
              </a:rPr>
              <a:t>Non-invasive &amp; non-contact sensor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n increasing number of applications call for noncontact sensing. Light and sound play important roles both independently and combined. Here, combinations of ultrasound and light are expected to become important in order to overcome the limitations inherent when using either light or sound independently.</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Miniaturization and integration Sensors are often used in large production plants. However, online sensing often has to be done in areas with limited space. Hostile environments require robust sensors and robustness may be obtained by miniaturization and integration. In optics, this may imply new system and fibre optics. In acoustics, new non-contact methods for excitation are being devis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3"/>
          <p:cNvSpPr/>
          <p:nvPr/>
        </p:nvSpPr>
        <p:spPr>
          <a:xfrm>
            <a:off x="358920" y="628560"/>
            <a:ext cx="8426160" cy="475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ovel materials. New materials are needed if a number of very different functional requirements are to be fulfilled at sufficiently low cost. It may be systems combining microfluidics with light generation and detection. Polymers are anticipated to play an increasingly larger role, both due to potential low cost and due to great flexibility in functional properties. Recent development of advanced microscopes has made it possible to see and even move single atoms and molecules. This opens opportunities for creating entirely new materials and processes. The technology has become known as nanotechnology and currently receives a lot of attentio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Not many companies have thus far reached the stage of commercialization, but intense research is in progress and expectations are very high.</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ensor fusion and sensor networks. Complex systems will often be monitored by a number of very different types of sensors. X-ray can reveal properties of weldings on-line, optics can detect chemical composition and macroscopic dynamics, whereas ultrasound may provide information about the inner structures of systems.</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Sensor fusion is combining such multisensory information in order to obtain new functionality. Moreover, systems with a large number of low-cost sensors coupled in networks are becoming increasingly import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2"/>
          <p:cNvSpPr/>
          <p:nvPr/>
        </p:nvSpPr>
        <p:spPr>
          <a:xfrm>
            <a:off x="250920" y="750960"/>
            <a:ext cx="417672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nsor technology   </a:t>
            </a:r>
            <a:r>
              <a:rPr b="0" lang="zh-CN" sz="1500" spc="-1" strike="noStrike">
                <a:solidFill>
                  <a:srgbClr val="000000"/>
                </a:solidFill>
                <a:latin typeface="Times New Roman"/>
                <a:ea typeface="宋体"/>
              </a:rPr>
              <a:t>传感技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quantity     n.</a:t>
            </a:r>
            <a:r>
              <a:rPr b="0" lang="zh-CN" sz="1500" spc="-1" strike="noStrike">
                <a:solidFill>
                  <a:srgbClr val="000000"/>
                </a:solidFill>
                <a:latin typeface="Times New Roman"/>
                <a:ea typeface="宋体"/>
              </a:rPr>
              <a:t>数目，数量，参量</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versity     n.</a:t>
            </a:r>
            <a:r>
              <a:rPr b="0" lang="zh-CN" sz="1500" spc="-1" strike="noStrike">
                <a:solidFill>
                  <a:srgbClr val="000000"/>
                </a:solidFill>
                <a:latin typeface="Times New Roman"/>
                <a:ea typeface="宋体"/>
              </a:rPr>
              <a:t>多样性，不同，差异</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pture      n.</a:t>
            </a:r>
            <a:r>
              <a:rPr b="0" lang="zh-CN" sz="1500" spc="-1" strike="noStrike">
                <a:solidFill>
                  <a:srgbClr val="000000"/>
                </a:solidFill>
                <a:latin typeface="Times New Roman"/>
                <a:ea typeface="宋体"/>
              </a:rPr>
              <a:t>捕获，占领，存储；</a:t>
            </a:r>
            <a:r>
              <a:rPr b="0" lang="en-US" sz="1500" spc="-1" strike="noStrike">
                <a:solidFill>
                  <a:srgbClr val="000000"/>
                </a:solidFill>
                <a:latin typeface="Times New Roman"/>
                <a:ea typeface="宋体"/>
              </a:rPr>
              <a:t>v. </a:t>
            </a:r>
            <a:r>
              <a:rPr b="0" lang="zh-CN" sz="1500" spc="-1" strike="noStrike">
                <a:solidFill>
                  <a:srgbClr val="000000"/>
                </a:solidFill>
                <a:latin typeface="Times New Roman"/>
                <a:ea typeface="宋体"/>
              </a:rPr>
              <a:t>俘获，记录，占领，体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ocessing    n.</a:t>
            </a:r>
            <a:r>
              <a:rPr b="0" lang="zh-CN" sz="1500" spc="-1" strike="noStrike">
                <a:solidFill>
                  <a:srgbClr val="000000"/>
                </a:solidFill>
                <a:latin typeface="Times New Roman"/>
                <a:ea typeface="宋体"/>
              </a:rPr>
              <a:t>过程语言（一种开源编程语言）</a:t>
            </a:r>
            <a:r>
              <a:rPr b="0" lang="en-US" sz="1500" spc="-1" strike="noStrike">
                <a:solidFill>
                  <a:srgbClr val="000000"/>
                </a:solidFill>
                <a:latin typeface="Times New Roman"/>
                <a:ea typeface="宋体"/>
              </a:rPr>
              <a:t>;v. </a:t>
            </a:r>
            <a:r>
              <a:rPr b="0" lang="zh-CN" sz="1500" spc="-1" strike="noStrike">
                <a:solidFill>
                  <a:srgbClr val="000000"/>
                </a:solidFill>
                <a:latin typeface="Times New Roman"/>
                <a:ea typeface="宋体"/>
              </a:rPr>
              <a:t>处理，加工，审核，计算</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hemical composition </a:t>
            </a:r>
            <a:r>
              <a:rPr b="0" lang="zh-CN" sz="1500" spc="-1" strike="noStrike">
                <a:solidFill>
                  <a:srgbClr val="000000"/>
                </a:solidFill>
                <a:latin typeface="Times New Roman"/>
                <a:ea typeface="宋体"/>
              </a:rPr>
              <a:t>化学成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exture    n.</a:t>
            </a:r>
            <a:r>
              <a:rPr b="0" lang="zh-CN" sz="1500" spc="-1" strike="noStrike">
                <a:solidFill>
                  <a:srgbClr val="000000"/>
                </a:solidFill>
                <a:latin typeface="Times New Roman"/>
                <a:ea typeface="宋体"/>
              </a:rPr>
              <a:t>质地，纹理，口感</a:t>
            </a:r>
            <a:r>
              <a:rPr b="0" lang="en-US" sz="1500" spc="-1" strike="noStrike">
                <a:solidFill>
                  <a:srgbClr val="000000"/>
                </a:solidFill>
                <a:latin typeface="Times New Roman"/>
                <a:ea typeface="宋体"/>
              </a:rPr>
              <a:t>;v. </a:t>
            </a:r>
            <a:r>
              <a:rPr b="0" lang="zh-CN" sz="1500" spc="-1" strike="noStrike">
                <a:solidFill>
                  <a:srgbClr val="000000"/>
                </a:solidFill>
                <a:latin typeface="Times New Roman"/>
                <a:ea typeface="宋体"/>
              </a:rPr>
              <a:t>使</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具有浮凸特征</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orphology  n.</a:t>
            </a:r>
            <a:r>
              <a:rPr b="0" lang="zh-CN" sz="1500" spc="-1" strike="noStrike">
                <a:solidFill>
                  <a:srgbClr val="000000"/>
                </a:solidFill>
                <a:latin typeface="Times New Roman"/>
                <a:ea typeface="宋体"/>
              </a:rPr>
              <a:t>形态学；词法，结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sensor value chain </a:t>
            </a:r>
            <a:r>
              <a:rPr b="0" lang="zh-CN" sz="1500" spc="-1" strike="noStrike">
                <a:solidFill>
                  <a:srgbClr val="000000"/>
                </a:solidFill>
                <a:latin typeface="Times New Roman"/>
                <a:ea typeface="宋体"/>
              </a:rPr>
              <a:t>传感器数值链</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stinctly   adv.</a:t>
            </a:r>
            <a:r>
              <a:rPr b="0" lang="zh-CN" sz="1500" spc="-1" strike="noStrike">
                <a:solidFill>
                  <a:srgbClr val="000000"/>
                </a:solidFill>
                <a:latin typeface="Times New Roman"/>
                <a:ea typeface="宋体"/>
              </a:rPr>
              <a:t>清楚地，明显地，非常</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terdisciplinary adj.</a:t>
            </a:r>
            <a:r>
              <a:rPr b="0" lang="zh-CN" sz="1500" spc="-1" strike="noStrike">
                <a:solidFill>
                  <a:srgbClr val="000000"/>
                </a:solidFill>
                <a:latin typeface="Times New Roman"/>
                <a:ea typeface="宋体"/>
              </a:rPr>
              <a:t>跨学科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mpetency  n.</a:t>
            </a:r>
            <a:r>
              <a:rPr b="0" lang="zh-CN" sz="1500" spc="-1" strike="noStrike">
                <a:solidFill>
                  <a:srgbClr val="000000"/>
                </a:solidFill>
                <a:latin typeface="Times New Roman"/>
                <a:ea typeface="宋体"/>
              </a:rPr>
              <a:t>能力，本领，权限；感受态，反应能力</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alization   n.</a:t>
            </a:r>
            <a:r>
              <a:rPr b="0" lang="zh-CN" sz="1500" spc="-1" strike="noStrike">
                <a:solidFill>
                  <a:srgbClr val="000000"/>
                </a:solidFill>
                <a:latin typeface="Times New Roman"/>
                <a:ea typeface="宋体"/>
              </a:rPr>
              <a:t>认识，领悟；实现，变卖；体现，发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ange from…  </a:t>
            </a:r>
            <a:r>
              <a:rPr b="0" lang="zh-CN" sz="1500" spc="-1" strike="noStrike">
                <a:solidFill>
                  <a:srgbClr val="000000"/>
                </a:solidFill>
                <a:latin typeface="Times New Roman"/>
                <a:ea typeface="宋体"/>
              </a:rPr>
              <a:t>范围从</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到</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p:txBody>
      </p:sp>
      <p:sp>
        <p:nvSpPr>
          <p:cNvPr id="363" name="文本框 5"/>
          <p:cNvSpPr/>
          <p:nvPr/>
        </p:nvSpPr>
        <p:spPr>
          <a:xfrm>
            <a:off x="4411800" y="671400"/>
            <a:ext cx="4578120" cy="465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ireless sensor technology  </a:t>
            </a:r>
            <a:r>
              <a:rPr b="0" lang="zh-CN" sz="1500" spc="-1" strike="noStrike">
                <a:solidFill>
                  <a:srgbClr val="000000"/>
                </a:solidFill>
                <a:latin typeface="Times New Roman"/>
                <a:ea typeface="宋体"/>
              </a:rPr>
              <a:t>无线传感技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curity   n. </a:t>
            </a:r>
            <a:r>
              <a:rPr b="0" lang="zh-CN" sz="1500" spc="-1" strike="noStrike">
                <a:solidFill>
                  <a:srgbClr val="000000"/>
                </a:solidFill>
                <a:latin typeface="Times New Roman"/>
                <a:ea typeface="宋体"/>
              </a:rPr>
              <a:t>保护措施，安全工作；保安部门，保障；安全感</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radio frequency identification technology (rfid) </a:t>
            </a:r>
            <a:r>
              <a:rPr b="0" lang="en-US" sz="1500" spc="-1" strike="noStrike">
                <a:solidFill>
                  <a:srgbClr val="000000"/>
                </a:solidFill>
                <a:latin typeface="宋体"/>
                <a:ea typeface="宋体"/>
              </a:rPr>
              <a:t>无线射频识别技术</a:t>
            </a:r>
            <a:r>
              <a:rPr b="0" lang="en-US" sz="1500" spc="-1" strike="noStrike">
                <a:solidFill>
                  <a:srgbClr val="000000"/>
                </a:solidFill>
                <a:latin typeface="Times New Roman"/>
                <a:ea typeface="Times New Roman"/>
              </a:rPr>
              <a:t>(rfid)</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otential  adj.</a:t>
            </a:r>
            <a:r>
              <a:rPr b="0" lang="zh-CN" sz="1500" spc="-1" strike="noStrike">
                <a:solidFill>
                  <a:srgbClr val="000000"/>
                </a:solidFill>
                <a:latin typeface="Times New Roman"/>
                <a:ea typeface="宋体"/>
              </a:rPr>
              <a:t>潜在的，可能的；</a:t>
            </a:r>
            <a:r>
              <a:rPr b="0" lang="en-US" sz="1500" spc="-1" strike="noStrike">
                <a:solidFill>
                  <a:srgbClr val="000000"/>
                </a:solidFill>
                <a:latin typeface="Times New Roman"/>
                <a:ea typeface="宋体"/>
              </a:rPr>
              <a:t>n.</a:t>
            </a:r>
            <a:r>
              <a:rPr b="0" lang="zh-CN" sz="1500" spc="-1" strike="noStrike">
                <a:solidFill>
                  <a:srgbClr val="000000"/>
                </a:solidFill>
                <a:latin typeface="Times New Roman"/>
                <a:ea typeface="宋体"/>
              </a:rPr>
              <a:t>潜能，电压，电位</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ransceiver    n.[</a:t>
            </a:r>
            <a:r>
              <a:rPr b="0" lang="zh-CN" sz="1500" spc="-1" strike="noStrike">
                <a:solidFill>
                  <a:srgbClr val="000000"/>
                </a:solidFill>
                <a:latin typeface="Times New Roman"/>
                <a:ea typeface="宋体"/>
              </a:rPr>
              <a:t>通信</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接收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frastructure  n.</a:t>
            </a:r>
            <a:r>
              <a:rPr b="0" lang="zh-CN" sz="1500" spc="-1" strike="noStrike">
                <a:solidFill>
                  <a:srgbClr val="000000"/>
                </a:solidFill>
                <a:latin typeface="Times New Roman"/>
                <a:ea typeface="宋体"/>
              </a:rPr>
              <a:t>基础设施</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o-called sink  </a:t>
            </a:r>
            <a:r>
              <a:rPr b="0" lang="zh-CN" sz="1500" spc="-1" strike="noStrike">
                <a:solidFill>
                  <a:srgbClr val="000000"/>
                </a:solidFill>
                <a:latin typeface="Times New Roman"/>
                <a:ea typeface="宋体"/>
              </a:rPr>
              <a:t>所谓的水槽</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iometric sensor </a:t>
            </a:r>
            <a:r>
              <a:rPr b="0" lang="zh-CN" sz="1500" spc="-1" strike="noStrike">
                <a:solidFill>
                  <a:srgbClr val="000000"/>
                </a:solidFill>
                <a:latin typeface="Times New Roman"/>
                <a:ea typeface="宋体"/>
              </a:rPr>
              <a:t>生物识别传感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on-invasive &amp; non-contact sensor</a:t>
            </a:r>
            <a:r>
              <a:rPr b="0" lang="zh-CN" sz="1500" spc="-1" strike="noStrike">
                <a:solidFill>
                  <a:srgbClr val="000000"/>
                </a:solidFill>
                <a:latin typeface="Times New Roman"/>
                <a:ea typeface="宋体"/>
              </a:rPr>
              <a:t>非侵入式和非接触式传感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ultrasound   n.</a:t>
            </a:r>
            <a:r>
              <a:rPr b="0" lang="zh-CN" sz="1500" spc="-1" strike="noStrike">
                <a:solidFill>
                  <a:srgbClr val="000000"/>
                </a:solidFill>
                <a:latin typeface="Times New Roman"/>
                <a:ea typeface="宋体"/>
              </a:rPr>
              <a:t>超声，超声波</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iniaturization n.</a:t>
            </a:r>
            <a:r>
              <a:rPr b="0" lang="zh-CN" sz="1500" spc="-1" strike="noStrike">
                <a:solidFill>
                  <a:srgbClr val="000000"/>
                </a:solidFill>
                <a:latin typeface="Times New Roman"/>
                <a:ea typeface="宋体"/>
              </a:rPr>
              <a:t>小型化，微型化</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tegration   n.</a:t>
            </a:r>
            <a:r>
              <a:rPr b="0" lang="zh-CN" sz="1500" spc="-1" strike="noStrike">
                <a:solidFill>
                  <a:srgbClr val="000000"/>
                </a:solidFill>
                <a:latin typeface="Times New Roman"/>
                <a:ea typeface="宋体"/>
              </a:rPr>
              <a:t>整合，一体化，融合</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ibre optics  </a:t>
            </a:r>
            <a:r>
              <a:rPr b="0" lang="zh-CN" sz="1500" spc="-1" strike="noStrike">
                <a:solidFill>
                  <a:srgbClr val="000000"/>
                </a:solidFill>
                <a:latin typeface="Times New Roman"/>
                <a:ea typeface="宋体"/>
              </a:rPr>
              <a:t>光纤</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icrofluidics  n. </a:t>
            </a:r>
            <a:r>
              <a:rPr b="0" lang="zh-CN" sz="1500" spc="-1" strike="noStrike">
                <a:solidFill>
                  <a:srgbClr val="000000"/>
                </a:solidFill>
                <a:latin typeface="Times New Roman"/>
                <a:ea typeface="宋体"/>
              </a:rPr>
              <a:t>微流体</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olymer     n. </a:t>
            </a:r>
            <a:r>
              <a:rPr b="0" lang="zh-CN" sz="1500" spc="-1" strike="noStrike">
                <a:solidFill>
                  <a:srgbClr val="000000"/>
                </a:solidFill>
                <a:latin typeface="Times New Roman"/>
                <a:ea typeface="宋体"/>
              </a:rPr>
              <a:t>聚合物</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anotechnology n.</a:t>
            </a:r>
            <a:r>
              <a:rPr b="0" lang="zh-CN" sz="1500" spc="-1" strike="noStrike">
                <a:solidFill>
                  <a:srgbClr val="000000"/>
                </a:solidFill>
                <a:latin typeface="Times New Roman"/>
                <a:ea typeface="宋体"/>
              </a:rPr>
              <a:t>纳米技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mmercialization n.</a:t>
            </a:r>
            <a:r>
              <a:rPr b="0" lang="zh-CN" sz="1500" spc="-1" strike="noStrike">
                <a:solidFill>
                  <a:srgbClr val="000000"/>
                </a:solidFill>
                <a:latin typeface="Times New Roman"/>
                <a:ea typeface="宋体"/>
              </a:rPr>
              <a:t>商业化</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usion  n.</a:t>
            </a:r>
            <a:r>
              <a:rPr b="0" lang="zh-CN" sz="1500" spc="-1" strike="noStrike">
                <a:solidFill>
                  <a:srgbClr val="000000"/>
                </a:solidFill>
                <a:latin typeface="Times New Roman"/>
                <a:ea typeface="宋体"/>
              </a:rPr>
              <a:t>融合，结合，核聚变；熔化，融合物</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croscopic dynamics  </a:t>
            </a:r>
            <a:r>
              <a:rPr b="0" lang="zh-CN" sz="1500" spc="-1" strike="noStrike">
                <a:solidFill>
                  <a:srgbClr val="000000"/>
                </a:solidFill>
                <a:latin typeface="Times New Roman"/>
                <a:ea typeface="宋体"/>
              </a:rPr>
              <a:t>宏观动力学</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5" name="文本框 2"/>
          <p:cNvSpPr/>
          <p:nvPr/>
        </p:nvSpPr>
        <p:spPr>
          <a:xfrm>
            <a:off x="179280" y="573120"/>
            <a:ext cx="864072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1. 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a:t>
            </a:r>
            <a:r>
              <a:rPr b="0" lang="en-US" sz="1600" spc="-1" strike="noStrike">
                <a:solidFill>
                  <a:srgbClr val="000000"/>
                </a:solidFill>
                <a:latin typeface="Times New Roman"/>
                <a:ea typeface="Times New Roman"/>
              </a:rPr>
              <a:t>Sensor technology is distinctly interdisciplinar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nterdisciplinary-</a:t>
            </a:r>
            <a:r>
              <a:rPr b="0" i="1" lang="en-US" sz="1600" spc="-1" strike="noStrike">
                <a:solidFill>
                  <a:srgbClr val="000000"/>
                </a:solidFill>
                <a:latin typeface="Times New Roman"/>
                <a:ea typeface="宋体"/>
              </a:rPr>
              <a:t> adj.</a:t>
            </a:r>
            <a:r>
              <a:rPr b="0" lang="zh-CN" sz="1600" spc="-1" strike="noStrike">
                <a:solidFill>
                  <a:srgbClr val="000000"/>
                </a:solidFill>
                <a:latin typeface="Times New Roman"/>
                <a:ea typeface="宋体"/>
              </a:rPr>
              <a:t>跨学科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传感器技术具有明显的跨学科性。</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a:t>
            </a:r>
            <a:r>
              <a:rPr b="0" lang="en-US" sz="1600" spc="-1" strike="noStrike">
                <a:solidFill>
                  <a:srgbClr val="000000"/>
                </a:solidFill>
                <a:latin typeface="Times New Roman"/>
                <a:ea typeface="Times New Roman"/>
              </a:rPr>
              <a:t>Polymers are anticipated to play an increasingly larger role, both due to potential low cost and due to great flexibility in functional properti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be anticipated to do-</a:t>
            </a:r>
            <a:r>
              <a:rPr b="0" lang="en-US" sz="1600" spc="-1" strike="noStrike">
                <a:solidFill>
                  <a:srgbClr val="000000"/>
                </a:solidFill>
                <a:latin typeface="宋体"/>
                <a:ea typeface="宋体"/>
              </a:rPr>
              <a:t>被期望</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预计用于做某事。</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聚合物由于其潜在的低成本和在功能特性上的巨大灵活性，预计将发挥越来越大的作用。</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a:t>
            </a:r>
            <a:r>
              <a:rPr b="0" lang="en-US" sz="1600" spc="-1" strike="noStrike">
                <a:solidFill>
                  <a:srgbClr val="000000"/>
                </a:solidFill>
                <a:latin typeface="Times New Roman"/>
                <a:ea typeface="Times New Roman"/>
              </a:rPr>
              <a:t>Sensor fusion is combining such multisensory information in order to obtain new functionalit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ultisensory-</a:t>
            </a:r>
            <a:r>
              <a:rPr b="0" i="1" lang="en-US" sz="1600" spc="-1" strike="noStrike">
                <a:solidFill>
                  <a:srgbClr val="000000"/>
                </a:solidFill>
                <a:latin typeface="Times New Roman"/>
                <a:ea typeface="宋体"/>
              </a:rPr>
              <a:t> adj.</a:t>
            </a:r>
            <a:r>
              <a:rPr b="0" lang="zh-CN" sz="1600" spc="-1" strike="noStrike">
                <a:solidFill>
                  <a:srgbClr val="000000"/>
                </a:solidFill>
                <a:latin typeface="Times New Roman"/>
                <a:ea typeface="宋体"/>
              </a:rPr>
              <a:t>多种感觉的；使用多种感觉器官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传感器融合就是将这些多感官信息结合起来，以获得新的功能。</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12-18T14:46:31Z</dcterms:modified>
  <cp:revision>2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