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D125F5-9748-4E2E-8AF0-A889A89C6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7B4DE2-D70E-4E76-ACDC-AE9670DF6E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E6F289-EDB6-488D-AA8F-60E3C132A6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C48D25-9BEF-4A1A-BB49-AB0773156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01869C-344A-4AC5-94AB-E32F3EDA4D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C0993C-E563-4962-B8F1-79FCE8B30B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4D0B2E-B66C-4BB1-B9F2-66D1DE0547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1D0A1A-4EA4-4200-8D16-5C444C795C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AF7EB-F6E6-43AD-A790-D5AD86FAA6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770E70-D172-40FE-8247-73E4738D3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44163D-EF82-4A16-8D8E-192538841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30DF4-393B-4E9E-AAFC-ED37054F26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C679D-94B0-40D6-A0DE-448D368F3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F9C97A-70CB-4826-AB90-E2525EDD8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3F1206-D2EB-4E60-BD4D-4B5925C64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487EB8-7EE9-4080-96CA-5BF4CB0266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7D8A43-8113-4BF4-B8E0-E9F60B5007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D3213B-A0BA-49DE-97A8-AEB6183B004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7E7C11-A274-40C2-A19A-43167DF614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7DE6C7-9C2A-4316-8B1A-F7232F4FD8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C593D6-4D6B-4F93-A686-3BDD43B40D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AE729D-76C1-4407-A879-0772C7DC24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19251-31C0-43D3-BC82-219309C4A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6EF7EB9-1C63-4145-9E72-2F85028531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B3D0AF-C961-450A-B53B-F80264B502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7C3A2C-819E-401E-9A3B-428F7F751F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951BB8-B713-4B1C-81F6-AC71105F10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507295-88A2-4D23-AE31-D5D24E237B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648D58-704B-4B38-BC63-BE5D261A54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3400392-8DB0-41AF-9972-F790F48D3C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AE75C4-A36F-4BEE-9FE0-B2EA48A7A4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8C7DD76-A542-4639-A94D-6C3A6D04D3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844771-4832-487D-B7F6-58F6F39C28F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3067C-15FD-40E4-882F-ED57D92D3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0CB986-2566-4C44-842B-1B98788246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9CDC7B-B10B-4AD2-8190-E62817EDE2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6F4F18-BF37-41A0-998D-FA7FA9D5F3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4E931C-87C7-4CAB-8FD7-491B6BF328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8A6C57-9BCC-4681-B468-097D550292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31DBD6-2F65-42BD-800C-260B5AB9673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D4DD7E-339C-4225-9622-083B40868F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E25220F-9125-4B0C-9707-0C41132267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16E356-07A8-4222-8442-2E4D6074CA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C963DE-EA4A-4151-AFC9-9E49EAEA078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7C3E6-F005-4BB7-8809-FC204FAA0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38A0F8-BF84-4AB4-8F9E-1736B5B202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AD058D2-9B91-4415-BDBD-348D9344C3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E1A6429-FF9A-47A0-8DDF-A0B5F10D1B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1DA771-8ACD-4591-A976-1B134DC1C1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2693A83-4508-49FD-80B2-E9AB5B640F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18B76E-36BD-47F1-A476-AEFD12769A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5C9CAF-252C-41CB-84E6-AAD5057A77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6658F3-E2C2-40E9-BDDB-B0F575FB162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69CF26D-F6CD-4DEE-9A0B-C80F22D608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BCFA0B3-4F02-4247-BD69-6B360CC39BA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BEC5B8-B51F-4263-8B81-B49C781D5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C9A2DFB-4F51-4C84-BB87-2EB89378B5B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FFCD76-A1CF-4C10-9550-8302B1DFB8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19BE87-278B-4253-AB32-3053DE9EB86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318DFD-4E3F-4737-8480-22C3808D0EC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8F37CC9-C4A7-4778-91B8-3BBE7366C5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20A88F-3FB3-4A77-BF90-6E95F9CE00F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B918F2-9F02-4FDA-9D20-CB5C350535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DABE8D-B6E3-4054-93CD-24269934D0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2A9BE1-7C24-4693-9030-E7FFCFA324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FBCF086-E228-4F51-922B-8C9EEBFAF0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1C990-3693-4690-8CDE-3E3D2F8D4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FD879F-592B-414A-9C0F-2E5C874BAE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09BF29B-AA1E-454B-91F7-DE82BD3E324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3E1D217-3B0F-47FF-AFC3-493E0E252C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8D5CE5-BC04-4D2B-A998-33B269FB77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D12A12B-CF96-4585-9D45-6C3E9ECECA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F2C8ED-B347-4C17-9909-7FC4C35279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6EDDB4-BCD3-48F8-AA2A-0C1AC075AF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DB8CD9-7F12-469B-A3BB-F1BA102CE2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976C3F-26F3-4A88-8775-A987EA00CC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7E8489-6DA7-401D-922F-58719E92E4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07FAB-F8C1-427E-A14D-1F9AA9F3B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FDBA00-04F5-44CC-AF13-244525A426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E29A32-028D-4331-ACAD-867185E958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FC4678-A5E3-45C2-A839-1029EC04C5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9F436D-4B27-417A-B9E7-069CD477F3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163381-99FF-4A3D-8FFB-CC433BC50C2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0C9998-AC56-42C9-BC11-A75B6444DD1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964CF9-3543-437B-81FC-9EA5FCA13D2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A610A5-0119-413B-95BC-068A96552F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3CCBA4F-2867-41A7-84E0-33BD6AC51E4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5ACDD6-DCA1-4069-A186-AC207285FF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F3161-867D-49BA-B842-5E3C96A1F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CF8D44E-CEBD-4D96-BD30-B21F90092E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071144-8CAA-4F3E-9393-85D3E4120B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BA66B4-2A3D-427D-9022-CA78E8AE85B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159EE9-3C9A-4C07-93A5-82B64AFE83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81CC010-600B-4D30-ABA0-C931A969EC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10A58A-DB75-4AFB-8291-3B8C90BDC1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9304F1-48FC-471A-9A8E-DB84B7D9E69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236F37-C08F-455D-AEE2-8FB36884935D}"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B85419-C22A-4379-96FA-0E5C20C7EA3B}"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12CE73-10E4-4F85-A945-FEE81F049D8D}"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1DBF92-015B-4192-B110-1B9544C03E60}"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2A4889-A1AE-4BC9-8992-6AC839FB03C2}"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A81EE7-BB4F-48FC-B883-63F40C6D85C7}"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411A66-39AA-44B1-B711-0BE6E9C7ADE1}"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0B5DF9-46C3-4452-9FAC-A2DE39B0C92D}"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547640" y="4446360"/>
            <a:ext cx="6400800" cy="1130040"/>
          </a:xfrm>
          <a:prstGeom prst="rect">
            <a:avLst/>
          </a:prstGeom>
          <a:noFill/>
          <a:ln w="0">
            <a:noFill/>
          </a:ln>
        </p:spPr>
        <p:txBody>
          <a:bodyPr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宋体"/>
              </a:rPr>
              <a:t>2.1 MONITOR</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监护仪</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46280" y="2938320"/>
            <a:ext cx="5851440" cy="128592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22320" y="25704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2"/>
          <p:cNvSpPr/>
          <p:nvPr/>
        </p:nvSpPr>
        <p:spPr>
          <a:xfrm>
            <a:off x="539640" y="604800"/>
            <a:ext cx="835344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The concept of a monito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Medical monitoring instruments can continuously monitor the physiological parameters of the human body for a long time, and can store, display, analyze, and control the test results. When abnormal situations occur, alarms are issued to remind medical staff to handle them in a timely manner.</a:t>
            </a:r>
            <a:endParaRPr b="0" lang="en-US" sz="1600" spc="-1" strike="noStrike">
              <a:solidFill>
                <a:srgbClr val="000000"/>
              </a:solidFill>
              <a:latin typeface="Calibri"/>
            </a:endParaRPr>
          </a:p>
        </p:txBody>
      </p:sp>
      <p:pic>
        <p:nvPicPr>
          <p:cNvPr id="355" name="图片 4" descr=""/>
          <p:cNvPicPr/>
          <p:nvPr/>
        </p:nvPicPr>
        <p:blipFill>
          <a:blip r:embed="rId1"/>
          <a:stretch/>
        </p:blipFill>
        <p:spPr>
          <a:xfrm>
            <a:off x="2265480" y="1773360"/>
            <a:ext cx="5143320" cy="1058760"/>
          </a:xfrm>
          <a:prstGeom prst="rect">
            <a:avLst/>
          </a:prstGeom>
          <a:ln w="0">
            <a:noFill/>
          </a:ln>
        </p:spPr>
      </p:pic>
      <p:sp>
        <p:nvSpPr>
          <p:cNvPr id="356" name="文本框 5"/>
          <p:cNvSpPr/>
          <p:nvPr/>
        </p:nvSpPr>
        <p:spPr>
          <a:xfrm>
            <a:off x="2533680" y="2855880"/>
            <a:ext cx="4608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igure 1-4 Schematic diagram of the monitor</a:t>
            </a:r>
            <a:endParaRPr b="0" lang="en-US" sz="1600" spc="-1" strike="noStrike">
              <a:solidFill>
                <a:srgbClr val="000000"/>
              </a:solidFill>
              <a:latin typeface="Calibri"/>
            </a:endParaRPr>
          </a:p>
        </p:txBody>
      </p:sp>
      <p:sp>
        <p:nvSpPr>
          <p:cNvPr id="357" name="文本框 7"/>
          <p:cNvSpPr/>
          <p:nvPr/>
        </p:nvSpPr>
        <p:spPr>
          <a:xfrm>
            <a:off x="534960" y="3112920"/>
            <a:ext cx="8353440" cy="325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The purpose of the monito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is patient monitor is intended to be used for monitoring, displaying, reviewing, storing and transferring of multiple physiological parameters including ECG, heart rate (HR), respiration (Resp), temperature (Temp), SpO2, pulse rate (PR), non-invasive blood pressure (NIBP), invasive blood pressure (IBP), cardiac output (C.O.), carbon dioxide (CO2), oxygen (O2), anesthetic gas (AG), impedance cardiograph (ICG), bispectral index (BIS) and respiration mechanics (RM) of single adult, pediatric and neonatal patients.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terpretation of resting 12-lead ECG and C.O. monitoring are restricted to adult patients only. The ICG is only for use on adult patients who meet the following requirements: height: 122 to 229 cm, weight: 30 to 159 kg. The arrhythmia detection, ST-segment, BIS and RM monitoring are not intended for neonatal patients.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is monitor is to be used in healthcare facilities by clinical professionals or under their direction. It is not intended for helicopter transport, hospital ambulance, or home use.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文本框 9"/>
          <p:cNvSpPr/>
          <p:nvPr/>
        </p:nvSpPr>
        <p:spPr>
          <a:xfrm>
            <a:off x="12600" y="263520"/>
            <a:ext cx="45770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9" name="文本框 3"/>
          <p:cNvSpPr/>
          <p:nvPr/>
        </p:nvSpPr>
        <p:spPr>
          <a:xfrm>
            <a:off x="324000" y="601560"/>
            <a:ext cx="42656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Introduction to the Display Screen of the Monito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is patient monitor adopts a high-resolution TFT LCD to display patient parameters and waveforms. A typical display screen is shown below.</a:t>
            </a:r>
            <a:endParaRPr b="0" lang="en-US" sz="1600" spc="-1" strike="noStrike">
              <a:solidFill>
                <a:srgbClr val="000000"/>
              </a:solidFill>
              <a:latin typeface="Calibri"/>
            </a:endParaRPr>
          </a:p>
        </p:txBody>
      </p:sp>
      <p:pic>
        <p:nvPicPr>
          <p:cNvPr id="360" name="图片 24" descr=""/>
          <p:cNvPicPr/>
          <p:nvPr/>
        </p:nvPicPr>
        <p:blipFill>
          <a:blip r:embed="rId1"/>
          <a:stretch/>
        </p:blipFill>
        <p:spPr>
          <a:xfrm>
            <a:off x="4869000" y="266760"/>
            <a:ext cx="3779640" cy="3162240"/>
          </a:xfrm>
          <a:prstGeom prst="rect">
            <a:avLst/>
          </a:prstGeom>
          <a:ln w="0">
            <a:noFill/>
          </a:ln>
        </p:spPr>
      </p:pic>
      <p:sp>
        <p:nvSpPr>
          <p:cNvPr id="361" name="文本框 6"/>
          <p:cNvSpPr/>
          <p:nvPr/>
        </p:nvSpPr>
        <p:spPr>
          <a:xfrm>
            <a:off x="4464000" y="3429000"/>
            <a:ext cx="4591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igure 1-5 Typical Monitor Display Interface</a:t>
            </a:r>
            <a:endParaRPr b="0" lang="en-US" sz="1600" spc="-1" strike="noStrike">
              <a:solidFill>
                <a:srgbClr val="000000"/>
              </a:solidFill>
              <a:latin typeface="Calibri"/>
            </a:endParaRPr>
          </a:p>
        </p:txBody>
      </p:sp>
      <p:sp>
        <p:nvSpPr>
          <p:cNvPr id="362" name="文本框 8"/>
          <p:cNvSpPr/>
          <p:nvPr/>
        </p:nvSpPr>
        <p:spPr>
          <a:xfrm>
            <a:off x="324000" y="2395440"/>
            <a:ext cx="41400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Patient Information Area </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is area shows the patient information such as department, bed number, patient name, patient category and paced status. </a:t>
            </a:r>
            <a:endParaRPr b="0" lang="en-US" sz="1600" spc="-1" strike="noStrike">
              <a:solidFill>
                <a:srgbClr val="000000"/>
              </a:solidFill>
              <a:latin typeface="Calibri"/>
            </a:endParaRPr>
          </a:p>
        </p:txBody>
      </p:sp>
      <p:pic>
        <p:nvPicPr>
          <p:cNvPr id="363" name="图片 15" descr=""/>
          <p:cNvPicPr/>
          <p:nvPr/>
        </p:nvPicPr>
        <p:blipFill>
          <a:blip r:embed="rId2"/>
          <a:stretch/>
        </p:blipFill>
        <p:spPr>
          <a:xfrm>
            <a:off x="539640" y="3909960"/>
            <a:ext cx="5472360" cy="2336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65" name="图片 3" descr=""/>
          <p:cNvPicPr/>
          <p:nvPr/>
        </p:nvPicPr>
        <p:blipFill>
          <a:blip r:embed="rId1"/>
          <a:stretch/>
        </p:blipFill>
        <p:spPr>
          <a:xfrm>
            <a:off x="324000" y="692280"/>
            <a:ext cx="3686040" cy="3295440"/>
          </a:xfrm>
          <a:prstGeom prst="rect">
            <a:avLst/>
          </a:prstGeom>
          <a:ln w="0">
            <a:noFill/>
          </a:ln>
        </p:spPr>
      </p:pic>
      <p:sp>
        <p:nvSpPr>
          <p:cNvPr id="366" name="文本框 5"/>
          <p:cNvSpPr/>
          <p:nvPr/>
        </p:nvSpPr>
        <p:spPr>
          <a:xfrm>
            <a:off x="4356000" y="260280"/>
            <a:ext cx="4595760" cy="593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3. Technical Alarm Area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is area shows technical alarm messages and prompt messages. When multiple messages come, they will be displayed circularly. Select this area and the technical alarm list will be displayed.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4. Physiological Alarm Area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is area shows physiological alarm messages. When multiple alarms occur, they will be displayed circularly. Select this area and the physiological alarm list will be displayed.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5. Waveform Area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is area shows measurement waveforms. The waveform name is displayed at the left upper corner of the waveform. Select this area and the corresponding measurement setup menu will be displayed.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6. Parameter Area A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is area shows measurement parameters. Each monitored parameter has a parameter window and the parameter name is displayed at the upper left corner. The corresponding waveform of each parameter is displayed in the same row in the waveform area. Select this area and the corresponding measurement setup menu will be displayed. </a:t>
            </a:r>
            <a:endParaRPr b="0" lang="en-US" sz="1600" spc="-1" strike="noStrike">
              <a:solidFill>
                <a:srgbClr val="000000"/>
              </a:solidFill>
              <a:latin typeface="Calibri"/>
            </a:endParaRPr>
          </a:p>
        </p:txBody>
      </p:sp>
      <p:sp>
        <p:nvSpPr>
          <p:cNvPr id="367" name="文本框 7"/>
          <p:cNvSpPr/>
          <p:nvPr/>
        </p:nvSpPr>
        <p:spPr>
          <a:xfrm>
            <a:off x="195120" y="3987720"/>
            <a:ext cx="403236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 Parameter Area B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or the parameters displayed in this area, their corresponding waveform are not displayed. </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8. Prompt Message Area </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is area shows the prompt messages, network status icons, battery status icons, date and time, etc. For details about battery status symbols, refer to the chapter 28 Batterie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69" name="图片 2" descr=""/>
          <p:cNvPicPr/>
          <p:nvPr/>
        </p:nvPicPr>
        <p:blipFill>
          <a:blip r:embed="rId1"/>
          <a:stretch/>
        </p:blipFill>
        <p:spPr>
          <a:xfrm>
            <a:off x="179280" y="625320"/>
            <a:ext cx="4032360" cy="4726080"/>
          </a:xfrm>
          <a:prstGeom prst="rect">
            <a:avLst/>
          </a:prstGeom>
          <a:ln w="0">
            <a:noFill/>
          </a:ln>
        </p:spPr>
      </p:pic>
      <p:sp>
        <p:nvSpPr>
          <p:cNvPr id="370" name="文本框 4"/>
          <p:cNvSpPr/>
          <p:nvPr/>
        </p:nvSpPr>
        <p:spPr>
          <a:xfrm>
            <a:off x="4232160" y="849240"/>
            <a:ext cx="459576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Clinical application of medical monitor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ccording to different clinical nursing objects and monitoring purposes, clinical monitors are used for the following nursing monitoring: monitoring during and after surgery; Delivery monitoring and fetal monitoring; Monitoring of critically ill patients; Monitoring of patients during the recovery period; Monitoring of patients undergoing treatment (kidney dialysis, hyperbaric oxygen chamber, radiation therapy, mental illness, etc.).</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Various special monitors, also called monitoring systems, are used in departments and wards as needed, mainly including: critical patient monitors, coronary heart disease monitors, delivery monitors, neonatal and preterm infant monitors, Intracranial pressure monitors, anesthesia monitors, sleep monitors, etc.</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2" name="文本框 3"/>
          <p:cNvSpPr/>
          <p:nvPr/>
        </p:nvSpPr>
        <p:spPr>
          <a:xfrm>
            <a:off x="468360" y="598320"/>
            <a:ext cx="828036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hysiological and biochemical parameters monitored by the monitor: such as ECG monitoring, respiratory monitoring, non-invasive blood pressure monitoring, invasive blood pressure monitoring, airway carbon dioxide monitoring, airway oxygen monitoring, blood volume auxiliary monitoring, blood oxygen saturation/blood volume monitoring, temperature monitoring, pH value monitoring, blood gas monitoring, etc. In addition to the monitoring function, the medical monitor also has the function of disease diagnosis and treatment, as well as the rescue function, such as Holter monitor, blood pressure monitor, heart defibrillation monitor, etc.</a:t>
            </a:r>
            <a:endParaRPr b="0" lang="en-US" sz="1600" spc="-1" strike="noStrike">
              <a:solidFill>
                <a:srgbClr val="000000"/>
              </a:solidFill>
              <a:latin typeface="Calibri"/>
            </a:endParaRPr>
          </a:p>
        </p:txBody>
      </p:sp>
      <p:sp>
        <p:nvSpPr>
          <p:cNvPr id="373" name="文本框 6"/>
          <p:cNvSpPr/>
          <p:nvPr/>
        </p:nvSpPr>
        <p:spPr>
          <a:xfrm>
            <a:off x="517680" y="2414520"/>
            <a:ext cx="813564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Structure of medical monitor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Modern medical monitoring instruments mainly consist of four parts, namely vital sign measurement components, host and system, connection interfaces, and sensors and electrodes. The brief description of the functions of each part is as follow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vital sign measurement component mainly includes various measurement components for measuring human vital signs such as electrocardiogram, respiration, body temperature, blood pressure, pulse oxygen saturation, and end-breathing carbon dioxid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host and system mainly include the main control board, display, keyboard, recorder and operation software, and other external expansion equipmen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re is a requirement for bidirectional communication between the vital sign measurement component and the host interface, so it is necessary to set feature recognition for each vital sign measurement module to facilitate targeted operations by the hos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connection forms of sensors, connecting cables, and vital sign measurement components are divided into hard connection and intelligent connec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5" name="文本框 3"/>
          <p:cNvSpPr/>
          <p:nvPr/>
        </p:nvSpPr>
        <p:spPr>
          <a:xfrm>
            <a:off x="539640" y="907920"/>
            <a:ext cx="734400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monitor   n.</a:t>
            </a:r>
            <a:r>
              <a:rPr b="0" lang="zh-CN" sz="1600" spc="-1" strike="noStrike">
                <a:solidFill>
                  <a:srgbClr val="000000"/>
                </a:solidFill>
                <a:latin typeface="Times New Roman"/>
                <a:ea typeface="宋体"/>
              </a:rPr>
              <a:t>监护仪，显示器，班长；</a:t>
            </a:r>
            <a:r>
              <a:rPr b="0" lang="en-US" sz="1600" spc="-1" strike="noStrike">
                <a:solidFill>
                  <a:srgbClr val="000000"/>
                </a:solidFill>
                <a:latin typeface="Times New Roman"/>
                <a:ea typeface="宋体"/>
              </a:rPr>
              <a:t>v.</a:t>
            </a:r>
            <a:r>
              <a:rPr b="0" lang="zh-CN" sz="1600" spc="-1" strike="noStrike">
                <a:solidFill>
                  <a:srgbClr val="000000"/>
                </a:solidFill>
                <a:latin typeface="Times New Roman"/>
                <a:ea typeface="宋体"/>
              </a:rPr>
              <a:t>监视，监听</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hysiological parameter  </a:t>
            </a:r>
            <a:r>
              <a:rPr b="0" lang="zh-CN" sz="1600" spc="-1" strike="noStrike">
                <a:solidFill>
                  <a:srgbClr val="000000"/>
                </a:solidFill>
                <a:latin typeface="Times New Roman"/>
                <a:ea typeface="宋体"/>
              </a:rPr>
              <a:t>生理参数</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display   n.</a:t>
            </a:r>
            <a:r>
              <a:rPr b="0" lang="zh-CN" sz="1600" spc="-1" strike="noStrike">
                <a:solidFill>
                  <a:srgbClr val="000000"/>
                </a:solidFill>
                <a:latin typeface="Times New Roman"/>
                <a:ea typeface="宋体"/>
              </a:rPr>
              <a:t>显示，陈列</a:t>
            </a:r>
            <a:r>
              <a:rPr b="0" lang="en-US" sz="1600" spc="-1" strike="noStrike">
                <a:solidFill>
                  <a:srgbClr val="000000"/>
                </a:solidFill>
                <a:latin typeface="Times New Roman"/>
                <a:ea typeface="宋体"/>
              </a:rPr>
              <a:t>;v.</a:t>
            </a:r>
            <a:r>
              <a:rPr b="0" lang="zh-CN" sz="1600" spc="-1" strike="noStrike">
                <a:solidFill>
                  <a:srgbClr val="000000"/>
                </a:solidFill>
                <a:latin typeface="Times New Roman"/>
                <a:ea typeface="宋体"/>
              </a:rPr>
              <a:t>表演，展览，显示</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ECG  abbr. </a:t>
            </a:r>
            <a:r>
              <a:rPr b="0" lang="zh-CN" sz="1600" spc="-1" strike="noStrike">
                <a:solidFill>
                  <a:srgbClr val="000000"/>
                </a:solidFill>
                <a:latin typeface="Times New Roman"/>
                <a:ea typeface="宋体"/>
              </a:rPr>
              <a:t>心电图（</a:t>
            </a:r>
            <a:r>
              <a:rPr b="0" lang="en-US" sz="1600" spc="-1" strike="noStrike">
                <a:solidFill>
                  <a:srgbClr val="000000"/>
                </a:solidFill>
                <a:latin typeface="Times New Roman"/>
                <a:ea typeface="宋体"/>
              </a:rPr>
              <a:t>Electrocardiograph</a:t>
            </a:r>
            <a:r>
              <a:rPr b="0" lang="zh-CN" sz="1600" spc="-1" strike="noStrike">
                <a:solidFill>
                  <a:srgbClr val="000000"/>
                </a:solidFill>
                <a:latin typeface="Times New Roman"/>
                <a:ea typeface="宋体"/>
              </a:rPr>
              <a: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respiration  n. </a:t>
            </a:r>
            <a:r>
              <a:rPr b="0" lang="zh-CN" sz="1600" spc="-1" strike="noStrike">
                <a:solidFill>
                  <a:srgbClr val="000000"/>
                </a:solidFill>
                <a:latin typeface="Times New Roman"/>
                <a:ea typeface="宋体"/>
              </a:rPr>
              <a:t>呼吸；（医）一次呼吸</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ulse rate  </a:t>
            </a:r>
            <a:r>
              <a:rPr b="0" lang="zh-CN" sz="1600" spc="-1" strike="noStrike">
                <a:solidFill>
                  <a:srgbClr val="000000"/>
                </a:solidFill>
                <a:latin typeface="Times New Roman"/>
                <a:ea typeface="宋体"/>
              </a:rPr>
              <a:t>脉搏率：心脏每分钟跳动的次数</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non-invasive blood pressure(NIBP) </a:t>
            </a:r>
            <a:r>
              <a:rPr b="0" lang="zh-CN" sz="1600" spc="-1" strike="noStrike">
                <a:solidFill>
                  <a:srgbClr val="000000"/>
                </a:solidFill>
                <a:latin typeface="Times New Roman"/>
                <a:ea typeface="宋体"/>
              </a:rPr>
              <a:t>无创血压</a:t>
            </a:r>
            <a:r>
              <a:rPr b="0" lang="en-US" sz="1600" spc="-1" strike="noStrike">
                <a:solidFill>
                  <a:srgbClr val="000000"/>
                </a:solidFill>
                <a:latin typeface="Times New Roman"/>
                <a:ea typeface="宋体"/>
              </a:rPr>
              <a:t>(NIBP)</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arbon dioxide (CO2)  </a:t>
            </a:r>
            <a:r>
              <a:rPr b="0" lang="zh-CN" sz="1600" spc="-1" strike="noStrike">
                <a:solidFill>
                  <a:srgbClr val="000000"/>
                </a:solidFill>
                <a:latin typeface="Times New Roman"/>
                <a:ea typeface="宋体"/>
              </a:rPr>
              <a:t>二氧化碳</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nesthetic gas (AG)  </a:t>
            </a:r>
            <a:r>
              <a:rPr b="0" lang="zh-CN" sz="1600" spc="-1" strike="noStrike">
                <a:solidFill>
                  <a:srgbClr val="000000"/>
                </a:solidFill>
                <a:latin typeface="Times New Roman"/>
                <a:ea typeface="宋体"/>
              </a:rPr>
              <a:t>麻醉气体</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mpedance cardiograph (ICG) </a:t>
            </a:r>
            <a:r>
              <a:rPr b="0" lang="zh-CN" sz="1600" spc="-1" strike="noStrike">
                <a:solidFill>
                  <a:srgbClr val="000000"/>
                </a:solidFill>
                <a:latin typeface="Times New Roman"/>
                <a:ea typeface="宋体"/>
              </a:rPr>
              <a:t>阻抗心电图</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ispectral index (BIS) </a:t>
            </a:r>
            <a:r>
              <a:rPr b="0" lang="zh-CN" sz="1600" spc="-1" strike="noStrike">
                <a:solidFill>
                  <a:srgbClr val="000000"/>
                </a:solidFill>
                <a:latin typeface="Times New Roman"/>
                <a:ea typeface="宋体"/>
              </a:rPr>
              <a:t>双光谱指数</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respiration mechanics (RM) </a:t>
            </a:r>
            <a:r>
              <a:rPr b="0" lang="zh-CN" sz="1600" spc="-1" strike="noStrike">
                <a:solidFill>
                  <a:srgbClr val="000000"/>
                </a:solidFill>
                <a:latin typeface="Times New Roman"/>
                <a:ea typeface="宋体"/>
              </a:rPr>
              <a:t>呼吸力学（原理）</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ediatric  adj.</a:t>
            </a:r>
            <a:r>
              <a:rPr b="0" lang="zh-CN" sz="1600" spc="-1" strike="noStrike">
                <a:solidFill>
                  <a:srgbClr val="000000"/>
                </a:solidFill>
                <a:latin typeface="Times New Roman"/>
                <a:ea typeface="宋体"/>
              </a:rPr>
              <a:t>儿科的</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neonatal  adj. </a:t>
            </a:r>
            <a:r>
              <a:rPr b="0" lang="zh-CN" sz="1600" spc="-1" strike="noStrike">
                <a:solidFill>
                  <a:srgbClr val="000000"/>
                </a:solidFill>
                <a:latin typeface="Times New Roman"/>
                <a:ea typeface="宋体"/>
              </a:rPr>
              <a:t>新生的；初生的</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atient Demographics</a:t>
            </a:r>
            <a:r>
              <a:rPr b="0" lang="zh-CN" sz="1600" spc="-1" strike="noStrike">
                <a:solidFill>
                  <a:srgbClr val="000000"/>
                </a:solidFill>
                <a:latin typeface="Times New Roman"/>
                <a:ea typeface="宋体"/>
              </a:rPr>
              <a:t>病人的人口统计</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hysiological Alarm Area  </a:t>
            </a:r>
            <a:r>
              <a:rPr b="0" lang="zh-CN" sz="1600" spc="-1" strike="noStrike">
                <a:solidFill>
                  <a:srgbClr val="000000"/>
                </a:solidFill>
                <a:latin typeface="Times New Roman"/>
                <a:ea typeface="宋体"/>
              </a:rPr>
              <a:t>生理报警区</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kidney dialysis  </a:t>
            </a:r>
            <a:r>
              <a:rPr b="0" lang="zh-CN" sz="1600" spc="-1" strike="noStrike">
                <a:solidFill>
                  <a:srgbClr val="000000"/>
                </a:solidFill>
                <a:latin typeface="Times New Roman"/>
                <a:ea typeface="宋体"/>
              </a:rPr>
              <a:t>肾脏透析</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hyperbaric oxygen chamber  [</a:t>
            </a:r>
            <a:r>
              <a:rPr b="0" lang="zh-CN" sz="1600" spc="-1" strike="noStrike">
                <a:solidFill>
                  <a:srgbClr val="000000"/>
                </a:solidFill>
                <a:latin typeface="Times New Roman"/>
                <a:ea typeface="宋体"/>
              </a:rPr>
              <a:t>临床</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高压氧舱</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7" name="文本框 6"/>
          <p:cNvSpPr/>
          <p:nvPr/>
        </p:nvSpPr>
        <p:spPr>
          <a:xfrm>
            <a:off x="250920" y="612720"/>
            <a:ext cx="856908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Complex Sentence Analysi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This patient monitor is intended to be used for monitoring, displaying, reviewing, storing and transferring of multiple physiological parameters including ECG, heart rate (HR), respiration (Resp), temperature (Temp), SpO2,and etc.</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e intended to +do sth</a:t>
            </a:r>
            <a:r>
              <a:rPr b="0" lang="zh-CN" sz="1600" spc="-1" strike="noStrike">
                <a:solidFill>
                  <a:srgbClr val="000000"/>
                </a:solidFill>
                <a:latin typeface="Times New Roman"/>
                <a:ea typeface="宋体"/>
              </a:rPr>
              <a:t>是用来做某事，为了；</a:t>
            </a:r>
            <a:r>
              <a:rPr b="0" lang="en-US" sz="1600" spc="-1" strike="noStrike">
                <a:solidFill>
                  <a:srgbClr val="000000"/>
                </a:solidFill>
                <a:latin typeface="Times New Roman"/>
                <a:ea typeface="宋体"/>
              </a:rPr>
              <a:t>+to be </a:t>
            </a:r>
            <a:r>
              <a:rPr b="0" lang="zh-CN" sz="1600" spc="-1" strike="noStrike">
                <a:solidFill>
                  <a:srgbClr val="000000"/>
                </a:solidFill>
                <a:latin typeface="Times New Roman"/>
                <a:ea typeface="宋体"/>
              </a:rPr>
              <a:t>规定为，确定为。</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e used for +doing </a:t>
            </a:r>
            <a:r>
              <a:rPr b="0" lang="zh-CN" sz="1600" spc="-1" strike="noStrike">
                <a:solidFill>
                  <a:srgbClr val="000000"/>
                </a:solidFill>
                <a:latin typeface="Times New Roman"/>
                <a:ea typeface="宋体"/>
              </a:rPr>
              <a:t>被用来做某事，用来做某事；</a:t>
            </a:r>
            <a:r>
              <a:rPr b="0" lang="en-US" sz="1600" spc="-1" strike="noStrike">
                <a:solidFill>
                  <a:srgbClr val="000000"/>
                </a:solidFill>
                <a:latin typeface="Times New Roman"/>
                <a:ea typeface="宋体"/>
              </a:rPr>
              <a:t>+for used as </a:t>
            </a:r>
            <a:r>
              <a:rPr b="0" lang="zh-CN" sz="1600" spc="-1" strike="noStrike">
                <a:solidFill>
                  <a:srgbClr val="000000"/>
                </a:solidFill>
                <a:latin typeface="Times New Roman"/>
                <a:ea typeface="宋体"/>
              </a:rPr>
              <a:t>被用来做</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该病人监护仪用于监测、显示、查看、存储和传递心电图、心率</a:t>
            </a:r>
            <a:r>
              <a:rPr b="0" lang="en-US" sz="1600" spc="-1" strike="noStrike">
                <a:solidFill>
                  <a:srgbClr val="000000"/>
                </a:solidFill>
                <a:latin typeface="Times New Roman"/>
                <a:ea typeface="宋体"/>
              </a:rPr>
              <a:t>(HR)</a:t>
            </a:r>
            <a:r>
              <a:rPr b="0" lang="zh-CN" sz="1600" spc="-1" strike="noStrike">
                <a:solidFill>
                  <a:srgbClr val="000000"/>
                </a:solidFill>
                <a:latin typeface="Times New Roman"/>
                <a:ea typeface="宋体"/>
              </a:rPr>
              <a:t>、呼吸</a:t>
            </a:r>
            <a:r>
              <a:rPr b="0" lang="en-US" sz="1600" spc="-1" strike="noStrike">
                <a:solidFill>
                  <a:srgbClr val="000000"/>
                </a:solidFill>
                <a:latin typeface="Times New Roman"/>
                <a:ea typeface="宋体"/>
              </a:rPr>
              <a:t>(Resp)</a:t>
            </a:r>
            <a:r>
              <a:rPr b="0" lang="zh-CN" sz="1600" spc="-1" strike="noStrike">
                <a:solidFill>
                  <a:srgbClr val="000000"/>
                </a:solidFill>
                <a:latin typeface="Times New Roman"/>
                <a:ea typeface="宋体"/>
              </a:rPr>
              <a:t>、体温</a:t>
            </a:r>
            <a:r>
              <a:rPr b="0" lang="en-US" sz="1600" spc="-1" strike="noStrike">
                <a:solidFill>
                  <a:srgbClr val="000000"/>
                </a:solidFill>
                <a:latin typeface="Times New Roman"/>
                <a:ea typeface="宋体"/>
              </a:rPr>
              <a:t>(Temp)</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SpO2</a:t>
            </a:r>
            <a:r>
              <a:rPr b="0" lang="zh-CN" sz="1600" spc="-1" strike="noStrike">
                <a:solidFill>
                  <a:srgbClr val="000000"/>
                </a:solidFill>
                <a:latin typeface="Times New Roman"/>
                <a:ea typeface="宋体"/>
              </a:rPr>
              <a:t>等多项生理参数。</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 Interpretation of resting 12-lead ECG and C.O. monitoring are restricted to adult patients only.</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e restricted +to sth. </a:t>
            </a:r>
            <a:r>
              <a:rPr b="0" lang="zh-CN" sz="1600" spc="-1" strike="noStrike">
                <a:solidFill>
                  <a:srgbClr val="000000"/>
                </a:solidFill>
                <a:latin typeface="Times New Roman"/>
                <a:ea typeface="宋体"/>
              </a:rPr>
              <a:t>限于，被限制在</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范围内；</a:t>
            </a:r>
            <a:r>
              <a:rPr b="0" lang="en-US" sz="1600" spc="-1" strike="noStrike">
                <a:solidFill>
                  <a:srgbClr val="000000"/>
                </a:solidFill>
                <a:latin typeface="Times New Roman"/>
                <a:ea typeface="宋体"/>
              </a:rPr>
              <a:t>+by sth. </a:t>
            </a:r>
            <a:r>
              <a:rPr b="0" lang="zh-CN" sz="1600" spc="-1" strike="noStrike">
                <a:solidFill>
                  <a:srgbClr val="000000"/>
                </a:solidFill>
                <a:latin typeface="Times New Roman"/>
                <a:ea typeface="宋体"/>
              </a:rPr>
              <a:t>被</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限制</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静息</a:t>
            </a:r>
            <a:r>
              <a:rPr b="0" lang="en-US" sz="1600" spc="-1" strike="noStrike">
                <a:solidFill>
                  <a:srgbClr val="000000"/>
                </a:solidFill>
                <a:latin typeface="Times New Roman"/>
                <a:ea typeface="宋体"/>
              </a:rPr>
              <a:t>12</a:t>
            </a:r>
            <a:r>
              <a:rPr b="0" lang="zh-CN" sz="1600" spc="-1" strike="noStrike">
                <a:solidFill>
                  <a:srgbClr val="000000"/>
                </a:solidFill>
                <a:latin typeface="Times New Roman"/>
                <a:ea typeface="宋体"/>
              </a:rPr>
              <a:t>导联心电图和</a:t>
            </a:r>
            <a:r>
              <a:rPr b="0" lang="en-US" sz="1600" spc="-1" strike="noStrike">
                <a:solidFill>
                  <a:srgbClr val="000000"/>
                </a:solidFill>
                <a:latin typeface="Times New Roman"/>
                <a:ea typeface="宋体"/>
              </a:rPr>
              <a:t>C.O.</a:t>
            </a:r>
            <a:r>
              <a:rPr b="0" lang="zh-CN" sz="1600" spc="-1" strike="noStrike">
                <a:solidFill>
                  <a:srgbClr val="000000"/>
                </a:solidFill>
                <a:latin typeface="Times New Roman"/>
                <a:ea typeface="宋体"/>
              </a:rPr>
              <a:t>监测的解释仅限于成人患者。</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3) The arrhythmia detection, ST-segment, BIS and RM monitoring are not intended for neonatal patients.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e intended for </a:t>
            </a:r>
            <a:r>
              <a:rPr b="0" lang="zh-CN" sz="1600" spc="-1" strike="noStrike">
                <a:solidFill>
                  <a:srgbClr val="000000"/>
                </a:solidFill>
                <a:latin typeface="Times New Roman"/>
                <a:ea typeface="宋体"/>
              </a:rPr>
              <a:t>打算为</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所用，预定给。</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心律失常检测、</a:t>
            </a:r>
            <a:r>
              <a:rPr b="0" lang="en-US" sz="1600" spc="-1" strike="noStrike">
                <a:solidFill>
                  <a:srgbClr val="000000"/>
                </a:solidFill>
                <a:latin typeface="Times New Roman"/>
                <a:ea typeface="宋体"/>
              </a:rPr>
              <a:t>st</a:t>
            </a:r>
            <a:r>
              <a:rPr b="0" lang="zh-CN" sz="1600" spc="-1" strike="noStrike">
                <a:solidFill>
                  <a:srgbClr val="000000"/>
                </a:solidFill>
                <a:latin typeface="Times New Roman"/>
                <a:ea typeface="宋体"/>
              </a:rPr>
              <a:t>段、</a:t>
            </a:r>
            <a:r>
              <a:rPr b="0" lang="en-US" sz="1600" spc="-1" strike="noStrike">
                <a:solidFill>
                  <a:srgbClr val="000000"/>
                </a:solidFill>
                <a:latin typeface="Times New Roman"/>
                <a:ea typeface="宋体"/>
              </a:rPr>
              <a:t>BIS</a:t>
            </a:r>
            <a:r>
              <a:rPr b="0" lang="zh-CN" sz="1600" spc="-1" strike="noStrike">
                <a:solidFill>
                  <a:srgbClr val="000000"/>
                </a:solidFill>
                <a:latin typeface="Times New Roman"/>
                <a:ea typeface="宋体"/>
              </a:rPr>
              <a:t>和</a:t>
            </a:r>
            <a:r>
              <a:rPr b="0" lang="en-US" sz="1600" spc="-1" strike="noStrike">
                <a:solidFill>
                  <a:srgbClr val="000000"/>
                </a:solidFill>
                <a:latin typeface="Times New Roman"/>
                <a:ea typeface="宋体"/>
              </a:rPr>
              <a:t>RM</a:t>
            </a:r>
            <a:r>
              <a:rPr b="0" lang="zh-CN" sz="1600" spc="-1" strike="noStrike">
                <a:solidFill>
                  <a:srgbClr val="000000"/>
                </a:solidFill>
                <a:latin typeface="Times New Roman"/>
                <a:ea typeface="宋体"/>
              </a:rPr>
              <a:t>监测不适合新生儿患者。</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4) The safety performance is in line with international standard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e in line with </a:t>
            </a:r>
            <a:r>
              <a:rPr b="0" lang="zh-CN" sz="1600" spc="-1" strike="noStrike">
                <a:solidFill>
                  <a:srgbClr val="000000"/>
                </a:solidFill>
                <a:latin typeface="Times New Roman"/>
                <a:ea typeface="宋体"/>
              </a:rPr>
              <a:t>符合，与</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一致，标识某事物与另一事务在目标、原则上一致。</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符合</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的其他英语表达：</a:t>
            </a:r>
            <a:r>
              <a:rPr b="0" lang="en-US" sz="1600" spc="-1" strike="noStrike">
                <a:solidFill>
                  <a:srgbClr val="000000"/>
                </a:solidFill>
                <a:latin typeface="Times New Roman"/>
                <a:ea typeface="宋体"/>
              </a:rPr>
              <a:t>accord with </a:t>
            </a:r>
            <a:r>
              <a:rPr b="0" lang="zh-CN" sz="1600" spc="-1" strike="noStrike">
                <a:solidFill>
                  <a:srgbClr val="000000"/>
                </a:solidFill>
                <a:latin typeface="Times New Roman"/>
                <a:ea typeface="宋体"/>
              </a:rPr>
              <a:t>（与某物相符）</a:t>
            </a:r>
            <a:r>
              <a:rPr b="0" lang="en-US" sz="1600" spc="-1" strike="noStrike">
                <a:solidFill>
                  <a:srgbClr val="000000"/>
                </a:solidFill>
                <a:latin typeface="Times New Roman"/>
                <a:ea typeface="宋体"/>
              </a:rPr>
              <a:t>, conform to</a:t>
            </a:r>
            <a:r>
              <a:rPr b="0" lang="zh-CN" sz="1600" spc="-1" strike="noStrike">
                <a:solidFill>
                  <a:srgbClr val="000000"/>
                </a:solidFill>
                <a:latin typeface="Times New Roman"/>
                <a:ea typeface="宋体"/>
              </a:rPr>
              <a:t>（与某规范相符）。</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安全性能符合国际标准。</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09-01T15:02:08Z</dcterms:modified>
  <cp:revision>4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