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C4A9C3-39AF-4DD2-9B08-46AF2612E7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FBDD8-8674-4FD1-86C5-2BCFDB85B0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03B342-BD53-414A-8B6C-CEE03EA2AC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9B3D9-6CE1-4506-B16D-089AFA62B2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222DE-D3A6-4353-B80F-BD33F21C0E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B74E0-8B7D-493C-86A5-3E916BF773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435B39-7016-470E-AE5E-AB43D31E6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7859FD-CC84-4AD1-A6D2-F3E0E2060C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102E79-D246-48ED-9619-8D5BC58FA3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073C91-F600-47EA-94A5-93CDE4709D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5951B-6894-4E03-A5B8-4A886429A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52ECEA-2F34-4A9C-BC51-DF50BD4FF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B0E40F-E125-42BC-B318-01C200649A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AEE9D7-0889-40DC-B442-2E726BA535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F2C30-0067-4755-AA28-86C98EE7B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3E170E-2C99-49A0-9CDC-18A0363A16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7495E7-F0F1-4E43-9CCF-A8354A6558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B122F9-2301-4FDE-B14D-8804261482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933A3E-41B3-4637-8BCD-0A75225CE4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5ED022B-F8E5-4825-A744-42BE894FAF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848AB0-916C-4BB3-A494-F6494CA533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F49152-87CC-4BD9-9165-9F9D4E7A53C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CA02A-7E38-48B4-A4F7-83FCDA3C44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6FE848-027C-48E4-96C3-B57EE0061B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5E76F9-990C-4BD8-955E-A8012A2D78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9AFA3-C4C3-465F-9028-1554AD47C8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63D8CB-01CD-4552-A90D-4A07EEE0EF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72D8D9-E5ED-496A-85E0-455DB85B3C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8DDD39-66D2-4D8F-86D6-8F20113D3D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EA642D4-963F-4A72-8BA5-DB8B7320F6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9B066B-2912-46FC-AA37-D5F58281F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F61034-3EB6-4D4B-A1CE-B7228D60B2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0D20C1-85EA-4EF3-9BE7-C446C2DDC87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D0E215-8A89-484F-B445-A084D25F7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906388-405F-4F7C-B55C-ACA69A8487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B06C3B8-FCBF-4AC7-A2BA-897242BF1F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03E6D4D-64C5-47BB-8CBE-483E1B8B8E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4101D9-3497-47B4-B709-B7C6B9A0F9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3E96C-FB56-4E28-8BF5-03639C5B41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D2AF40-4198-4FBE-91C7-F8B66CDABF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65EE49-1CEE-4203-B7AE-58326EC792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14C0E4-F009-4E2E-9C1C-2B2C13C242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A314D5-0A85-4C55-BA01-29A5A2CA36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389C1F-B670-4D55-BB40-DD17D186DD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F4E63-CC36-4074-B4C7-A1A0D92AA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12B311-0AC7-4B89-AA52-12145598C5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BFD1B3-FB1E-460E-B967-F26A592A62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FC6D562-2743-438A-96F8-59A57CC856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52A5C3-73C7-456D-87A8-A86B0B8656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BCF51B-84FF-4851-AAB4-7840438E2E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00AE9A-8613-469A-9C15-CEA773112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D6D73E-2653-418A-B36A-3C3527DD1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15E6CB-BDD3-4EE7-88E8-6D2654B576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D5296D-F40F-40EF-AD9F-D3B73BC426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DBB0DE-23E0-4260-BD2C-84C58385D2E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583FD-6905-495B-9935-1137C8530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9285EB-3A90-4F30-B8C7-385E1171C4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A663E3-1A23-42AC-8690-DA92BF9AAE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C0F8C5-50EC-474C-99B7-0AB3C609B4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5C0FCE6-80CF-48E0-AEBE-2F0C1DE1D6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23357E-440E-4F45-85D9-20DC82D369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42527E0-FEB9-4B36-8695-EAE1C49A222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C5F98-48B8-46ED-9F21-B0011E3D17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F11F4E-D501-4356-ADA9-BD0EB100FA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56981E-A5A8-4B98-B914-BC36B86952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F59C4-0F9E-49F8-8C27-56B3EF5EBB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B0D6E2-B3DD-49C3-A6B9-3B1086293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D9AA76-FEAD-4297-B033-C0F3D556EB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A1BD5E-5CBD-4470-9CC1-1D85D9711F1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8E2E79-17A4-4D2E-80F8-1DB633E7630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783ED0-8E90-4CCD-A01A-02C4A714120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19B84C-F11A-4817-8067-00E380BA2F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073921-0757-44CE-8080-B8135328D41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0AA6D9D-032C-498A-A89E-3E6908FD75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BF665F0-FC37-457B-B7D9-023A73C4D4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BD30732-2584-4042-908C-92FBDE12DA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6564A2-89E7-4CAF-9897-87F413CD46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D9810-B8CA-4823-BA1B-FBC356E28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B93611-B6E4-45C7-817B-91927BF695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B4A502-CACB-424F-A999-91E79BF634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C628D0-FCCD-48D0-B655-9D47F066AD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58A3CE-337B-4E53-80A2-42797870A8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7BD58F2-4282-4707-B81B-D5CD726A6F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564028-B53D-401F-9EBA-42963568B5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98D351-3338-4B06-9FC6-82981E3317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6436B5-3DD9-40DE-83CC-36CF5FEDC3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FE49CF-71DC-45C0-A3BA-BD0E64AB0B6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143E936-21DC-445C-AC28-583EEBE6DD9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87FC6-F769-4B17-A915-501120449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9CB6EB-59C7-4A7C-8977-22F51114C0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4FACFD-21D9-4F81-8D16-586F029F8A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482619-4598-47CD-A6B9-AB02671006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49DA4A-2F4F-4132-8F49-88117C8FD1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97D00F-07B2-467D-87E6-4081264748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7B78EA-F6A4-450C-A21E-E5FE7A6FB1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A06BCC-D712-41A4-B8C3-8B67646A3957}"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F8F061-2D62-4D87-A698-EF255C91512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4E1288-F90B-4FB6-89D6-DB74E5A921A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3E3D18-2CAA-4F8F-B205-285165EFD28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6FCD8-A69A-4CCA-9527-430F06A23F1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6D428-35C4-48DA-A02C-E86D59D3A60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DD25F7-7DFA-451A-9DDD-4D6B378589A7}"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B39332-3448-4ADE-9D8E-703AF8319F1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17D32E-A8C4-4A15-86BA-E2B4C056F1F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547640" y="444636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3.2 VEHICLE RADIATOR</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汽车散热器</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938320"/>
            <a:ext cx="5851440" cy="128592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378000" y="436680"/>
            <a:ext cx="8353080" cy="587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ntroduction of typical car radi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vehicle radiator is an important heat dissipation device in vehicles such as cars and motorcycles, which is used to dissipate the heat generated by the engine and maintain the normal working temperature of the engine. With the continuous development of technology, new radiators such as assembled radiators, nitrogen shielded welding radiators and vacuum brazed radiators are gradually applied to the automobile and motorcycle manufacturing industr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Vehicle radiator types and manufacturing compani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Assembled radi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n assembled radiator is a radiator that is manufactured separately from the radiator and the water tank, and finally assembled. There are Shanghai Baosteel Group, Guangzhou Automobile Group, Beijing Automobile Group and so on. Foreign manufacturing companies have Germany Bosch, Delphi, Japan Denso and so 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Nitrogen protected welding radi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Nitrogen shielded welding radiator is a kind of radiator manufactured by nitrogen shielded welding technology. Domestic manufacturing companies are Shanghai Bao steel Group, Guangzhou Automobile Group, Beijing Automobile Group and so on. Foreign manufacturing companies have Germany Bosch, Delphi, Japan Denso and so 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3. Vacuum brazing radiato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Vacuum brazing radiator is a kind of radiator made by vacuum brazing technology. Domestic manufacturing companies are Shanghai Bao steel Group, Guangzhou Automobile Group, Beijing Automobile Group and so on. Foreign manufacturing companies have Germany Bosch, Delphi, Japan Denso and so o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3"/>
          <p:cNvSpPr/>
          <p:nvPr/>
        </p:nvSpPr>
        <p:spPr>
          <a:xfrm>
            <a:off x="468360" y="601560"/>
            <a:ext cx="820728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The structure and working principle of the radi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Assembled radi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assembled radiator consists of a heat sink and a water tank. The heat sink is usually made of aluminum alloy and has good thermal conductivity. The water tank is used to store the coolant. The working principle is that through the circulation of coolant, the heat generated by the engine is transferred to the heat sink, and then the amount is dissipated into the air through the blowing of the fan. The main application scenario is the engine cooling system of vehicles such as cars and motorcycles.</a:t>
            </a:r>
            <a:endParaRPr b="0" lang="en-US" sz="1600" spc="-1" strike="noStrike">
              <a:solidFill>
                <a:srgbClr val="000000"/>
              </a:solidFill>
              <a:latin typeface="Calibri"/>
            </a:endParaRPr>
          </a:p>
        </p:txBody>
      </p:sp>
      <p:pic>
        <p:nvPicPr>
          <p:cNvPr id="357" name="图片 1" descr=""/>
          <p:cNvPicPr/>
          <p:nvPr/>
        </p:nvPicPr>
        <p:blipFill>
          <a:blip r:embed="rId1"/>
          <a:stretch/>
        </p:blipFill>
        <p:spPr>
          <a:xfrm>
            <a:off x="1908000" y="2565360"/>
            <a:ext cx="6264360" cy="2986200"/>
          </a:xfrm>
          <a:prstGeom prst="rect">
            <a:avLst/>
          </a:prstGeom>
          <a:ln w="0">
            <a:noFill/>
          </a:ln>
        </p:spPr>
      </p:pic>
      <p:sp>
        <p:nvSpPr>
          <p:cNvPr id="358" name="文本框 6"/>
          <p:cNvSpPr/>
          <p:nvPr/>
        </p:nvSpPr>
        <p:spPr>
          <a:xfrm>
            <a:off x="2276640" y="5732640"/>
            <a:ext cx="45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Fig. 1-1 Aluminum assembled water radiator</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0" name="图片 1" descr=""/>
          <p:cNvPicPr/>
          <p:nvPr/>
        </p:nvPicPr>
        <p:blipFill>
          <a:blip r:embed="rId1"/>
          <a:stretch/>
        </p:blipFill>
        <p:spPr>
          <a:xfrm>
            <a:off x="250920" y="709560"/>
            <a:ext cx="5546520" cy="2737080"/>
          </a:xfrm>
          <a:prstGeom prst="rect">
            <a:avLst/>
          </a:prstGeom>
          <a:ln w="0">
            <a:noFill/>
          </a:ln>
        </p:spPr>
      </p:pic>
      <p:sp>
        <p:nvSpPr>
          <p:cNvPr id="361" name="文本框 3"/>
          <p:cNvSpPr/>
          <p:nvPr/>
        </p:nvSpPr>
        <p:spPr>
          <a:xfrm>
            <a:off x="725400" y="3429000"/>
            <a:ext cx="4597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Fig.1-2 Profile of water radiator</a:t>
            </a:r>
            <a:endParaRPr b="0" lang="en-US" sz="1800" spc="-1" strike="noStrike">
              <a:solidFill>
                <a:srgbClr val="000000"/>
              </a:solidFill>
              <a:latin typeface="Calibri"/>
            </a:endParaRPr>
          </a:p>
        </p:txBody>
      </p:sp>
      <p:sp>
        <p:nvSpPr>
          <p:cNvPr id="362" name="文本框 5"/>
          <p:cNvSpPr/>
          <p:nvPr/>
        </p:nvSpPr>
        <p:spPr>
          <a:xfrm>
            <a:off x="276120" y="3811680"/>
            <a:ext cx="849816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Nitrogen protected welding radi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Nitrogen shielded welding radiator is made of nitrogen shielded welding technology, which has the advantages of high welding strength and good corrosion resistance. Its structure and working principle are similar to the assembly radiator, and the main application scenario is also the engine cooling system of vehicles such as automobiles and motorcycl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Vacuum brazing radi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acuum brazing radiator is made of vacuum brazing technology, which has the advantages of high welding strength and good sealing. Its structure and working principle are similar to the assembly radiator, and the main application scenario is also the engine cooling system of vehicles such as automobiles and motorcycles. The structure of the aluminum brazing water radiator is shown in Figure 1-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4" name="图片 1" descr=""/>
          <p:cNvPicPr/>
          <p:nvPr/>
        </p:nvPicPr>
        <p:blipFill>
          <a:blip r:embed="rId1"/>
          <a:stretch/>
        </p:blipFill>
        <p:spPr>
          <a:xfrm>
            <a:off x="1258920" y="430200"/>
            <a:ext cx="6626160" cy="3183120"/>
          </a:xfrm>
          <a:prstGeom prst="rect">
            <a:avLst/>
          </a:prstGeom>
          <a:ln w="0">
            <a:noFill/>
          </a:ln>
        </p:spPr>
      </p:pic>
      <p:sp>
        <p:nvSpPr>
          <p:cNvPr id="365" name="文本框 3"/>
          <p:cNvSpPr/>
          <p:nvPr/>
        </p:nvSpPr>
        <p:spPr>
          <a:xfrm>
            <a:off x="2700360" y="3613320"/>
            <a:ext cx="459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Fig.1-3. Aluminum brazed water radiator</a:t>
            </a:r>
            <a:endParaRPr b="0" lang="en-US" sz="1800" spc="-1" strike="noStrike">
              <a:solidFill>
                <a:srgbClr val="000000"/>
              </a:solidFill>
              <a:latin typeface="Calibri"/>
            </a:endParaRPr>
          </a:p>
        </p:txBody>
      </p:sp>
      <p:sp>
        <p:nvSpPr>
          <p:cNvPr id="366" name="文本框 5"/>
          <p:cNvSpPr/>
          <p:nvPr/>
        </p:nvSpPr>
        <p:spPr>
          <a:xfrm>
            <a:off x="324000" y="3981600"/>
            <a:ext cx="8351640" cy="26046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The significance of the development of radiator industry to China's automobile/motorcycle manufacturing industry</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s new types of radiators, prefabricated radiators, nitrogen shielded welding radiators and vacuum brazed radiators are of great significance to automobile/motorcycle manufacturing industry in China.</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irst of all, these new radiators use advanced manufacturing technology with higher welding strength and tightness, which can improve the service life and reliability of the radiator, reduce the failure rate, and improve the overall performance of the car/motorcycle.</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econdly, the structure and working principle of these radiators are more advanced than traditional radiators, which can more effectively distribute the heat generated by the engine, improve the cooling effect of the engine, ensure the normal working temperature of the engine, and extend the service life of the engin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8" name="文本框 3"/>
          <p:cNvSpPr/>
          <p:nvPr/>
        </p:nvSpPr>
        <p:spPr>
          <a:xfrm>
            <a:off x="250920" y="598320"/>
            <a:ext cx="34574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nally, the application of these new radiators has promoted the technological upgrading and industrial upgrading of China's automobile/motorcycle manufacturing industry, improved the competitiveness of China's automobile/motorcycle manufacturing industry, and promoted the development of the industry.</a:t>
            </a:r>
            <a:endParaRPr b="0" lang="en-US" sz="1600" spc="-1" strike="noStrike">
              <a:solidFill>
                <a:srgbClr val="000000"/>
              </a:solidFill>
              <a:latin typeface="Calibri"/>
            </a:endParaRPr>
          </a:p>
        </p:txBody>
      </p:sp>
      <p:pic>
        <p:nvPicPr>
          <p:cNvPr id="369" name="图片 1" descr=""/>
          <p:cNvPicPr/>
          <p:nvPr/>
        </p:nvPicPr>
        <p:blipFill>
          <a:blip r:embed="rId1"/>
          <a:stretch/>
        </p:blipFill>
        <p:spPr>
          <a:xfrm>
            <a:off x="3851280" y="598320"/>
            <a:ext cx="5292720" cy="3191040"/>
          </a:xfrm>
          <a:prstGeom prst="rect">
            <a:avLst/>
          </a:prstGeom>
          <a:ln w="0">
            <a:noFill/>
          </a:ln>
        </p:spPr>
      </p:pic>
      <p:sp>
        <p:nvSpPr>
          <p:cNvPr id="370" name="文本框 5"/>
          <p:cNvSpPr/>
          <p:nvPr/>
        </p:nvSpPr>
        <p:spPr>
          <a:xfrm>
            <a:off x="4529160" y="3759120"/>
            <a:ext cx="459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 1-4 Development stage of vehicle radiator</a:t>
            </a:r>
            <a:endParaRPr b="0" lang="en-US" sz="1600" spc="-1" strike="noStrike">
              <a:solidFill>
                <a:srgbClr val="000000"/>
              </a:solidFill>
              <a:latin typeface="Calibri"/>
            </a:endParaRPr>
          </a:p>
        </p:txBody>
      </p:sp>
      <p:sp>
        <p:nvSpPr>
          <p:cNvPr id="371" name="文本框 7"/>
          <p:cNvSpPr/>
          <p:nvPr/>
        </p:nvSpPr>
        <p:spPr>
          <a:xfrm>
            <a:off x="250920" y="4097160"/>
            <a:ext cx="864216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In summary, as a new type of radiator, assembled radiator, nitrogen shielded welding radiator and vacuum brazed radiator are produced by a number of manufacturing companies at home and abroad, and have important application scenarios and significance in the automobile/motorcycle manufacturing industry. The application of these radiators has promoted the technological progress and industrial upgrading of China's automobile/motorcycle manufacturing industry, improved the performance and reliability of the product, and promoted the development of the industr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3" name="文本框 5"/>
          <p:cNvSpPr/>
          <p:nvPr/>
        </p:nvSpPr>
        <p:spPr>
          <a:xfrm>
            <a:off x="395280" y="671400"/>
            <a:ext cx="8353440" cy="534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vehicle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交通工具，车辆</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adiator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暖气片，散热器；（暖气片型）燃油炉，电热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issipation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浪费；消散</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otorcycle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摩托车</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nitrogen   </a:t>
            </a:r>
            <a:r>
              <a:rPr b="0" i="1" lang="en-US" sz="1500" spc="-1" strike="noStrike">
                <a:solidFill>
                  <a:srgbClr val="000000"/>
                </a:solidFill>
                <a:latin typeface="Times New Roman"/>
                <a:ea typeface="宋体"/>
              </a:rPr>
              <a:t> n.  </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化学</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氮</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hielded welding  </a:t>
            </a:r>
            <a:r>
              <a:rPr b="0" lang="zh-CN" sz="1500" spc="-1" strike="noStrike">
                <a:solidFill>
                  <a:srgbClr val="000000"/>
                </a:solidFill>
                <a:latin typeface="Times New Roman"/>
                <a:ea typeface="宋体"/>
              </a:rPr>
              <a:t>保护焊</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nitrogen shielded welding radiator  </a:t>
            </a:r>
            <a:r>
              <a:rPr b="0" lang="zh-CN" sz="1500" spc="-1" strike="noStrike">
                <a:solidFill>
                  <a:srgbClr val="000000"/>
                </a:solidFill>
                <a:latin typeface="Times New Roman"/>
                <a:ea typeface="宋体"/>
              </a:rPr>
              <a:t>氮保护焊散热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vacuum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真空，真空容器</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brazed   </a:t>
            </a:r>
            <a:r>
              <a:rPr b="0" i="1" lang="en-US" sz="1500" spc="-1" strike="noStrike">
                <a:solidFill>
                  <a:srgbClr val="000000"/>
                </a:solidFill>
                <a:latin typeface="Times New Roman"/>
                <a:ea typeface="宋体"/>
              </a:rPr>
              <a:t> adj.  </a:t>
            </a:r>
            <a:r>
              <a:rPr b="0" lang="zh-CN" sz="1500" spc="-1" strike="noStrike">
                <a:solidFill>
                  <a:srgbClr val="000000"/>
                </a:solidFill>
                <a:latin typeface="Times New Roman"/>
                <a:ea typeface="宋体"/>
              </a:rPr>
              <a:t>钎焊的；铜焊的</a:t>
            </a:r>
            <a:r>
              <a:rPr b="0" lang="en-US" sz="1500" spc="-1" strike="noStrike">
                <a:solidFill>
                  <a:srgbClr val="000000"/>
                </a:solidFill>
                <a:latin typeface="Times New Roman"/>
                <a:ea typeface="宋体"/>
              </a:rPr>
              <a:t>;</a:t>
            </a:r>
            <a:r>
              <a:rPr b="0" i="1" lang="en-US" sz="1500" spc="-1" strike="noStrike">
                <a:solidFill>
                  <a:srgbClr val="000000"/>
                </a:solidFill>
                <a:latin typeface="Times New Roman"/>
                <a:ea typeface="宋体"/>
              </a:rPr>
              <a:t>v.</a:t>
            </a:r>
            <a:r>
              <a:rPr b="0" lang="zh-CN" sz="1500" spc="-1" strike="noStrike">
                <a:solidFill>
                  <a:srgbClr val="000000"/>
                </a:solidFill>
                <a:latin typeface="Times New Roman"/>
                <a:ea typeface="宋体"/>
              </a:rPr>
              <a:t>用铜焊接（</a:t>
            </a:r>
            <a:r>
              <a:rPr b="0" lang="en-US" sz="1500" spc="-1" strike="noStrike">
                <a:solidFill>
                  <a:srgbClr val="000000"/>
                </a:solidFill>
                <a:latin typeface="Times New Roman"/>
                <a:ea typeface="宋体"/>
              </a:rPr>
              <a:t>braze </a:t>
            </a:r>
            <a:r>
              <a:rPr b="0" lang="zh-CN" sz="1500" spc="-1" strike="noStrike">
                <a:solidFill>
                  <a:srgbClr val="000000"/>
                </a:solidFill>
                <a:latin typeface="Times New Roman"/>
                <a:ea typeface="宋体"/>
              </a:rPr>
              <a:t>的过去式）</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water tank  </a:t>
            </a:r>
            <a:r>
              <a:rPr b="0" lang="zh-CN" sz="1500" spc="-1" strike="noStrike">
                <a:solidFill>
                  <a:srgbClr val="000000"/>
                </a:solidFill>
                <a:latin typeface="Times New Roman"/>
                <a:ea typeface="宋体"/>
              </a:rPr>
              <a:t>水箱</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Vacuum brazing radiator  </a:t>
            </a:r>
            <a:r>
              <a:rPr b="0" lang="zh-CN" sz="1500" spc="-1" strike="noStrike">
                <a:solidFill>
                  <a:srgbClr val="000000"/>
                </a:solidFill>
                <a:latin typeface="Times New Roman"/>
                <a:ea typeface="宋体"/>
              </a:rPr>
              <a:t>真空钎焊散热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omestic   </a:t>
            </a:r>
            <a:r>
              <a:rPr b="0" i="1" lang="en-US" sz="1500" spc="-1" strike="noStrike">
                <a:solidFill>
                  <a:srgbClr val="000000"/>
                </a:solidFill>
                <a:latin typeface="Times New Roman"/>
                <a:ea typeface="宋体"/>
              </a:rPr>
              <a:t> adj.  </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domestic</a:t>
            </a:r>
            <a:r>
              <a:rPr b="0" lang="zh-CN" sz="1500" spc="-1" strike="noStrike">
                <a:solidFill>
                  <a:srgbClr val="000000"/>
                </a:solidFill>
                <a:latin typeface="Times New Roman"/>
                <a:ea typeface="宋体"/>
              </a:rPr>
              <a:t>）家庭的；国内的；家用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heat sink  </a:t>
            </a:r>
            <a:r>
              <a:rPr b="0" lang="zh-CN" sz="1500" spc="-1" strike="noStrike">
                <a:solidFill>
                  <a:srgbClr val="000000"/>
                </a:solidFill>
                <a:latin typeface="Times New Roman"/>
                <a:ea typeface="宋体"/>
              </a:rPr>
              <a:t>散热器</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热沉</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luminum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铝</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ermal conductivity  </a:t>
            </a:r>
            <a:r>
              <a:rPr b="0" lang="zh-CN" sz="1500" spc="-1" strike="noStrike">
                <a:solidFill>
                  <a:srgbClr val="000000"/>
                </a:solidFill>
                <a:latin typeface="Times New Roman"/>
                <a:ea typeface="宋体"/>
              </a:rPr>
              <a:t>热导率</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olant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冷却剂</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irculation   </a:t>
            </a:r>
            <a:r>
              <a:rPr b="0" i="1" lang="en-US" sz="1500" spc="-1" strike="noStrike">
                <a:solidFill>
                  <a:srgbClr val="000000"/>
                </a:solidFill>
                <a:latin typeface="Times New Roman"/>
                <a:ea typeface="宋体"/>
              </a:rPr>
              <a:t>n  .</a:t>
            </a:r>
            <a:r>
              <a:rPr b="0" lang="zh-CN" sz="1500" spc="-1" strike="noStrike">
                <a:solidFill>
                  <a:srgbClr val="000000"/>
                </a:solidFill>
                <a:latin typeface="Times New Roman"/>
                <a:ea typeface="宋体"/>
              </a:rPr>
              <a:t>发行量，销售量；血液循环；流传，流通</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Nitrogen protected welding radiator</a:t>
            </a:r>
            <a:r>
              <a:rPr b="0" i="1"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氮保护焊接散热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rrosion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腐蚀，侵蚀；腐蚀产生的物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cenario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设想，可能发生的情况 ；（电影、戏剧等的）剧情梗概；（艺术或文学作品中的）场景</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e main application scenario  </a:t>
            </a:r>
            <a:r>
              <a:rPr b="0" lang="zh-CN" sz="1500" spc="-1" strike="noStrike">
                <a:solidFill>
                  <a:srgbClr val="000000"/>
                </a:solidFill>
                <a:latin typeface="Times New Roman"/>
                <a:ea typeface="宋体"/>
              </a:rPr>
              <a:t>主要应用场景</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ealing   </a:t>
            </a:r>
            <a:r>
              <a:rPr b="0" i="1"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猎捕海豹；封闭；密封</a:t>
            </a:r>
            <a:r>
              <a:rPr b="0" i="1" lang="en-US" sz="1500" spc="-1" strike="noStrike">
                <a:solidFill>
                  <a:srgbClr val="000000"/>
                </a:solidFill>
                <a:latin typeface="Times New Roman"/>
                <a:ea typeface="宋体"/>
              </a:rPr>
              <a:t>v.</a:t>
            </a:r>
            <a:r>
              <a:rPr b="0" lang="zh-CN" sz="1500" spc="-1" strike="noStrike">
                <a:solidFill>
                  <a:srgbClr val="000000"/>
                </a:solidFill>
                <a:latin typeface="Times New Roman"/>
                <a:ea typeface="宋体"/>
              </a:rPr>
              <a:t>系紧，封牢</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refabricated radiator  </a:t>
            </a:r>
            <a:r>
              <a:rPr b="0" lang="zh-CN" sz="1500" spc="-1" strike="noStrike">
                <a:solidFill>
                  <a:srgbClr val="000000"/>
                </a:solidFill>
                <a:latin typeface="Times New Roman"/>
                <a:ea typeface="宋体"/>
              </a:rPr>
              <a:t>预制散热器</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5" name="文本框 2"/>
          <p:cNvSpPr/>
          <p:nvPr/>
        </p:nvSpPr>
        <p:spPr>
          <a:xfrm>
            <a:off x="324000" y="614520"/>
            <a:ext cx="8280360" cy="21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宋体"/>
              </a:rPr>
              <a:t>Complex Sentence Analysi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1) then the amount of heat is dissipated into the air through the blowing of the fan.</a:t>
            </a:r>
            <a:endParaRPr b="0" lang="en-US" sz="1800" spc="-1" strike="noStrike">
              <a:solidFill>
                <a:srgbClr val="000000"/>
              </a:solidFill>
              <a:latin typeface="Calibri"/>
            </a:endParaRPr>
          </a:p>
          <a:p>
            <a:pPr>
              <a:lnSpc>
                <a:spcPts val="1573"/>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be dissipated into…</a:t>
            </a:r>
            <a:r>
              <a:rPr b="0" lang="zh-CN" sz="1800" spc="-1" strike="noStrike">
                <a:solidFill>
                  <a:srgbClr val="000000"/>
                </a:solidFill>
                <a:latin typeface="Times New Roman"/>
                <a:ea typeface="宋体"/>
              </a:rPr>
              <a:t>消散为</a:t>
            </a:r>
            <a:r>
              <a:rPr b="0" lang="en-US" sz="1800" spc="-1" strike="noStrike">
                <a:solidFill>
                  <a:srgbClr val="000000"/>
                </a:solidFill>
                <a:latin typeface="Times New Roman"/>
                <a:ea typeface="宋体"/>
              </a:rPr>
              <a: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译：然后通过风扇的吹风将热量散发到空气中。</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2) The structure and working principle of these radiators are more advanced than traditional radiators</a:t>
            </a:r>
            <a:r>
              <a:rPr b="1" lang="en-US" sz="1800" spc="-1" strike="noStrike">
                <a:solidFill>
                  <a:srgbClr val="000000"/>
                </a:solidFill>
                <a:latin typeface="Times New Roman"/>
                <a:ea typeface="宋体"/>
              </a:rPr>
              <a:t> </a:t>
            </a:r>
            <a:endParaRPr b="0" lang="en-US" sz="1800" spc="-1" strike="noStrike">
              <a:solidFill>
                <a:srgbClr val="000000"/>
              </a:solidFill>
              <a:latin typeface="Calibri"/>
            </a:endParaRPr>
          </a:p>
          <a:p>
            <a:pPr>
              <a:lnSpc>
                <a:spcPts val="1573"/>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more advanced than…</a:t>
            </a:r>
            <a:r>
              <a:rPr b="0" lang="zh-CN" sz="1800" spc="-1" strike="noStrike">
                <a:solidFill>
                  <a:srgbClr val="000000"/>
                </a:solidFill>
                <a:latin typeface="Times New Roman"/>
                <a:ea typeface="宋体"/>
              </a:rPr>
              <a:t>比</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先进</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译：这些散热器的结构和工作原理比传统散热器更先进。</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12-18T15:40:24Z</dcterms:modified>
  <cp:revision>4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