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092B1-4F13-4F24-8593-C574E4BEF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92F0AA-23B3-45A1-A6A1-E7F4C4A43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5EB7A5-417E-4311-8C65-B2DA246A6C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065FB7-C815-4645-BEE9-7F65630887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85BD4D-F3B0-4914-9DEE-6EECA78598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6BA881-53DF-4870-B0B6-6357B8C025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E215CC-DE7B-4255-9FBD-879A60EB7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22465-06FE-425E-8936-398D472529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C088D3-CD9A-46DC-B128-B5205D45B9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3BB69-F49A-445C-9CC1-9D2ED1DEF6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173CDD-F2A8-4366-8C67-3A62B18FA0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1FADD2-B3B0-43AE-BD99-18C328FC14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FB97F-7F97-4A77-9E5A-17256302DD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D9B18-65F6-465D-882A-7863677EA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1C9669-D03B-498D-BB56-8A9EF0437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7C4538-1B95-440E-890E-CC5AD5B1F4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95B08C9-6199-45E5-8754-4B189D91E6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22D40EE-9673-4762-A6A2-B9F228BB342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448313-CEF4-44F5-8F0B-4365158535B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FB4587-03CB-44B4-9981-449A012305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75A254-5A23-4A78-A061-53914855D3C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8505B-DE0A-43AE-8E87-2A1810444B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316390-AAA9-4218-9163-3B23A01A1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01AD9F-BC70-4F7C-AF8B-3F7D4661129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E7049F-20C0-486E-BA0D-4F03F890A0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9C016D-A125-496B-8943-67A811D1F3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7D6047-F008-4C84-B64E-99561FE464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1982C47-1022-4686-B74D-1748155EBC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2A2281-8023-41DA-A0F2-1ED29AD704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2220099-ADC2-4AD7-9FBC-DDC6EB85A0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59A44BB-35B9-4713-B675-C5E4F877603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A8F261-08D4-474E-A9FB-A5418C8D7AC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68CAAD-9919-4888-BA95-77605C1D41B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23B180-65D7-4E0F-9B0F-C2CE3FA5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CCDC47-AF76-47B8-8A22-8BD369719F9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F07E0-0D6C-49DE-A0E0-6DDE1DD44C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28188E2-C5AC-4EC1-83EA-6F0CCDF501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AE274E-A018-426A-9A97-2EBC4DD3DF9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7DD2A5-CC5B-4B2D-9755-2844637139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E62625-5797-4CC4-A04A-7BD9ED732F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A13CEF-5DF2-4106-9FF4-FE0528A013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B7C971D-4678-4C8F-A90B-8EAF46C812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A1FC3F-B6A1-46CE-BEEF-A1EAE3FCFA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DEE09DC-71D3-492C-B882-35784C90C6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92B28-F42A-4321-9F74-D8B4AD5B4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5D167E9-9A76-4B3E-AF51-6BAAA0C378E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C4F41BE-495A-4AB3-B266-3C124151D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72158B4-CF20-4D05-91CD-D55B3261226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7F6846-A1D3-48F9-8704-F22ECF818D6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DC9361E-9A6D-4F10-B1BA-08B7F6E8AC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A14326-353A-4ECC-887A-5EF23AC607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8435902-A321-46CE-BA66-45E69326A8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CADAF5-97F7-4C6A-9EF7-A15B70D804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E87DC0-23B8-4DC3-8B82-841C1C388B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8FDF792-3C10-4FBD-9133-5D447ADFE9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23454B-FDDF-4267-B0AA-594BAE763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982789E-E244-4CA3-BC6A-4C374593E03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9C639FC-5C3A-40D3-BD70-768F7328EA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7BB54C-3CA8-4302-B2BA-99C01A5B30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FFC3C7-FA80-40C4-8623-FD5898A68E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AB31CDD-6F3C-4110-97B8-C7AD7F97A1B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909D18D-D220-4E89-94D3-BBB78F129A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827583-F03B-4AA1-92FE-633D01F981B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93E8B9-03D5-4014-85C8-C0117BED00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389BCB-3A0D-408A-B6BF-FCC84C60A1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68AC050-2C41-422F-9BBB-DE202A72EC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BC700-993C-4009-BB68-634E52293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785E2CD-045A-477F-B816-F959B2D15B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368F151-F5D0-4A96-B5BA-890238EAB4C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9770D93-B9FD-4AF3-9DFC-2F4EB3F4B66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D1517AC-3EFE-482B-B363-4D7DE4509F0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69110D-0DF5-492F-855A-600073CAF9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DA9F40-EA3A-44B2-BDCE-23BD1408B4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A59CAC-5816-4EB7-ACCC-71138AE45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CF9533-D6EF-4A01-A47F-52CB6FEA4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90AF666-268F-421A-A201-4EAFB99FD4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F1E95B-FE5D-4DB1-8725-664CF06E8EE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4526B6-F3E6-4E18-9656-63B18B3914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F5A5E61-8339-4CEA-80AD-8177B06C5F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78529C-9A61-41C4-B78C-ECB2FD7A50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F6EB08-A036-4006-AC78-A6BD1997C3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C7D218-273A-4F0D-8071-858289721B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3A84F5E-D852-41FB-B160-60563645B69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FB319A3-2FA5-40A4-9EC3-E80B68F88DB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E4B667-1F29-4EE9-9850-6B618C17BD5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98751DD-D1A0-4278-B386-BBDC6A9173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83D46B-2B90-4EDC-88C3-55A05D5534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4A73105-C594-49B7-82DB-B68CFF02B83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6A5BCF-963B-4612-8D78-EA25D2679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1CB6B76-518C-4D92-B708-E0E3A2D687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6C3D2C6-6322-4480-BC41-DA846E59C3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21A9CD2-E80B-4D08-87BB-136125B9BB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59829-A458-408F-9887-7CE429336A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CBB25C-8832-4D2F-AF60-64A9C97A6B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1D54A2F-F322-4A36-9758-57180AA9CE3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8814C30-948E-417C-8C8C-BD861EDBA89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59A2EE-14DC-4C03-8C04-81288F67956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A18F08-1DE3-4B93-AC6E-6459313C7A2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8D2D146-2107-4BAF-95C3-7E2CBAFB1A5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3F54D85-5116-4C97-B33C-FDADE1BFFA8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B577AF-A7A8-4C6D-8911-34E206B7551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B740D4-66F4-45E3-AC1B-9AC4D9FD6636}"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0B8195-7157-416B-90C7-8EB5E99BA38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117FE-DDB6-4870-ADD6-FFD9BC718E4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3 MILLING OPERATIONS</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铣削加工</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250920" y="812880"/>
            <a:ext cx="4897440" cy="25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fter lathes, milling machines are the most widely used for manufacturing applications. In milling, the work piece is </a:t>
            </a:r>
            <a:r>
              <a:rPr b="0" i="1" lang="en-US" sz="1800" spc="-1" strike="noStrike">
                <a:solidFill>
                  <a:srgbClr val="000000"/>
                </a:solidFill>
                <a:latin typeface="Times New Roman"/>
                <a:ea typeface="Times New Roman"/>
              </a:rPr>
              <a:t>fed into</a:t>
            </a:r>
            <a:r>
              <a:rPr b="0" lang="en-US" sz="1800" spc="-1" strike="noStrike">
                <a:solidFill>
                  <a:srgbClr val="000000"/>
                </a:solidFill>
                <a:latin typeface="Times New Roman"/>
                <a:ea typeface="Times New Roman"/>
              </a:rPr>
              <a:t> a rotating milling cutter, which is a multi-edge tool as shown in Fig.1-1. Metal removal is achieved through combining the rotary motion </a:t>
            </a:r>
            <a:r>
              <a:rPr b="0" i="1" lang="en-US" sz="1800" spc="-1" strike="noStrike">
                <a:solidFill>
                  <a:srgbClr val="000000"/>
                </a:solidFill>
                <a:latin typeface="Times New Roman"/>
                <a:ea typeface="Times New Roman"/>
              </a:rPr>
              <a:t>of</a:t>
            </a:r>
            <a:r>
              <a:rPr b="0" lang="en-US" sz="1800" spc="-1" strike="noStrike">
                <a:solidFill>
                  <a:srgbClr val="000000"/>
                </a:solidFill>
                <a:latin typeface="Times New Roman"/>
                <a:ea typeface="Times New Roman"/>
              </a:rPr>
              <a:t> the milling cutter and linear motion of the workpiece simultaneously.</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55" name="图片 1" descr=""/>
          <p:cNvPicPr/>
          <p:nvPr/>
        </p:nvPicPr>
        <p:blipFill>
          <a:blip r:embed="rId1"/>
          <a:stretch/>
        </p:blipFill>
        <p:spPr>
          <a:xfrm>
            <a:off x="5451480" y="282600"/>
            <a:ext cx="3587760" cy="2209680"/>
          </a:xfrm>
          <a:prstGeom prst="rect">
            <a:avLst/>
          </a:prstGeom>
          <a:ln w="0">
            <a:noFill/>
          </a:ln>
        </p:spPr>
      </p:pic>
      <p:sp>
        <p:nvSpPr>
          <p:cNvPr id="356" name="文本框 2"/>
          <p:cNvSpPr/>
          <p:nvPr/>
        </p:nvSpPr>
        <p:spPr>
          <a:xfrm>
            <a:off x="5726160" y="2637000"/>
            <a:ext cx="3097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Times New Roman"/>
              </a:rPr>
              <a:t>Figure 1-1 </a:t>
            </a:r>
            <a:r>
              <a:rPr b="0" i="1" lang="en-US" sz="1400" spc="-1" strike="noStrike">
                <a:solidFill>
                  <a:srgbClr val="000000"/>
                </a:solidFill>
                <a:latin typeface="Times New Roman"/>
                <a:ea typeface="Times New Roman"/>
              </a:rPr>
              <a:t>Schematic</a:t>
            </a:r>
            <a:r>
              <a:rPr b="0" lang="en-US" sz="1400" spc="-1" strike="noStrike">
                <a:solidFill>
                  <a:srgbClr val="000000"/>
                </a:solidFill>
                <a:latin typeface="Times New Roman"/>
                <a:ea typeface="Times New Roman"/>
              </a:rPr>
              <a:t> diagram of a milling operation</a:t>
            </a:r>
            <a:endParaRPr b="0" lang="en-US" sz="1400" spc="-1" strike="noStrike">
              <a:solidFill>
                <a:srgbClr val="000000"/>
              </a:solidFill>
              <a:latin typeface="Calibri"/>
            </a:endParaRPr>
          </a:p>
        </p:txBody>
      </p:sp>
      <p:sp>
        <p:nvSpPr>
          <p:cNvPr id="357" name="文本框 4"/>
          <p:cNvSpPr/>
          <p:nvPr/>
        </p:nvSpPr>
        <p:spPr>
          <a:xfrm>
            <a:off x="250920" y="3305160"/>
            <a:ext cx="8727840" cy="2581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Each of the cutting edges of a milling cutter </a:t>
            </a:r>
            <a:r>
              <a:rPr b="0" i="1" lang="en-US" sz="1800" spc="-1" strike="noStrike">
                <a:solidFill>
                  <a:srgbClr val="000000"/>
                </a:solidFill>
                <a:latin typeface="Times New Roman"/>
                <a:ea typeface="Times New Roman"/>
              </a:rPr>
              <a:t>acts</a:t>
            </a:r>
            <a:r>
              <a:rPr b="0" lang="en-US" sz="1800" spc="-1" strike="noStrike">
                <a:solidFill>
                  <a:srgbClr val="000000"/>
                </a:solidFill>
                <a:latin typeface="Times New Roman"/>
                <a:ea typeface="Times New Roman"/>
              </a:rPr>
              <a:t> as an individual single- point cutter when it engages with the workpiece metal. T</a:t>
            </a:r>
            <a:r>
              <a:rPr b="0" i="1" lang="en-US" sz="1800" spc="-1" strike="noStrike">
                <a:solidFill>
                  <a:srgbClr val="000000"/>
                </a:solidFill>
                <a:latin typeface="Times New Roman"/>
                <a:ea typeface="Times New Roman"/>
              </a:rPr>
              <a:t>herefore,</a:t>
            </a:r>
            <a:r>
              <a:rPr b="0" lang="en-US" sz="1800" spc="-1" strike="noStrike">
                <a:solidFill>
                  <a:srgbClr val="000000"/>
                </a:solidFill>
                <a:latin typeface="Times New Roman"/>
                <a:ea typeface="Times New Roman"/>
              </a:rPr>
              <a:t> each of those cutting edges has appropriate rake and relief angles. Since only a </a:t>
            </a:r>
            <a:r>
              <a:rPr b="0" i="1" lang="en-US" sz="1800" spc="-1" strike="noStrike">
                <a:solidFill>
                  <a:srgbClr val="000000"/>
                </a:solidFill>
                <a:latin typeface="Times New Roman"/>
                <a:ea typeface="Times New Roman"/>
              </a:rPr>
              <a:t>few</a:t>
            </a:r>
            <a:r>
              <a:rPr b="0" lang="en-US" sz="1800" spc="-1" strike="noStrike">
                <a:solidFill>
                  <a:srgbClr val="000000"/>
                </a:solidFill>
                <a:latin typeface="Times New Roman"/>
                <a:ea typeface="Times New Roman"/>
              </a:rPr>
              <a:t> of the cutting edges are engaged with the work piece at a time, </a:t>
            </a:r>
            <a:r>
              <a:rPr b="0" lang="en-US" sz="1800" spc="-1" strike="noStrike" u="sng">
                <a:solidFill>
                  <a:srgbClr val="000000"/>
                </a:solidFill>
                <a:uFillTx/>
                <a:latin typeface="Times New Roman"/>
                <a:ea typeface="Times New Roman"/>
              </a:rPr>
              <a:t>heavy c</a:t>
            </a:r>
            <a:r>
              <a:rPr b="0" lang="en-US" sz="1800" spc="-1" strike="noStrike">
                <a:solidFill>
                  <a:srgbClr val="000000"/>
                </a:solidFill>
                <a:latin typeface="Times New Roman"/>
                <a:ea typeface="Times New Roman"/>
              </a:rPr>
              <a:t>uts can be taken without adversely affecting the tool life. In fact, the permissible cutting speeds and feeds for milling are three to four times higher than those for turning or drilling. Moreover, the quality of surfaces machined by milling is generally superior to the quality of surfaces machined by turning, shaping, or drilling.</a:t>
            </a:r>
            <a:endParaRPr b="0" lang="en-US" sz="1800" spc="-1" strike="noStrike">
              <a:solidFill>
                <a:srgbClr val="000000"/>
              </a:solidFill>
              <a:latin typeface="Calibri"/>
            </a:endParaRPr>
          </a:p>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Times New Roman"/>
              </a:rPr>
              <a:t>As far as the directions of cutter rotation and work piece feed are concerned, milling is performed by either of the following two method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3"/>
          <p:cNvSpPr/>
          <p:nvPr/>
        </p:nvSpPr>
        <p:spPr>
          <a:xfrm>
            <a:off x="250920" y="598320"/>
            <a:ext cx="8642160" cy="2565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1)Up milling (conventional milling)</a:t>
            </a:r>
            <a:endParaRPr b="0" lang="en-US" sz="1600" spc="-1" strike="noStrike">
              <a:solidFill>
                <a:srgbClr val="000000"/>
              </a:solidFill>
              <a:latin typeface="Calibri"/>
            </a:endParaRPr>
          </a:p>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In up milling the cutting tool rotates in the opposite direction to the table movement, the chip starts as zero thickness and gradually increases to the maximum size as shown in Fig. 1-2a. This tends to lift the workpiece from the table. There is a possibility that the cutting tool will rub the workpiece before starting the removal. However, the machining process involves no impact loading, thus ensuring smoother operation of the machine tool.</a:t>
            </a:r>
            <a:endParaRPr b="0" lang="en-US" sz="1600" spc="-1" strike="noStrike">
              <a:solidFill>
                <a:srgbClr val="000000"/>
              </a:solidFill>
              <a:latin typeface="Calibri"/>
            </a:endParaRPr>
          </a:p>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initial rubbing of the cutting edge during the start of the cut in up milling tends to dull the cutting edge and consequently have a lower tool life. Also since the cutter tends to cut and slide alternatively, the quality of machined surface obtained by this method is not very high. Nevertheless, up milling is commonly used in industry, especially for rough cuts.</a:t>
            </a:r>
            <a:endParaRPr b="0" lang="en-US" sz="1600" spc="-1" strike="noStrike">
              <a:solidFill>
                <a:srgbClr val="000000"/>
              </a:solidFill>
              <a:latin typeface="Calibri"/>
            </a:endParaRPr>
          </a:p>
        </p:txBody>
      </p:sp>
      <p:sp>
        <p:nvSpPr>
          <p:cNvPr id="360" name="文本框 5"/>
          <p:cNvSpPr/>
          <p:nvPr/>
        </p:nvSpPr>
        <p:spPr>
          <a:xfrm>
            <a:off x="258840" y="3203640"/>
            <a:ext cx="366552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2)down milling (climb mi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down milling the cutting tool rotates in the same direction as that of the table movement, and the chip starts as maximum thickness and goes to zero thickness gradually as shown in fig.1-2 b.</a:t>
            </a:r>
            <a:endParaRPr b="0" lang="en-US" sz="1600" spc="-1" strike="noStrike">
              <a:solidFill>
                <a:srgbClr val="000000"/>
              </a:solidFill>
              <a:latin typeface="Calibri"/>
            </a:endParaRPr>
          </a:p>
        </p:txBody>
      </p:sp>
      <p:pic>
        <p:nvPicPr>
          <p:cNvPr id="361" name="图片 8" descr=""/>
          <p:cNvPicPr/>
          <p:nvPr/>
        </p:nvPicPr>
        <p:blipFill>
          <a:blip r:embed="rId1"/>
          <a:stretch/>
        </p:blipFill>
        <p:spPr>
          <a:xfrm>
            <a:off x="4175280" y="3203640"/>
            <a:ext cx="4709880" cy="1841400"/>
          </a:xfrm>
          <a:prstGeom prst="rect">
            <a:avLst/>
          </a:prstGeom>
          <a:ln w="0">
            <a:noFill/>
          </a:ln>
        </p:spPr>
      </p:pic>
      <p:sp>
        <p:nvSpPr>
          <p:cNvPr id="362" name="文本框 11"/>
          <p:cNvSpPr/>
          <p:nvPr/>
        </p:nvSpPr>
        <p:spPr>
          <a:xfrm>
            <a:off x="4287960" y="5133960"/>
            <a:ext cx="4597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p milling                 (b)down milling</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ugure 1-2 milling method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3"/>
          <p:cNvSpPr/>
          <p:nvPr/>
        </p:nvSpPr>
        <p:spPr>
          <a:xfrm>
            <a:off x="250920" y="598320"/>
            <a:ext cx="459720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advantages of this method include higher quality of the machined surface and </a:t>
            </a:r>
            <a:r>
              <a:rPr b="0" lang="en-US" sz="1600" spc="-1" strike="noStrike" u="sng">
                <a:solidFill>
                  <a:srgbClr val="000000"/>
                </a:solidFill>
                <a:uFillTx/>
                <a:latin typeface="Times New Roman"/>
                <a:ea typeface="Times New Roman"/>
              </a:rPr>
              <a:t>easier clam</a:t>
            </a:r>
            <a:r>
              <a:rPr b="0" lang="en-US" sz="1600" spc="-1" strike="noStrike">
                <a:solidFill>
                  <a:srgbClr val="000000"/>
                </a:solidFill>
                <a:latin typeface="Times New Roman"/>
                <a:ea typeface="Times New Roman"/>
              </a:rPr>
              <a:t>ping workpieces, since cutting forces act downward. Down milling also allows greater feeds per tooth and longer tool life between regrinds than up milling. But, it cannot be used for machining castings (</a:t>
            </a:r>
            <a:r>
              <a:rPr b="0" lang="en-US" sz="1600" spc="-1" strike="noStrike" u="sng">
                <a:solidFill>
                  <a:srgbClr val="000000"/>
                </a:solidFill>
                <a:uFillTx/>
                <a:latin typeface="Times New Roman"/>
                <a:ea typeface="Times New Roman"/>
              </a:rPr>
              <a:t>se</a:t>
            </a:r>
            <a:r>
              <a:rPr b="0" lang="en-US" sz="1600" spc="-1" strike="noStrike">
                <a:solidFill>
                  <a:srgbClr val="000000"/>
                </a:solidFill>
                <a:latin typeface="Times New Roman"/>
                <a:ea typeface="Times New Roman"/>
              </a:rPr>
              <a:t>e. Fig.1-3) or </a:t>
            </a:r>
            <a:r>
              <a:rPr b="0" lang="en-US" sz="1600" spc="-1" strike="noStrike">
                <a:solidFill>
                  <a:srgbClr val="000000"/>
                </a:solidFill>
                <a:latin typeface="Times New Roman"/>
                <a:ea typeface="宋体"/>
              </a:rPr>
              <a:t>hot </a:t>
            </a:r>
            <a:r>
              <a:rPr b="0" lang="en-US" sz="1600" spc="-1" strike="noStrike">
                <a:solidFill>
                  <a:srgbClr val="000000"/>
                </a:solidFill>
                <a:latin typeface="Times New Roman"/>
                <a:ea typeface="Times New Roman"/>
              </a:rPr>
              <a:t>rolled steel, since the hard outer scale will damage the culler.</a:t>
            </a:r>
            <a:endParaRPr b="0" lang="en-US" sz="1600" spc="-1" strike="noStrike">
              <a:solidFill>
                <a:srgbClr val="000000"/>
              </a:solidFill>
              <a:latin typeface="Calibri"/>
            </a:endParaRPr>
          </a:p>
        </p:txBody>
      </p:sp>
      <p:pic>
        <p:nvPicPr>
          <p:cNvPr id="365" name="Picutre 1" descr=""/>
          <p:cNvPicPr/>
          <p:nvPr/>
        </p:nvPicPr>
        <p:blipFill>
          <a:blip r:embed="rId1"/>
          <a:stretch/>
        </p:blipFill>
        <p:spPr>
          <a:xfrm>
            <a:off x="5508720" y="692280"/>
            <a:ext cx="3560760" cy="938160"/>
          </a:xfrm>
          <a:prstGeom prst="rect">
            <a:avLst/>
          </a:prstGeom>
          <a:ln w="0">
            <a:noFill/>
          </a:ln>
        </p:spPr>
      </p:pic>
      <p:sp>
        <p:nvSpPr>
          <p:cNvPr id="366" name="文本框 5"/>
          <p:cNvSpPr/>
          <p:nvPr/>
        </p:nvSpPr>
        <p:spPr>
          <a:xfrm>
            <a:off x="4991040" y="1773360"/>
            <a:ext cx="4597560" cy="424080"/>
          </a:xfrm>
          <a:prstGeom prst="rect">
            <a:avLst/>
          </a:prstGeom>
          <a:noFill/>
          <a:ln w="0">
            <a:noFill/>
          </a:ln>
        </p:spPr>
        <p:style>
          <a:lnRef idx="0"/>
          <a:fillRef idx="0"/>
          <a:effectRef idx="0"/>
          <a:fontRef idx="minor"/>
        </p:style>
        <p:txBody>
          <a:bodyPr lIns="90000" rIns="90000" tIns="46800" bIns="46800" anchor="t">
            <a:spAutoFit/>
          </a:bodyPr>
          <a:p>
            <a:pPr algn="ctr">
              <a:lnSpc>
                <a:spcPct val="155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Arial"/>
              </a:rPr>
              <a:t>Figure 1-3 Castings</a:t>
            </a:r>
            <a:endParaRPr b="0" lang="en-US" sz="1400" spc="-1" strike="noStrike">
              <a:solidFill>
                <a:srgbClr val="000000"/>
              </a:solidFill>
              <a:latin typeface="Calibri"/>
            </a:endParaRPr>
          </a:p>
        </p:txBody>
      </p:sp>
      <p:sp>
        <p:nvSpPr>
          <p:cNvPr id="367" name="文本框 8"/>
          <p:cNvSpPr/>
          <p:nvPr/>
        </p:nvSpPr>
        <p:spPr>
          <a:xfrm>
            <a:off x="284040" y="2660760"/>
            <a:ext cx="839016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a large variety of milling cutters to suit specific requirements. The cutters most generally used, shown in Fig.1-4, are classified according to their general shape or the type of work they will do.</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Plain milling cut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y are basically </a:t>
            </a:r>
            <a:r>
              <a:rPr b="0" lang="en-US" sz="1600" spc="-1" strike="noStrike" u="sng">
                <a:solidFill>
                  <a:srgbClr val="000000"/>
                </a:solidFill>
                <a:uFillTx/>
                <a:latin typeface="Times New Roman"/>
                <a:ea typeface="Times New Roman"/>
              </a:rPr>
              <a:t>cylindrical w</a:t>
            </a:r>
            <a:r>
              <a:rPr b="0" lang="en-US" sz="1600" spc="-1" strike="noStrike">
                <a:solidFill>
                  <a:srgbClr val="000000"/>
                </a:solidFill>
                <a:latin typeface="Times New Roman"/>
                <a:ea typeface="Times New Roman"/>
              </a:rPr>
              <a:t>ith the cutting teeth on the </a:t>
            </a:r>
            <a:r>
              <a:rPr b="0" lang="en-US" sz="1600" spc="-1" strike="noStrike" u="sng">
                <a:solidFill>
                  <a:srgbClr val="000000"/>
                </a:solidFill>
                <a:uFillTx/>
                <a:latin typeface="Times New Roman"/>
                <a:ea typeface="Times New Roman"/>
              </a:rPr>
              <a:t>periphery</a:t>
            </a:r>
            <a:r>
              <a:rPr b="0" lang="en-US" sz="1600" spc="-1" strike="noStrike">
                <a:solidFill>
                  <a:srgbClr val="000000"/>
                </a:solidFill>
                <a:latin typeface="Times New Roman"/>
                <a:ea typeface="Times New Roman"/>
              </a:rPr>
              <a:t>, and the teeth may be straight or helical, as shown in Fig.1-4a. The helical teeth generally are preferred over straight teeth because the tooth is partially engaged with the workpiece as it rotates.  Consequently, the cutting force variation will be smaller, resulting in a smoother operation. The cutters are generally used for machining flat surfac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Face milling cutters</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y have cutting edges on the face and periphery. The cutting teeth, such as carbide inserts</a:t>
            </a:r>
            <a:r>
              <a:rPr b="0" lang="en-US" sz="1600" spc="-1" strike="noStrike">
                <a:solidFill>
                  <a:srgbClr val="000000"/>
                </a:solidFill>
                <a:latin typeface="Times New Roman"/>
                <a:ea typeface="微软雅黑"/>
              </a:rPr>
              <a:t>, </a:t>
            </a:r>
            <a:r>
              <a:rPr b="0" lang="en-US" sz="1600" spc="-1" strike="noStrike">
                <a:solidFill>
                  <a:srgbClr val="000000"/>
                </a:solidFill>
                <a:latin typeface="Times New Roman"/>
                <a:ea typeface="Times New Roman"/>
              </a:rPr>
              <a:t>are mounted on the cutter body as shown in Fig.1-4b.</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9" name="文本框 2"/>
          <p:cNvSpPr/>
          <p:nvPr/>
        </p:nvSpPr>
        <p:spPr>
          <a:xfrm>
            <a:off x="0" y="598320"/>
            <a:ext cx="4753080" cy="5447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ost larger-sized milling cutters are of inserted-tooth type. The cutter body is made of ordinary steel, with the teeth made of high speed steel, cemented carbide, or ceramics, fastened to the cutter body by various methods. Most commonly, the teeth are indexable carbide or ceramic inser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litting sa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y are very similar to a saw blade in appearance as well as function (Fig. 1-4c). The thickness of these cutters is generally very small. The cutters are employed for cutting off operations and deep slo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Side and face</a:t>
            </a:r>
            <a:r>
              <a:rPr b="1" lang="en-US" sz="1600" spc="-1" strike="noStrike" u="sng">
                <a:solidFill>
                  <a:srgbClr val="000000"/>
                </a:solidFill>
                <a:uFillTx/>
                <a:latin typeface="Times New Roman"/>
                <a:ea typeface="Times New Roman"/>
              </a:rPr>
              <a:t> cut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y have cutting edges not only on the periphery like the plain milling cutters, but also on both the sides (Fig. 1-4d). As was the case with the plain milling cutter, the cutting teeth can be straight or helic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Times New Roman"/>
                <a:ea typeface="Times New Roman"/>
              </a:rPr>
              <a:t>Ang</a:t>
            </a:r>
            <a:r>
              <a:rPr b="1" lang="en-US" sz="1600" spc="-1" strike="noStrike">
                <a:solidFill>
                  <a:srgbClr val="000000"/>
                </a:solidFill>
                <a:latin typeface="Times New Roman"/>
                <a:ea typeface="Times New Roman"/>
              </a:rPr>
              <a:t>le milling cutte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They are </a:t>
            </a:r>
            <a:r>
              <a:rPr b="0" lang="en-US" sz="1600" spc="-1" strike="noStrike">
                <a:solidFill>
                  <a:srgbClr val="000000"/>
                </a:solidFill>
                <a:latin typeface="Times New Roman"/>
                <a:ea typeface="Times New Roman"/>
              </a:rPr>
              <a:t>used in cutting dovetail grooves and the like. Figure 28.4e indicates a milling cutter of this typ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T-sl</a:t>
            </a:r>
            <a:r>
              <a:rPr b="1" lang="en-US" sz="1600" spc="-1" strike="noStrike" u="sng">
                <a:solidFill>
                  <a:srgbClr val="000000"/>
                </a:solidFill>
                <a:uFillTx/>
                <a:latin typeface="Times New Roman"/>
                <a:ea typeface="Times New Roman"/>
              </a:rPr>
              <a:t>ot cutte</a:t>
            </a:r>
            <a:r>
              <a:rPr b="1" lang="en-US" sz="1600" spc="-1" strike="noStrike">
                <a:solidFill>
                  <a:srgbClr val="000000"/>
                </a:solidFill>
                <a:latin typeface="Times New Roman"/>
                <a:ea typeface="Times New Roman"/>
              </a:rPr>
              <a:t>r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slot cutters (Fig.1-4f) are used for milling T-slots such as those in the milling machine table.</a:t>
            </a:r>
            <a:endParaRPr b="0" lang="en-US" sz="1600" spc="-1" strike="noStrike">
              <a:solidFill>
                <a:srgbClr val="000000"/>
              </a:solidFill>
              <a:latin typeface="Calibri"/>
            </a:endParaRPr>
          </a:p>
        </p:txBody>
      </p:sp>
      <p:pic>
        <p:nvPicPr>
          <p:cNvPr id="370" name="图片 5" descr=""/>
          <p:cNvPicPr/>
          <p:nvPr/>
        </p:nvPicPr>
        <p:blipFill>
          <a:blip r:embed="rId1"/>
          <a:stretch/>
        </p:blipFill>
        <p:spPr>
          <a:xfrm>
            <a:off x="4859280" y="598320"/>
            <a:ext cx="4181400" cy="2527560"/>
          </a:xfrm>
          <a:prstGeom prst="rect">
            <a:avLst/>
          </a:prstGeom>
          <a:ln w="0">
            <a:noFill/>
          </a:ln>
        </p:spPr>
      </p:pic>
      <p:pic>
        <p:nvPicPr>
          <p:cNvPr id="371" name="图片 8" descr=""/>
          <p:cNvPicPr/>
          <p:nvPr/>
        </p:nvPicPr>
        <p:blipFill>
          <a:blip r:embed="rId2"/>
          <a:stretch/>
        </p:blipFill>
        <p:spPr>
          <a:xfrm>
            <a:off x="4856040" y="3125880"/>
            <a:ext cx="4280040" cy="1415880"/>
          </a:xfrm>
          <a:prstGeom prst="rect">
            <a:avLst/>
          </a:prstGeom>
          <a:ln w="0">
            <a:noFill/>
          </a:ln>
        </p:spPr>
      </p:pic>
      <p:sp>
        <p:nvSpPr>
          <p:cNvPr id="372" name="文本框 10"/>
          <p:cNvSpPr/>
          <p:nvPr/>
        </p:nvSpPr>
        <p:spPr>
          <a:xfrm>
            <a:off x="4886280" y="4797360"/>
            <a:ext cx="459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ure 1-4.Types of milling cutter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4" name="文本框 4"/>
          <p:cNvSpPr/>
          <p:nvPr/>
        </p:nvSpPr>
        <p:spPr>
          <a:xfrm>
            <a:off x="395280" y="692280"/>
            <a:ext cx="828036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Times New Roman"/>
                <a:ea typeface="Times New Roman"/>
              </a:rPr>
              <a:t>End mi</a:t>
            </a:r>
            <a:r>
              <a:rPr b="1" lang="en-US" sz="1600" spc="-1" strike="noStrike">
                <a:solidFill>
                  <a:srgbClr val="000000"/>
                </a:solidFill>
                <a:latin typeface="Times New Roman"/>
                <a:ea typeface="Times New Roman"/>
              </a:rPr>
              <a:t>ll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re are a large variety of end mills. One of distinctions is based on the method of holding,</a:t>
            </a: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Times New Roman"/>
              </a:rPr>
              <a:t>i. e., the end mill shank can be straight or </a:t>
            </a:r>
            <a:r>
              <a:rPr b="0" lang="en-US" sz="1600" spc="-1" strike="noStrike" u="sng">
                <a:solidFill>
                  <a:srgbClr val="000000"/>
                </a:solidFill>
                <a:uFillTx/>
                <a:latin typeface="Times New Roman"/>
                <a:ea typeface="Times New Roman"/>
              </a:rPr>
              <a:t>tapered</a:t>
            </a:r>
            <a:r>
              <a:rPr b="0" lang="en-US" sz="1600" spc="-1" strike="noStrike">
                <a:solidFill>
                  <a:srgbClr val="000000"/>
                </a:solidFill>
                <a:latin typeface="Times New Roman"/>
                <a:ea typeface="Times New Roman"/>
              </a:rPr>
              <a:t>. The straight shank is used on end mills of small size. </a:t>
            </a:r>
            <a:r>
              <a:rPr b="0" i="1" lang="en-US" sz="1600" spc="-1" strike="noStrike" u="sng">
                <a:solidFill>
                  <a:srgbClr val="000000"/>
                </a:solidFill>
                <a:uFillTx/>
                <a:latin typeface="Times New Roman"/>
                <a:ea typeface="Times New Roman"/>
              </a:rPr>
              <a:t>The</a:t>
            </a:r>
            <a:r>
              <a:rPr b="0" lang="en-US" sz="1600" spc="-1" strike="noStrike" u="sng">
                <a:solidFill>
                  <a:srgbClr val="000000"/>
                </a:solidFill>
                <a:uFillTx/>
                <a:latin typeface="Times New Roman"/>
                <a:ea typeface="Times New Roman"/>
              </a:rPr>
              <a:t> tapered shank</a:t>
            </a:r>
            <a:r>
              <a:rPr b="0" lang="en-US" sz="1600" spc="-1" strike="noStrike">
                <a:solidFill>
                  <a:srgbClr val="000000"/>
                </a:solidFill>
                <a:latin typeface="Times New Roman"/>
                <a:ea typeface="Times New Roman"/>
              </a:rPr>
              <a:t> is used for large cutter sizes. The culler usually rotates on an axis perpendicular to the workpiece surfa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ure 1-4g shows three kinds of end mills. The cutter can remove material on both its end and its cylindrical culling edges. Vertical milling </a:t>
            </a:r>
            <a:r>
              <a:rPr b="0" lang="en-US" sz="1600" spc="-1" strike="noStrike">
                <a:solidFill>
                  <a:srgbClr val="000000"/>
                </a:solidFill>
                <a:latin typeface="Times New Roman"/>
                <a:ea typeface="Times New Roman"/>
              </a:rPr>
              <a:t>machines and machining centers can be used for end milling of various sizes and shap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6" name="文本框 3" descr=""/>
          <p:cNvPicPr/>
          <p:nvPr/>
        </p:nvPicPr>
        <p:blipFill>
          <a:blip r:embed="rId1"/>
          <a:stretch/>
        </p:blipFill>
        <p:spPr>
          <a:xfrm>
            <a:off x="92160" y="963720"/>
            <a:ext cx="4589280" cy="4655880"/>
          </a:xfrm>
          <a:prstGeom prst="rect">
            <a:avLst/>
          </a:prstGeom>
          <a:ln w="0">
            <a:noFill/>
          </a:ln>
        </p:spPr>
      </p:pic>
      <p:pic>
        <p:nvPicPr>
          <p:cNvPr id="377" name="文本框 6" descr=""/>
          <p:cNvPicPr/>
          <p:nvPr/>
        </p:nvPicPr>
        <p:blipFill>
          <a:blip r:embed="rId2"/>
          <a:stretch/>
        </p:blipFill>
        <p:spPr>
          <a:xfrm>
            <a:off x="4462560" y="476280"/>
            <a:ext cx="4572000" cy="5510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79" name="文本框 6" descr=""/>
          <p:cNvPicPr/>
          <p:nvPr/>
        </p:nvPicPr>
        <p:blipFill>
          <a:blip r:embed="rId1"/>
          <a:stretch/>
        </p:blipFill>
        <p:spPr>
          <a:xfrm>
            <a:off x="225360" y="596880"/>
            <a:ext cx="8620200" cy="4054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6:40:55Z</dcterms:modified>
  <cp:revision>13</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