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881639-4B00-470E-A7B3-9FEB80E22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6B15E-EBF2-41E0-B8A4-64DC20D92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08DD0B-7C5C-4E75-8A2E-F0DB4572B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39F15-5AE2-4CF5-A947-21A883856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6EE5D7-BCC0-4C25-A854-4301E1F63B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98EB3B-65C1-456B-B97D-EB90FFFE7E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F29C06-048A-475F-BE5F-2FBBC9A2FB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791756-391B-4F0D-A79C-17AD5FCB45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87A1E-9880-4CE9-B486-388388AFFA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D53E5B-F1BE-4AF7-90AB-CB48A177F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C925B4-418D-4286-B576-EF551C4259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6CD93-D295-49AD-8706-8A3E52F879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7D440A-E0C0-4093-9240-922A066E87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EB4299-1156-4DB1-92D1-9A71029D9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3167F3-6E8E-4A2E-9DDD-830DD4EBD8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DBF2B7-C86D-4C4E-8300-0D832A0AB6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9E34AD-B65E-473A-8F23-2B9670F5F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D13FC-159C-46F0-9674-A4899EC0174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E35F85-F879-4F5D-AF1F-D1D603F3C8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594014-FC52-458F-9E92-44FA451D88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DCDA57A-BA4B-485C-853F-39FE0B6957A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A9A5B-7F8B-40BA-9241-0D66E2C8F45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806DD7-5B95-4F8D-A20B-1768E7CF4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00A25E-ECF6-4671-B346-C814F399F92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1F68B0-0040-4FD4-8C15-68EC676C52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B4E667-3D1C-411E-B539-A236386BCB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FF8732-973C-46C2-A81A-8A16B5F563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E256E3-19D5-49D8-8CE6-4CB2734FFB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A42FA8-C3DF-4BE9-B6F4-46D5299ACA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606DA85-A2A7-4DC9-BF9C-72B5AE769F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BDB08F4-F583-4742-95ED-9566CA6A4F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3825C5-62A0-4828-AF64-BA70704BE4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483DFE-8193-402C-92C9-C0BC8B41212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99D57F-AEFD-40F1-BB2D-E2A65DF92C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268C71-67BA-47C7-B7CF-C9DA365C50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D82039-E136-4CEA-B2DD-A02411C870E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5E9892-53B7-4DCC-80E3-37BC7C806A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5E4F03-AB04-4AC9-B4B7-19D9C9D1089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044BA9-AEC0-4257-939D-15AA18505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E7C2AD-C052-4F32-AF0A-EDBE9A3020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C1E3C2-C9E9-491D-80A5-3482CC4FB47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8016E5B-B4E3-4DDD-8F52-B247924EC5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DC4AC6C-961C-429F-8286-E16D4621D9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31EB15-3CD9-46F2-89BB-A075844B37A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F3A0CD-FF52-4121-AC8C-10442EA93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E149DF-3798-403B-A72E-55564BD0FF9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1E7DB7-8D9D-4C4C-959D-374550490A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81646B-D2D5-493A-B12B-21B3A0ADB16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380F9E-0B20-4C58-A0B9-23893E0D13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22D1FF-359A-48C9-B841-3F1B901AE0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8A0EA4-0388-4B3F-A284-CF7AE2D494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9DCE1F-CE74-4E44-A2CC-E0B095C34A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83A5C-889F-4F46-BF66-2E3DE4E3E9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B75F5E4-00C8-4254-850D-DB3D2D3B9C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A091598-82D5-41C2-B35A-5307D9BD7C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A6A43-9D0C-4D6A-BFDD-664281689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D24928-2E17-4E52-B41C-989FB050A27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B886F5-E7DA-4B1E-93E0-34B7508CA67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B5F2DA-087F-4FB2-B033-13CA9F4EC4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E8E3B7-939E-4A0E-A802-C6210E954F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AC2DC7-19B5-4DBD-B5E8-2DC383EEDD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8DCCDC-210B-461F-BFDC-9024ED49A3C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7CA7232-6ABD-40DC-90A4-A633B74196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8F6F1D-561C-4AC4-A599-90140158EBD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AFC9489-BFF7-4888-A3CF-69D67DF058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66F1BC-82D9-499B-B2FB-002B5257C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ECFCF5-E6D5-48B2-BE29-F9BA55A6D4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DE9C60-BB3F-4005-AA75-C844E11081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FE60EE-501F-4F0B-9E4B-3AC6501C21F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1535AF-75F1-425D-AA36-FE1B1126868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A017D7B-FB2C-44CD-BD95-6E0F54EDA27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632DC03-001A-4FE3-9333-9579F6E131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D5CB7E-0325-4792-BE7E-D68F1CA47DD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0F7B7B-D2A7-4398-BC3B-8A1784882E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61E9F2C-8ADC-410B-91DE-5FB272D8E5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3BAB02-CCB9-4731-AAEF-1EBA07C2418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C52355-5B40-4ED7-9D28-9CED43D32D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975C18-730A-4114-B194-C7BC4BC3EF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037C180-DB1A-4B2F-849A-25DB87DB96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ED0F73B-498D-437A-A8B8-7A4709EDC6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E9D3078-F4A7-49F1-8570-11E98A02110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832928-CFFB-4A2F-860E-8F88C660A1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6CF1740-1DBB-4AE4-AAB3-CF7891BE3A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DD062FA-6835-42D8-84C5-D817195BAD4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DFDF293-CA54-4401-BA20-1B85A37985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0673D6-4AA0-491D-9652-23A01F5CFE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D0D85-56CC-4DB2-AD2E-2907850558D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CE0722-8D91-4164-8D53-1D24C62E080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7823B0-D292-4D7C-AB1B-CF8C121453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379130F-ACC6-4767-B478-625D2AB6381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A790EC-1C56-457E-ADAC-FB1E9081B6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E37079-8BBD-4EFE-9E0C-CC2A5C0713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7C896D-8A85-4F3B-9BA4-EECBD99CFC2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E54FB06-80A3-4E7B-B897-D0249C415F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FF47D6A-1946-4FD1-919B-CD2F3F32B9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80FC22-17B2-48CB-A04D-87389D1150F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0CEFE4-4B46-47E2-B9CC-1EE3FEDF97E0}"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2CC98A-4CAF-4DA0-9FB7-44E2D02D7356}"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66BCB90-5087-4C5E-9E4F-8F0CF0AE696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E6E34E2-6535-4FD5-A8C7-292C954A1CD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28525A-84DE-4A6A-9F65-74CA786B068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1637F6-7FC5-484C-AF41-CB10B03DCCB7}"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A3971D-7D6D-40F9-B6DB-A4793608AE0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84712F-B7FC-4C3C-8472-5DD3CE9564C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2.1 MATERIAL FORMING</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等线"/>
                <a:ea typeface="等线"/>
              </a:rPr>
              <a:t>材料成型概论</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5048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12600" y="598320"/>
            <a:ext cx="5102280" cy="3501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 Material Forming Process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term material forming refers to a group of manufacturing methods by which the given shape of a workpiece (a solid body) is converted to another shape without change in the mass or composition of the material of the workpie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ld Forming and Hot Form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By applying a stress that exceeds the original yield strength of metallic material</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we have strain hardened or cold worked the metallic material</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while simultaneously deforming it. This is the basis for many manufacturing techniques, such as wire drawing. Fig.1-1 illustrates several manufacturing processes that make use of both cold-working and hot-working processes.</a:t>
            </a:r>
            <a:endParaRPr b="0" lang="en-US" sz="1600" spc="-1" strike="noStrike">
              <a:solidFill>
                <a:srgbClr val="000000"/>
              </a:solidFill>
              <a:latin typeface="Calibri"/>
            </a:endParaRPr>
          </a:p>
        </p:txBody>
      </p:sp>
      <p:pic>
        <p:nvPicPr>
          <p:cNvPr id="355" name="图片 2" descr=""/>
          <p:cNvPicPr/>
          <p:nvPr/>
        </p:nvPicPr>
        <p:blipFill>
          <a:blip r:embed="rId1"/>
          <a:stretch/>
        </p:blipFill>
        <p:spPr>
          <a:xfrm>
            <a:off x="5106960" y="611280"/>
            <a:ext cx="4041720" cy="2735280"/>
          </a:xfrm>
          <a:prstGeom prst="rect">
            <a:avLst/>
          </a:prstGeom>
          <a:ln w="0">
            <a:noFill/>
          </a:ln>
        </p:spPr>
      </p:pic>
      <p:pic>
        <p:nvPicPr>
          <p:cNvPr id="356" name="图片 4" descr=""/>
          <p:cNvPicPr/>
          <p:nvPr/>
        </p:nvPicPr>
        <p:blipFill>
          <a:blip r:embed="rId2"/>
          <a:stretch/>
        </p:blipFill>
        <p:spPr>
          <a:xfrm>
            <a:off x="5508720" y="3645000"/>
            <a:ext cx="3635280" cy="1325520"/>
          </a:xfrm>
          <a:prstGeom prst="rect">
            <a:avLst/>
          </a:prstGeom>
          <a:ln w="0">
            <a:noFill/>
          </a:ln>
        </p:spPr>
      </p:pic>
      <p:sp>
        <p:nvSpPr>
          <p:cNvPr id="357" name="文本框 6"/>
          <p:cNvSpPr/>
          <p:nvPr/>
        </p:nvSpPr>
        <p:spPr>
          <a:xfrm>
            <a:off x="5396040" y="5268960"/>
            <a:ext cx="37321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1 Metal Forming Processes That Make Use of Cold Working</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s Well As Hot Working</a:t>
            </a:r>
            <a:endParaRPr b="0" lang="en-US" sz="1400" spc="-1" strike="noStrike">
              <a:solidFill>
                <a:srgbClr val="000000"/>
              </a:solidFill>
              <a:latin typeface="Calibri"/>
            </a:endParaRPr>
          </a:p>
        </p:txBody>
      </p:sp>
      <p:sp>
        <p:nvSpPr>
          <p:cNvPr id="358" name="文本框 9"/>
          <p:cNvSpPr/>
          <p:nvPr/>
        </p:nvSpPr>
        <p:spPr>
          <a:xfrm>
            <a:off x="12600" y="4114800"/>
            <a:ext cx="509436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Principles of Plastic Form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lasticity theory is the foundation for the numerical treatment of metal forming processes. Materials science and metallurgy</a:t>
            </a:r>
            <a:r>
              <a:rPr b="1"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an explain the origins of the plastic state of metallic bodies and its dependence on various parameter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such as process speed</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prior history</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temperatur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nd so on. The essentially older plasticity theory deals with the calculation of stresse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force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and deformation.</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0" name="文本框 3"/>
          <p:cNvSpPr/>
          <p:nvPr/>
        </p:nvSpPr>
        <p:spPr>
          <a:xfrm>
            <a:off x="179280" y="598320"/>
            <a:ext cx="8569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Methods Used in Material Form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following classification of the deformation methods into five groups is based mainly on the important differences in effective stresses. No simple descriptions of stress states are possible sinc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depending on the kind of operation</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different stress states may occur simultaneously</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or they may change during the course of the deforming operation. Therefore</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the predominant stresses are chosen as the classification criteria.</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
        <p:nvSpPr>
          <p:cNvPr id="361" name="文本框 5"/>
          <p:cNvSpPr/>
          <p:nvPr/>
        </p:nvSpPr>
        <p:spPr>
          <a:xfrm>
            <a:off x="179280" y="2133720"/>
            <a:ext cx="8569440" cy="3987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I Material Forming Processe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this section, a short description of the process examples about material forming will be given. But assembly and joining processes are not described her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Forg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orging can be characterized as: mass conserving, solid state of work material (metal), and mechanical primary basic process-plastic deformation. Technically, forging may be defined as the process of giving metal increased utility by shaping it, refining it, and improving its mechanical properties through controlled plastic deformation under impact or pressure.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Roll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Rolling can be characterized as: mass conserving, solid state of material, mechanical primary basic process-plastic deformation. Rolling is extensively used in the manufacturing of plates, sheets, structural beams, and so on. Fig.1-2 (b) shows the rolling of plates or sheets. An ingot is produced in casting and in several stages it is reduced in thickness, usually while hot. Since the width of the work material is kept constant, its length is increased according to the reductions. After the last hot-rolling stage, a final stage is carried out cold to improve surface quality and tolerances and to increase strength. In rolling, the profiles of the rolls are designed to produce the desired geometry.</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3" name="文本框 3"/>
          <p:cNvSpPr/>
          <p:nvPr/>
        </p:nvSpPr>
        <p:spPr>
          <a:xfrm>
            <a:off x="250920" y="598320"/>
            <a:ext cx="352908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Powder Compa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owder compaction can be characterized as: mass conserving, granular state of material, mechanical basic process-flow and plastic deformation. In this context, only compaction of metal powders is mentioned, but generally compaction of molding sand, ceramic materials, and so on, also belong in this categor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ast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sting can be characterized as: mass conserving, fluid state of material, mechanical basic process-filling of the die cavity. Casting is one of oldest manufacturing methods and one of the best known processes. The material is melted and poured into a die cavity corresponding to the desired geometry [as shown in Fig. 1-2(d)]. </a:t>
            </a:r>
            <a:endParaRPr b="0" lang="en-US" sz="1600" spc="-1" strike="noStrike">
              <a:solidFill>
                <a:srgbClr val="000000"/>
              </a:solidFill>
              <a:latin typeface="Calibri"/>
            </a:endParaRPr>
          </a:p>
        </p:txBody>
      </p:sp>
      <p:pic>
        <p:nvPicPr>
          <p:cNvPr id="364" name="图片 6" descr=""/>
          <p:cNvPicPr/>
          <p:nvPr/>
        </p:nvPicPr>
        <p:blipFill>
          <a:blip r:embed="rId1"/>
          <a:stretch/>
        </p:blipFill>
        <p:spPr>
          <a:xfrm>
            <a:off x="3949560" y="534960"/>
            <a:ext cx="4997520" cy="2419200"/>
          </a:xfrm>
          <a:prstGeom prst="rect">
            <a:avLst/>
          </a:prstGeom>
          <a:ln w="0">
            <a:noFill/>
          </a:ln>
        </p:spPr>
      </p:pic>
      <p:sp>
        <p:nvSpPr>
          <p:cNvPr id="365" name="文本框 9"/>
          <p:cNvSpPr/>
          <p:nvPr/>
        </p:nvSpPr>
        <p:spPr>
          <a:xfrm>
            <a:off x="4265640" y="3290760"/>
            <a:ext cx="4597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2 Mass-conserving Processes in the Solid State of the Work Material</a:t>
            </a:r>
            <a:endParaRPr b="0" lang="en-US" sz="1400" spc="-1" strike="noStrike">
              <a:solidFill>
                <a:srgbClr val="000000"/>
              </a:solidFill>
              <a:latin typeface="Calibri"/>
            </a:endParaRPr>
          </a:p>
        </p:txBody>
      </p:sp>
      <p:sp>
        <p:nvSpPr>
          <p:cNvPr id="366" name="文本框 11"/>
          <p:cNvSpPr/>
          <p:nvPr/>
        </p:nvSpPr>
        <p:spPr>
          <a:xfrm>
            <a:off x="3990960" y="3814920"/>
            <a:ext cx="491328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Turning</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urning can be characterized as: mass reducing, solid state of work material, mechanical primary basic process-fracture. The turning process, which is the best known and most widely used mass-reducing process, is employed to manufacture all types of cylindrical shapes by removing material in the form of chips from the work material with a cutting tool [as shown in Fig.1-3(a)]. </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8" name="文本框 2"/>
          <p:cNvSpPr/>
          <p:nvPr/>
        </p:nvSpPr>
        <p:spPr>
          <a:xfrm>
            <a:off x="179280" y="692280"/>
            <a:ext cx="871380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work material rotates and the cutting tool is fed longitudinally. The cutting tool is much harder and more wear resistant than the work material. A variety of types of lathes are employed, some of which are automatic in operation. The lathes are usually powered by electric motors which, through various gears, supply the necessary torque to the work material and provide the feed motion to the tool.</a:t>
            </a:r>
            <a:endParaRPr b="0" lang="en-US" sz="1600" spc="-1" strike="noStrike">
              <a:solidFill>
                <a:srgbClr val="000000"/>
              </a:solidFill>
              <a:latin typeface="Calibri"/>
            </a:endParaRPr>
          </a:p>
        </p:txBody>
      </p:sp>
      <p:sp>
        <p:nvSpPr>
          <p:cNvPr id="369" name="文本框 6"/>
          <p:cNvSpPr/>
          <p:nvPr/>
        </p:nvSpPr>
        <p:spPr>
          <a:xfrm>
            <a:off x="247680" y="1762200"/>
            <a:ext cx="862344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ED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Electrical discharge machining (EDM) can be characterized as: mass reducing, solid state of work material, thermal primary basic process-melting and evaporation [as shown in Fig.1-3 (d)]. In EDM, material is removed by the erosive action of numerous small electrical discharges (sparks) between the work material and the tool (electrode), the latter having the inverse shape of the desired geometry. Each discharge occurs when the potential difference between the work material and the tool is large enough to cause a breakdown in the fluid medium, fed into the gap between the tool and work piece under pressure, producing a conductive spark channel. The fluid medium, which is normally mineral oil or kerosene, has several functions. </a:t>
            </a:r>
            <a:endParaRPr b="0" lang="en-US" sz="1600" spc="-1" strike="noStrike">
              <a:solidFill>
                <a:srgbClr val="000000"/>
              </a:solidFill>
              <a:latin typeface="Calibri"/>
            </a:endParaRPr>
          </a:p>
        </p:txBody>
      </p:sp>
      <p:sp>
        <p:nvSpPr>
          <p:cNvPr id="370" name="文本框 10"/>
          <p:cNvSpPr/>
          <p:nvPr/>
        </p:nvSpPr>
        <p:spPr>
          <a:xfrm>
            <a:off x="272880" y="4049640"/>
            <a:ext cx="845532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EC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lectrochemical machining (ECM) can be characterized as</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mass reducing, solid state of work material, chemical primary basic process-electrolytic dissolution [as shown in Fig.1-3 (e)]. Electrolytic dissolution of the work piece is established through an electric circuit, where the work material is made the anode, and the tool, which is approximately the inverse shape of the desired geometry, is made the cathode. The electrolytes normally used are water-based saline solutions (sodium chloride and sodium nitrate in 10%</a:t>
            </a:r>
            <a:r>
              <a:rPr b="0" lang="zh-CN" sz="1600" spc="-1" strike="noStrike">
                <a:solidFill>
                  <a:srgbClr val="000000"/>
                </a:solidFill>
                <a:latin typeface="Times New Roman"/>
                <a:ea typeface="宋体"/>
              </a:rPr>
              <a:t>～</a:t>
            </a:r>
            <a:r>
              <a:rPr b="0" lang="en-US" sz="1600" spc="-1" strike="noStrike">
                <a:solidFill>
                  <a:srgbClr val="000000"/>
                </a:solidFill>
                <a:latin typeface="Times New Roman"/>
                <a:ea typeface="宋体"/>
              </a:rPr>
              <a:t>30% solutions).</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2" name="文本框 2"/>
          <p:cNvSpPr/>
          <p:nvPr/>
        </p:nvSpPr>
        <p:spPr>
          <a:xfrm>
            <a:off x="250920" y="598320"/>
            <a:ext cx="489744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Flame Cutt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Flame cutting can be characterized as: mass reducing, solid state of work material, chemical primary basic process-combustion [as shown in Fig.1-3 (f)]. In flame cutting, the material (a ferrous metal) is heated to a temperature where combustion by the oxygen supply can start. Theoretically, the heat liberated should be sufficient to maintain the reaction once started, but because of heat losses to the atmosphere and the material, a certain amount of heat must be supplied continuously. A torch is designed to provide heat both for starting and maintaining the reaction. Most widely used is the oxyacetylene cutting torch, where heat is created by the combustion of acetylene and oxygen. </a:t>
            </a:r>
            <a:endParaRPr b="0" lang="en-US" sz="1600" spc="-1" strike="noStrike">
              <a:solidFill>
                <a:srgbClr val="000000"/>
              </a:solidFill>
              <a:latin typeface="Calibri"/>
            </a:endParaRPr>
          </a:p>
        </p:txBody>
      </p:sp>
      <p:pic>
        <p:nvPicPr>
          <p:cNvPr id="373" name="图片 4" descr=""/>
          <p:cNvPicPr/>
          <p:nvPr/>
        </p:nvPicPr>
        <p:blipFill>
          <a:blip r:embed="rId1"/>
          <a:stretch/>
        </p:blipFill>
        <p:spPr>
          <a:xfrm>
            <a:off x="5230800" y="295200"/>
            <a:ext cx="3887640" cy="2486160"/>
          </a:xfrm>
          <a:prstGeom prst="rect">
            <a:avLst/>
          </a:prstGeom>
          <a:ln w="0">
            <a:noFill/>
          </a:ln>
        </p:spPr>
      </p:pic>
      <p:pic>
        <p:nvPicPr>
          <p:cNvPr id="374" name="图片 6" descr=""/>
          <p:cNvPicPr/>
          <p:nvPr/>
        </p:nvPicPr>
        <p:blipFill>
          <a:blip r:embed="rId2"/>
          <a:stretch/>
        </p:blipFill>
        <p:spPr>
          <a:xfrm>
            <a:off x="5435640" y="2962440"/>
            <a:ext cx="3540240" cy="2228760"/>
          </a:xfrm>
          <a:prstGeom prst="rect">
            <a:avLst/>
          </a:prstGeom>
          <a:ln w="0">
            <a:noFill/>
          </a:ln>
        </p:spPr>
      </p:pic>
      <p:pic>
        <p:nvPicPr>
          <p:cNvPr id="375" name="图片 8" descr=""/>
          <p:cNvPicPr/>
          <p:nvPr/>
        </p:nvPicPr>
        <p:blipFill>
          <a:blip r:embed="rId3"/>
          <a:stretch/>
        </p:blipFill>
        <p:spPr>
          <a:xfrm>
            <a:off x="5435640" y="5218200"/>
            <a:ext cx="3728880" cy="917640"/>
          </a:xfrm>
          <a:prstGeom prst="rect">
            <a:avLst/>
          </a:prstGeom>
          <a:ln w="0">
            <a:noFill/>
          </a:ln>
        </p:spPr>
      </p:pic>
      <p:sp>
        <p:nvSpPr>
          <p:cNvPr id="376" name="文本框 10"/>
          <p:cNvSpPr/>
          <p:nvPr/>
        </p:nvSpPr>
        <p:spPr>
          <a:xfrm>
            <a:off x="5581800" y="6273720"/>
            <a:ext cx="3595680" cy="5202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3 Mass-reducing Processes in the Solid State of the Work Material</a:t>
            </a:r>
            <a:endParaRPr b="0" lang="en-US" sz="1400" spc="-1" strike="noStrike">
              <a:solidFill>
                <a:srgbClr val="000000"/>
              </a:solidFill>
              <a:latin typeface="Calibri"/>
            </a:endParaRPr>
          </a:p>
        </p:txBody>
      </p:sp>
      <p:sp>
        <p:nvSpPr>
          <p:cNvPr id="377" name="文本框 12"/>
          <p:cNvSpPr/>
          <p:nvPr/>
        </p:nvSpPr>
        <p:spPr>
          <a:xfrm>
            <a:off x="250920" y="4076640"/>
            <a:ext cx="489744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Fine Blank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ne blanking is a technique used for production of blanks perfectly flat and with a cut edge which is comparable to a machined finish. This quick and easy process is worthy of serious thought when the number of parts justifies the cost of a blanking tool especially when consideration is given to the fact that operations such as shaving are eliminated.</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9" name="文本框 5"/>
          <p:cNvSpPr/>
          <p:nvPr/>
        </p:nvSpPr>
        <p:spPr>
          <a:xfrm>
            <a:off x="108000" y="981000"/>
            <a:ext cx="4578480" cy="4143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ynonymously   </a:t>
            </a:r>
            <a:r>
              <a:rPr b="0" i="1" lang="en-US" sz="1400" spc="-1" strike="noStrike">
                <a:solidFill>
                  <a:srgbClr val="000000"/>
                </a:solidFill>
                <a:latin typeface="Times New Roman"/>
                <a:ea typeface="宋体"/>
              </a:rPr>
              <a:t>ad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同义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hesion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结合，凝聚，</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物理</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内聚力结合</a:t>
            </a:r>
            <a:r>
              <a:rPr b="0" lang="en-US" sz="1400" spc="-1" strike="noStrike">
                <a:solidFill>
                  <a:srgbClr val="000000"/>
                </a:solidFill>
                <a:latin typeface="Times New Roman"/>
                <a:ea typeface="宋体"/>
              </a:rPr>
              <a:t>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ubassembly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部件，组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mpregnate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使充满</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注入，灌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alvanise   </a:t>
            </a:r>
            <a:r>
              <a:rPr b="0" i="1" lang="en-US" sz="1400" spc="-1" strike="noStrike">
                <a:solidFill>
                  <a:srgbClr val="000000"/>
                </a:solidFill>
                <a:latin typeface="Times New Roman"/>
                <a:ea typeface="宋体"/>
              </a:rPr>
              <a:t>v .</a:t>
            </a:r>
            <a:r>
              <a:rPr b="0" lang="en-US" sz="1400" spc="-1" strike="noStrike">
                <a:solidFill>
                  <a:srgbClr val="000000"/>
                </a:solidFill>
                <a:latin typeface="Times New Roman"/>
                <a:ea typeface="宋体"/>
              </a:rPr>
              <a:t>&amp;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lt;</a:t>
            </a:r>
            <a:r>
              <a:rPr b="0" lang="zh-CN" sz="1400" spc="-1" strike="noStrike">
                <a:solidFill>
                  <a:srgbClr val="000000"/>
                </a:solidFill>
                <a:latin typeface="Times New Roman"/>
                <a:ea typeface="宋体"/>
              </a:rPr>
              <a:t>英</a:t>
            </a:r>
            <a:r>
              <a:rPr b="0" lang="en-US" sz="1400" spc="-1" strike="noStrike">
                <a:solidFill>
                  <a:srgbClr val="000000"/>
                </a:solidFill>
                <a:latin typeface="Times New Roman"/>
                <a:ea typeface="宋体"/>
              </a:rPr>
              <a:t>=galvanize &gt;  </a:t>
            </a:r>
            <a:r>
              <a:rPr b="0" lang="zh-CN" sz="1400" spc="-1" strike="noStrike">
                <a:solidFill>
                  <a:srgbClr val="000000"/>
                </a:solidFill>
                <a:latin typeface="Times New Roman"/>
                <a:ea typeface="宋体"/>
              </a:rPr>
              <a:t>电镀</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oil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箔，金属薄片，烘托，衬托；</a:t>
            </a:r>
            <a:r>
              <a:rPr b="0" i="1" lang="en-US" sz="1400" spc="-1" strike="noStrike">
                <a:solidFill>
                  <a:srgbClr val="000000"/>
                </a:solidFill>
                <a:latin typeface="Times New Roman"/>
                <a:ea typeface="宋体"/>
              </a:rPr>
              <a:t>v.  </a:t>
            </a:r>
            <a:r>
              <a:rPr b="0" lang="zh-CN" sz="1400" spc="-1" strike="noStrike">
                <a:solidFill>
                  <a:srgbClr val="000000"/>
                </a:solidFill>
                <a:latin typeface="Times New Roman"/>
                <a:ea typeface="宋体"/>
              </a:rPr>
              <a:t>贴箔于</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衬托，阻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ubstrate   </a:t>
            </a:r>
            <a:r>
              <a:rPr b="0" i="1" lang="en-US" sz="1400" spc="-1" strike="noStrike">
                <a:solidFill>
                  <a:srgbClr val="000000"/>
                </a:solidFill>
                <a:latin typeface="Times New Roman"/>
                <a:ea typeface="宋体"/>
              </a:rPr>
              <a:t>n.   </a:t>
            </a:r>
            <a:r>
              <a:rPr b="0" lang="en-US" sz="1400" spc="-1" strike="noStrike">
                <a:solidFill>
                  <a:srgbClr val="000000"/>
                </a:solidFill>
                <a:latin typeface="Times New Roman"/>
                <a:ea typeface="宋体"/>
              </a:rPr>
              <a:t>(=substratum)</a:t>
            </a:r>
            <a:r>
              <a:rPr b="0" lang="zh-CN" sz="1400" spc="-1" strike="noStrike">
                <a:solidFill>
                  <a:srgbClr val="000000"/>
                </a:solidFill>
                <a:latin typeface="Times New Roman"/>
                <a:ea typeface="宋体"/>
              </a:rPr>
              <a:t>底层，下层，</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地</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底土层，基础</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eliberately   </a:t>
            </a:r>
            <a:r>
              <a:rPr b="0" i="1" lang="en-US" sz="1400" spc="-1" strike="noStrike">
                <a:solidFill>
                  <a:srgbClr val="000000"/>
                </a:solidFill>
                <a:latin typeface="Times New Roman"/>
                <a:ea typeface="宋体"/>
              </a:rPr>
              <a:t>adv.  </a:t>
            </a:r>
            <a:r>
              <a:rPr b="0" lang="zh-CN" sz="1400" spc="-1" strike="noStrike">
                <a:solidFill>
                  <a:srgbClr val="000000"/>
                </a:solidFill>
                <a:latin typeface="Times New Roman"/>
                <a:ea typeface="宋体"/>
              </a:rPr>
              <a:t>有目的地，故意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etallurgy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冶金</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冶金学，冶金术</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croscopically   </a:t>
            </a:r>
            <a:r>
              <a:rPr b="0" i="1" lang="en-US" sz="1400" spc="-1" strike="noStrike">
                <a:solidFill>
                  <a:srgbClr val="000000"/>
                </a:solidFill>
                <a:latin typeface="Times New Roman"/>
                <a:ea typeface="宋体"/>
              </a:rPr>
              <a:t>adv.   </a:t>
            </a:r>
            <a:r>
              <a:rPr b="0" lang="zh-CN" sz="1400" spc="-1" strike="noStrike">
                <a:solidFill>
                  <a:srgbClr val="000000"/>
                </a:solidFill>
                <a:latin typeface="Times New Roman"/>
                <a:ea typeface="宋体"/>
              </a:rPr>
              <a:t>宏观上</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ecovery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回复</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ecrystallization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再结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angled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紊乱的；复杂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isloca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位错</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olygonized subgrain structure   </a:t>
            </a:r>
            <a:r>
              <a:rPr b="0" lang="zh-CN" sz="1400" spc="-1" strike="noStrike">
                <a:solidFill>
                  <a:srgbClr val="000000"/>
                </a:solidFill>
                <a:latin typeface="Times New Roman"/>
                <a:ea typeface="宋体"/>
              </a:rPr>
              <a:t>多边形亚晶结构</a:t>
            </a:r>
            <a:r>
              <a:rPr b="0" lang="en-US" sz="1400" spc="-1" strike="noStrike">
                <a:solidFill>
                  <a:srgbClr val="000000"/>
                </a:solidFill>
                <a:latin typeface="Times New Roman"/>
                <a:ea typeface="宋体"/>
              </a:rPr>
              <a:t>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grain growth  </a:t>
            </a:r>
            <a:r>
              <a:rPr b="0" lang="zh-CN" sz="1400" spc="-1" strike="noStrike">
                <a:solidFill>
                  <a:srgbClr val="000000"/>
                </a:solidFill>
                <a:latin typeface="Times New Roman"/>
                <a:ea typeface="宋体"/>
              </a:rPr>
              <a:t>晶粒长大</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edominant   adj.   </a:t>
            </a:r>
            <a:r>
              <a:rPr b="0" lang="zh-CN" sz="1400" spc="-1" strike="noStrike">
                <a:solidFill>
                  <a:srgbClr val="000000"/>
                </a:solidFill>
                <a:latin typeface="Times New Roman"/>
                <a:ea typeface="宋体"/>
              </a:rPr>
              <a:t>支配的，主要的，突出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hearing stress  </a:t>
            </a:r>
            <a:r>
              <a:rPr b="0" lang="zh-CN" sz="1400" spc="-1" strike="noStrike">
                <a:solidFill>
                  <a:srgbClr val="000000"/>
                </a:solidFill>
                <a:latin typeface="Times New Roman"/>
                <a:ea typeface="宋体"/>
              </a:rPr>
              <a:t>剪应力</a:t>
            </a:r>
            <a:endParaRPr b="0" lang="en-US" sz="1400" spc="-1" strike="noStrike">
              <a:solidFill>
                <a:srgbClr val="000000"/>
              </a:solidFill>
              <a:latin typeface="Calibri"/>
            </a:endParaRPr>
          </a:p>
        </p:txBody>
      </p:sp>
      <p:sp>
        <p:nvSpPr>
          <p:cNvPr id="380" name="文本框 7"/>
          <p:cNvSpPr/>
          <p:nvPr/>
        </p:nvSpPr>
        <p:spPr>
          <a:xfrm>
            <a:off x="4562640" y="227160"/>
            <a:ext cx="4578120" cy="5848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II</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queeze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压榨，挤，挤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got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冶</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锭铁，工业纯铁</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fil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剖面，侧面，外形，轮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eramic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陶器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intering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烧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xida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化</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氧化</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olidifica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凝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longitudinal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经度的，纵向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rosive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侵蚀性的，腐蚀性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issolu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分解，解散</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lectrolyt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电解，电解液</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odium chloride   </a:t>
            </a:r>
            <a:r>
              <a:rPr b="0" lang="zh-CN" sz="1400" spc="-1" strike="noStrike">
                <a:solidFill>
                  <a:srgbClr val="000000"/>
                </a:solidFill>
                <a:latin typeface="Times New Roman"/>
                <a:ea typeface="宋体"/>
              </a:rPr>
              <a:t>氯化钠</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odium nitrate   </a:t>
            </a:r>
            <a:r>
              <a:rPr b="0" lang="zh-CN" sz="1400" spc="-1" strike="noStrike">
                <a:solidFill>
                  <a:srgbClr val="000000"/>
                </a:solidFill>
                <a:latin typeface="Times New Roman"/>
                <a:ea typeface="宋体"/>
              </a:rPr>
              <a:t>硝酸钠</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errous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含铁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化</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亚铁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oxyacetylene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化</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氧乙炔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cetylen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化</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乙炔，电石气</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bustible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易燃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lasma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物</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等离子体，等离子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ne blanking   </a:t>
            </a:r>
            <a:r>
              <a:rPr b="0" lang="zh-CN" sz="1400" spc="-1" strike="noStrike">
                <a:solidFill>
                  <a:srgbClr val="000000"/>
                </a:solidFill>
                <a:latin typeface="Times New Roman"/>
                <a:ea typeface="宋体"/>
              </a:rPr>
              <a:t>精密冲裁</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ut edge   </a:t>
            </a:r>
            <a:r>
              <a:rPr b="0" lang="zh-CN" sz="1400" spc="-1" strike="noStrike">
                <a:solidFill>
                  <a:srgbClr val="000000"/>
                </a:solidFill>
                <a:latin typeface="Times New Roman"/>
                <a:ea typeface="宋体"/>
              </a:rPr>
              <a:t>剪切刃</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learance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间隙；</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公差中的</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公隙</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having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刨削；修整</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unch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冲头，凸模；冲压机，冲床，打孔机 </a:t>
            </a:r>
            <a:r>
              <a:rPr b="0" i="1" lang="en-US" sz="1400" spc="-1" strike="noStrike">
                <a:solidFill>
                  <a:srgbClr val="000000"/>
                </a:solidFill>
                <a:latin typeface="Times New Roman"/>
                <a:ea typeface="宋体"/>
              </a:rPr>
              <a:t>vt.</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冲孔，打孔</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lank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落料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ducing hole   </a:t>
            </a:r>
            <a:r>
              <a:rPr b="0" lang="zh-CN" sz="1400" spc="-1" strike="noStrike">
                <a:solidFill>
                  <a:srgbClr val="000000"/>
                </a:solidFill>
                <a:latin typeface="Times New Roman"/>
                <a:ea typeface="宋体"/>
              </a:rPr>
              <a:t>冲孔</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Times New Roman"/>
                <a:ea typeface="宋体"/>
              </a:rPr>
              <a:t>die   </a:t>
            </a:r>
            <a:r>
              <a:rPr b="0" i="1" lang="fr-FR" sz="1400" spc="-1" strike="noStrike">
                <a:solidFill>
                  <a:srgbClr val="000000"/>
                </a:solidFill>
                <a:latin typeface="Times New Roman"/>
                <a:ea typeface="宋体"/>
              </a:rPr>
              <a:t>n.   </a:t>
            </a:r>
            <a:r>
              <a:rPr b="0" lang="zh-CN" sz="1400" spc="-1" strike="noStrike">
                <a:solidFill>
                  <a:srgbClr val="000000"/>
                </a:solidFill>
                <a:latin typeface="Times New Roman"/>
                <a:ea typeface="宋体"/>
              </a:rPr>
              <a:t>模具；凹模</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2" name="文本框 6"/>
          <p:cNvSpPr/>
          <p:nvPr/>
        </p:nvSpPr>
        <p:spPr>
          <a:xfrm>
            <a:off x="250920" y="612720"/>
            <a:ext cx="8569080" cy="3930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1) These methods include changing the orientation of micro-particles as well as their introduction and removal</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such as by diffusion</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that is</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rearranging</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adding</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or removing particle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s well as</a:t>
            </a:r>
            <a:r>
              <a:rPr b="0" lang="zh-CN" sz="1400" spc="-1" strike="noStrike">
                <a:solidFill>
                  <a:srgbClr val="000000"/>
                </a:solidFill>
                <a:latin typeface="Times New Roman"/>
                <a:ea typeface="宋体"/>
              </a:rPr>
              <a:t>：和、还有</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这些方法包括改变微粒的取向，以及通过扩散产生或消除这些微粒，即重排、增加或消除微粒。</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rearranging</a:t>
            </a:r>
            <a:r>
              <a:rPr b="0" lang="zh-CN" sz="1400" spc="-1" strike="noStrike">
                <a:solidFill>
                  <a:srgbClr val="000000"/>
                </a:solidFill>
                <a:latin typeface="Times New Roman"/>
                <a:ea typeface="宋体"/>
              </a:rPr>
              <a:t>：重排</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这些方法包括改变微粒的方向以及它们的引入和去除，例如通过扩散，即重新排列、添加或去除微粒。</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2) By applying a stress that exceeds the original yield strength of metallic material</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we have strain hardened or cold worked the metallic material</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while simultaneously deforming i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have strain hardened</a:t>
            </a:r>
            <a:r>
              <a:rPr b="0" lang="zh-CN" sz="1400" spc="-1" strike="noStrike">
                <a:solidFill>
                  <a:srgbClr val="000000"/>
                </a:solidFill>
                <a:latin typeface="Times New Roman"/>
                <a:ea typeface="宋体"/>
              </a:rPr>
              <a:t>：产生形变硬化</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while simultaneously</a:t>
            </a:r>
            <a:r>
              <a:rPr b="0" lang="zh-CN" sz="1400" spc="-1" strike="noStrike">
                <a:solidFill>
                  <a:srgbClr val="000000"/>
                </a:solidFill>
                <a:latin typeface="Times New Roman"/>
                <a:ea typeface="宋体"/>
              </a:rPr>
              <a:t>：而同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通过施加超过金属材料原屈服强度的应力，我们对金属材料完成了应变硬化或冷加工，同时也使其发生变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3) Plasticity is the capacity of a material to change its shape permanently under the action of forces when the corresponding stress state reaches a material-dependent critical magnitude called yield strength or initial flow stres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under the action of</a:t>
            </a:r>
            <a:r>
              <a:rPr b="0" lang="zh-CN" sz="1400" spc="-1" strike="noStrike">
                <a:solidFill>
                  <a:srgbClr val="000000"/>
                </a:solidFill>
                <a:latin typeface="Times New Roman"/>
                <a:ea typeface="宋体"/>
              </a:rPr>
              <a:t>：在</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作用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critical magnitude</a:t>
            </a:r>
            <a:r>
              <a:rPr b="0" lang="zh-CN" sz="1400" spc="-1" strike="noStrike">
                <a:solidFill>
                  <a:srgbClr val="000000"/>
                </a:solidFill>
                <a:latin typeface="Times New Roman"/>
                <a:ea typeface="宋体"/>
              </a:rPr>
              <a:t>：临界值</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③</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flow stress</a:t>
            </a:r>
            <a:r>
              <a:rPr b="0" lang="zh-CN" sz="1400" spc="-1" strike="noStrike">
                <a:solidFill>
                  <a:srgbClr val="000000"/>
                </a:solidFill>
                <a:latin typeface="Times New Roman"/>
                <a:ea typeface="宋体"/>
              </a:rPr>
              <a:t>：流变应力</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塑性是一种材料在力的作用下，当应力状态达到一个与材料相关的临界量级，即屈服强度或初始流动应力时，材料永久改变其形状的能力。</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4" name="文本框 6"/>
          <p:cNvSpPr/>
          <p:nvPr/>
        </p:nvSpPr>
        <p:spPr>
          <a:xfrm>
            <a:off x="250920" y="612720"/>
            <a:ext cx="84978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4) Technically, forging may be defined as the process of giving metal increased utility by shaping it, refining it, and improving its mechanical properties through controlled plastic deformation under impact or pressure.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be defined as</a:t>
            </a:r>
            <a:r>
              <a:rPr b="0" lang="zh-CN" sz="1400" spc="-1" strike="noStrike">
                <a:solidFill>
                  <a:srgbClr val="000000"/>
                </a:solidFill>
                <a:latin typeface="Times New Roman"/>
                <a:ea typeface="宋体"/>
              </a:rPr>
              <a:t>：被定义为</a:t>
            </a:r>
            <a:r>
              <a:rPr b="0" lang="en-US"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under impact or pressure</a:t>
            </a:r>
            <a:r>
              <a:rPr b="0" lang="zh-CN" sz="1400" spc="-1" strike="noStrike">
                <a:solidFill>
                  <a:srgbClr val="000000"/>
                </a:solidFill>
                <a:latin typeface="Times New Roman"/>
                <a:ea typeface="宋体"/>
              </a:rPr>
              <a:t>：在冲击力或压力的作用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从技术上讲，锻造可以定义为通过冲击或压力控制材料塑性变形，使金属成形、精炼并改善其机械性能，从而增加金属效用的过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5) Excess material is squeezed out between the die faces at the periphery as flash, which is removed in a later trimming proces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which</a:t>
            </a:r>
            <a:r>
              <a:rPr b="0" lang="zh-CN" sz="1400" spc="-1" strike="noStrike">
                <a:solidFill>
                  <a:srgbClr val="000000"/>
                </a:solidFill>
                <a:latin typeface="Times New Roman"/>
                <a:ea typeface="宋体"/>
              </a:rPr>
              <a:t>：引导定语从句，修饰</a:t>
            </a:r>
            <a:r>
              <a:rPr b="0" lang="en-US" sz="1400" spc="-1" strike="noStrike">
                <a:solidFill>
                  <a:srgbClr val="000000"/>
                </a:solidFill>
                <a:latin typeface="Times New Roman"/>
                <a:ea typeface="宋体"/>
              </a:rPr>
              <a:t>excess material</a:t>
            </a:r>
            <a:r>
              <a:rPr b="0" lang="zh-CN"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flash</a:t>
            </a:r>
            <a:r>
              <a:rPr b="0" lang="zh-CN" sz="1400" spc="-1" strike="noStrike">
                <a:solidFill>
                  <a:srgbClr val="000000"/>
                </a:solidFill>
                <a:latin typeface="Times New Roman"/>
                <a:ea typeface="宋体"/>
              </a:rPr>
              <a:t>：飞边。</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③</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trimming process</a:t>
            </a:r>
            <a:r>
              <a:rPr b="0" lang="zh-CN" sz="1400" spc="-1" strike="noStrike">
                <a:solidFill>
                  <a:srgbClr val="000000"/>
                </a:solidFill>
                <a:latin typeface="Times New Roman"/>
                <a:ea typeface="宋体"/>
              </a:rPr>
              <a:t>：切边、清理过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多余的材料从压模表面之间被挤出，到达到外缘后变成了飞边，这些飞边需要在后面的修剪中去除。</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6) Each discharge occurs when the potential difference between the work material and the tool is large enough to cause a breakdown in the fluid medium, fed into the gap between the tool and work piece under pressure, producing a conductive spark channel.</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when</a:t>
            </a:r>
            <a:r>
              <a:rPr b="0" lang="zh-CN" sz="1400" spc="-1" strike="noStrike">
                <a:solidFill>
                  <a:srgbClr val="000000"/>
                </a:solidFill>
                <a:latin typeface="Times New Roman"/>
                <a:ea typeface="宋体"/>
              </a:rPr>
              <a:t>：引导时间状语从句修饰</a:t>
            </a:r>
            <a:r>
              <a:rPr b="0" lang="en-US" sz="1400" spc="-1" strike="noStrike">
                <a:solidFill>
                  <a:srgbClr val="000000"/>
                </a:solidFill>
                <a:latin typeface="Times New Roman"/>
                <a:ea typeface="宋体"/>
              </a:rPr>
              <a:t>occurs</a:t>
            </a:r>
            <a:r>
              <a:rPr b="0" lang="zh-CN"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fed into…</a:t>
            </a:r>
            <a:r>
              <a:rPr b="0" lang="zh-CN" sz="1400" spc="-1" strike="noStrike">
                <a:solidFill>
                  <a:srgbClr val="000000"/>
                </a:solidFill>
                <a:latin typeface="Times New Roman"/>
                <a:ea typeface="宋体"/>
              </a:rPr>
              <a:t>：从句修饰</a:t>
            </a:r>
            <a:r>
              <a:rPr b="0" lang="en-US" sz="1400" spc="-1" strike="noStrike">
                <a:solidFill>
                  <a:srgbClr val="000000"/>
                </a:solidFill>
                <a:latin typeface="Times New Roman"/>
                <a:ea typeface="宋体"/>
              </a:rPr>
              <a:t>fluid medium</a:t>
            </a:r>
            <a:r>
              <a:rPr b="0" lang="zh-CN"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每次放电发生时，工作材料和工具之间的电位差大到足以导致流体介质被击穿，在压力下，液体介质进入工具和工件之间的间隙之中，形成了电火花通道。</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6:26:21Z</dcterms:modified>
  <cp:revision>1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