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322AC4-7555-48BF-92C3-5376B03F4F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14000-5E02-43E8-BFF3-E6D264486E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E0316A-00D6-4B3E-9F9A-CB8B4B18B5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8FC647-846A-41F3-9C88-ECD309D729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FC0B12-19E3-4E0E-B486-3457A238FA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8BAC1D-0DA6-4C4E-A995-C84CC510CC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4"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82FFD0-EC00-4C38-9D39-7B22792733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3A1A54-20AC-493E-ACAC-30B83A22AC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31482A-C349-42C0-BC9E-8E94EE6510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C1744C-F5DD-4CE1-A609-012D3651E2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02B67-FAFB-45FF-99CF-91A6EB0C58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1D6B07-461E-4A76-8CD3-A6E9AAE62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A51526-B6A1-47B7-91E5-E4C3D2B548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172FEF-86E2-4A7D-9F51-41637B76D2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3"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4"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E481AD-6E6D-4B7A-88C6-A0EEF42189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9E98AD-33B5-4CE7-870C-1342C4BE52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1"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2"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10D54A-023C-4A6B-8626-E42A5877D3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F93912-DED3-4EC7-82A0-37D3C21B375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922968-D1B7-41C2-98D9-6BB45E556B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77555DD-E991-4B28-9280-36B7C4A569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AF5B1A-4B2E-44E2-AACF-FD35E8F0D5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7969E5-5B29-44FC-B62E-1AD7656FC7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0D06F-FD09-49EF-8ED2-034B56C63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0D730A3-49DF-4E4B-8986-7E39C77AA9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0B0B24-313C-4BE2-90F4-6B5FB53D47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FC1CE4-B790-42F8-B502-B90FDD7044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3FAD1B-8A0F-4669-92E2-5D2FCACD00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68DF5D-F4CA-4C41-B8DB-BE877C69CD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93305A-9139-4A29-906A-BB6F92D59B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4F3FDD-F8EC-4841-B0F3-A89E974921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066AB5-A085-4AD6-88B0-26332597D0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67BEF0-F39E-42F1-A653-9BDD8A83D78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5A253A-6FCB-46BD-8C74-8D05E8FB11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3194C-5B5A-4B55-91C1-D87C7B190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31A491-4C28-462C-B512-A7356D7ECD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3834B6-E4D4-4B4F-9104-9110C94899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7EA56B-2F9C-41B0-9D91-2769F48799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ABDD32-471E-47D1-8DF1-F5FEFED602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7"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83B341-399A-4903-9C37-4362EA39F4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1"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786B52-9059-4843-881D-DE45DAD128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3"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4"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C7CC9D-3E1E-46EF-A9D6-1BD2539DA55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9"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81B3BC3-595E-4115-9815-13D56C83A5B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1"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5"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6"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60B30F0-5B2E-4CB1-896B-CEBE059BF6D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62EADB9-AB54-48CF-9139-F6D14A709E6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5DAE61-116B-47CC-B0AC-11435943D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9CA9E3-8649-46B6-A7DF-23A928F8B3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65DE73-FA03-4E37-BA57-FF96D3AF39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62965F-F90D-4576-BB37-FA5A2B6901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0D806B-9353-4E82-9EFF-6C41FB9359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C1425A-1F8C-4D20-9DE9-6745DFC550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7A1FDA-C8D2-4701-8D03-C017EA1F02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0"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CC1B9A-AED4-45D7-8538-1B1C3C5CCA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4"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32BA095-F69D-45AD-8E64-6D6CB7959B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6"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7"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F8C6D9-7B6B-40D6-8716-2AD824E1DEE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2"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594BCC0-A9F9-49CA-A9BF-B76AB116C4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3EE3CE-40AC-4C39-80A6-1ECB8A8A44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4"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8"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9"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A0A6CE9-ECD6-4F04-922B-3B39659DD1E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378B0A2-95A4-4B3F-97AE-E2BBF513B2F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CB2F5E-8891-4968-A8CA-63A5C1D176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290640-FC65-4564-B8A4-E1076C3752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9FF504-769C-4E61-BC77-31F540C2B08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4A7FA9-8560-424B-A8CA-456961314C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4A11C5-2EDC-422B-8CBC-E0DB516887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34B749-5A17-48A1-B2F6-89E5090A6A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9AA2F07-DA05-4A35-A97A-23AC42B2D7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3A9C07-4AA6-4BE9-8CBB-8194071C1C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808DC-8432-4CFB-9D53-512E2BDCE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1E5DC7-D49E-464E-A741-1EAB6BEC87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03A6879-1B61-48E7-810A-09F33AE2BCD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E598CBA-481E-435E-8F52-4ECE28CC5B7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CA54AD2-53D1-42CB-9289-2834986415E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419D7F-84E2-40F8-AA52-F19BA6A88C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38261C-BC25-4F34-90CE-CEB2495C48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DCB3F3-FF48-4B39-A485-0E1AD26450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F956E9-83F3-456B-96E4-EA5263BDB3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B3E386-9643-47AC-BAF0-E16957C5907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2461A4F-0BD6-4550-B865-92AC6E3E31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5D81E-4207-4877-93DC-E9D17D5FC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6"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C65725-B024-4BC5-BEB3-2C9394DFCF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0"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4A69F2-43D8-40E1-B6A4-6B2F6FF9F6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2"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3"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754421-6B28-4F33-9024-C08F577B3B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8"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E67A0CF-0933-4748-AFDD-2424F899DCC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0"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4"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5"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1CDC1F-AD21-4634-98C3-231DD4DFB43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1AA9091-A3A2-4B98-9C9B-B4FA358970D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4"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0A428D-81FF-4F57-A8BA-282F855EE9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6"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3325617-074A-4F4C-8BEE-03E8E21078D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2F07F0-3FFE-4107-B94B-3A24EF426A5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70715D-D583-484E-AD38-CA6DD1C3EE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DFECD-1B56-438D-90D2-C81422C173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AD1E16-B963-4D0B-8150-26008A8358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E6C9A1-63C6-4564-9AE4-C79EF3F20F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9"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AC9E5F-2791-4AFC-AADF-DF77B2AD34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3"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B774B3-D09B-4FD9-AD7C-6E4BE30B76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5"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6"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0B64C7-A3BD-4E82-B627-7C32D987C6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1"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ED45D66-1E62-43F3-9090-97D8E9BD48B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43"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4"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5"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6"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7"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8"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D9D6C6D-E065-4D73-B424-C551B4FCA64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909DAC-98CD-411A-A3B3-BD039BF3E2CA}"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5"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7"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8"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162032-83DB-49EA-B286-38F75BA3235F}"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grpSp>
        <p:nvGrpSpPr>
          <p:cNvPr id="89" name="组合 7"/>
          <p:cNvGrpSpPr/>
          <p:nvPr/>
        </p:nvGrpSpPr>
        <p:grpSpPr>
          <a:xfrm>
            <a:off x="6480" y="-27000"/>
            <a:ext cx="9137520" cy="252360"/>
            <a:chOff x="6480" y="-27000"/>
            <a:chExt cx="9137520" cy="252360"/>
          </a:xfrm>
        </p:grpSpPr>
        <p:sp>
          <p:nvSpPr>
            <p:cNvPr id="90" name="矩形 7"/>
            <p:cNvSpPr/>
            <p:nvPr/>
          </p:nvSpPr>
          <p:spPr>
            <a:xfrm>
              <a:off x="6480" y="-27000"/>
              <a:ext cx="9137520" cy="252360"/>
            </a:xfrm>
            <a:prstGeom prst="rect">
              <a:avLst/>
            </a:prstGeom>
            <a:solidFill>
              <a:srgbClr val="61d4ff"/>
            </a:solidFill>
            <a:ln w="15840">
              <a:solidFill>
                <a:srgbClr val="61d4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矩形 9"/>
            <p:cNvSpPr/>
            <p:nvPr/>
          </p:nvSpPr>
          <p:spPr>
            <a:xfrm>
              <a:off x="3503520" y="-27000"/>
              <a:ext cx="222876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ffffff"/>
                  </a:solidFill>
                  <a:latin typeface="仿宋_GB2312"/>
                  <a:ea typeface="仿宋_GB2312"/>
                </a:rPr>
                <a:t>机电工程专业英语  </a:t>
              </a:r>
              <a:endParaRPr b="0" lang="en-US" sz="1400" spc="-1" strike="noStrike">
                <a:solidFill>
                  <a:srgbClr val="000000"/>
                </a:solidFill>
                <a:latin typeface="Calibri"/>
              </a:endParaRPr>
            </a:p>
          </p:txBody>
        </p:sp>
      </p:grpSp>
      <p:sp>
        <p:nvSpPr>
          <p:cNvPr id="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4"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6"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BB38AE-8ED7-45D6-ADA7-AD29C953EF1C}"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5"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7"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8"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9"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0"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A913B9-B3B4-4889-A2BA-22EEC6E294FF}"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4"/>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Rectangle 5"/>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80"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81" name="PlaceHolder 3"/>
          <p:cNvSpPr>
            <a:spLocks noGrp="1"/>
          </p:cNvSpPr>
          <p:nvPr>
            <p:ph type="dt" idx="13"/>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2" name="PlaceHolder 4"/>
          <p:cNvSpPr>
            <a:spLocks noGrp="1"/>
          </p:cNvSpPr>
          <p:nvPr>
            <p:ph type="ftr" idx="14"/>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3"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0E20B6-14B1-4E99-8567-936F8952DCB0}"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7"/>
          <p:cNvSpPr/>
          <p:nvPr/>
        </p:nvSpPr>
        <p:spPr>
          <a:xfrm>
            <a:off x="0" y="0"/>
            <a:ext cx="303840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1" name="Rectangle 8"/>
          <p:cNvSpPr/>
          <p:nvPr/>
        </p:nvSpPr>
        <p:spPr>
          <a:xfrm>
            <a:off x="3030480" y="0"/>
            <a:ext cx="4752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4" name="PlaceHolder 3"/>
          <p:cNvSpPr>
            <a:spLocks noGrp="1"/>
          </p:cNvSpPr>
          <p:nvPr>
            <p:ph type="dt" idx="16"/>
          </p:nvPr>
        </p:nvSpPr>
        <p:spPr>
          <a:xfrm>
            <a:off x="348840" y="6459480"/>
            <a:ext cx="1963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5" name="PlaceHolder 4"/>
          <p:cNvSpPr>
            <a:spLocks noGrp="1"/>
          </p:cNvSpPr>
          <p:nvPr>
            <p:ph type="ftr" idx="17"/>
          </p:nvPr>
        </p:nvSpPr>
        <p:spPr>
          <a:xfrm>
            <a:off x="3600360" y="6459480"/>
            <a:ext cx="348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6"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637052"/>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DCEDCB-16B3-4D4B-9337-EF71557E90B6}" type="slidenum">
              <a:rPr b="0" lang="zh-CN" sz="1000" spc="-1" strike="noStrike">
                <a:solidFill>
                  <a:srgbClr val="637052"/>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7"/>
          <p:cNvSpPr/>
          <p:nvPr/>
        </p:nvSpPr>
        <p:spPr>
          <a:xfrm>
            <a:off x="0" y="4952880"/>
            <a:ext cx="9142560" cy="190512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4" name="Rectangle 8"/>
          <p:cNvSpPr/>
          <p:nvPr/>
        </p:nvSpPr>
        <p:spPr>
          <a:xfrm>
            <a:off x="0" y="491508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6"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7"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8"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9"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1B890F-A30F-40B1-9059-8030918B3F68}"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7"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30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09"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310" name="PlaceHolder 3"/>
          <p:cNvSpPr>
            <a:spLocks noGrp="1"/>
          </p:cNvSpPr>
          <p:nvPr>
            <p:ph type="dt" idx="22"/>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1" name="PlaceHolder 4"/>
          <p:cNvSpPr>
            <a:spLocks noGrp="1"/>
          </p:cNvSpPr>
          <p:nvPr>
            <p:ph type="ftr" idx="23"/>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2" name="PlaceHolder 5"/>
          <p:cNvSpPr>
            <a:spLocks noGrp="1"/>
          </p:cNvSpPr>
          <p:nvPr>
            <p:ph type="sldNum" idx="24"/>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36831F-3ECC-4ECA-AEF1-4501964C9F75}"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576360" y="620640"/>
            <a:ext cx="7991280" cy="14702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黑体"/>
                <a:ea typeface="黑体"/>
              </a:rPr>
              <a:t>机电工程专业英语</a:t>
            </a:r>
            <a:endParaRPr b="0" lang="en-US" sz="4000" spc="-1" strike="noStrike">
              <a:solidFill>
                <a:srgbClr val="404040"/>
              </a:solidFill>
              <a:latin typeface="Calibri Light"/>
            </a:endParaRPr>
          </a:p>
        </p:txBody>
      </p:sp>
      <p:sp>
        <p:nvSpPr>
          <p:cNvPr id="350" name="PlaceHolder 2"/>
          <p:cNvSpPr>
            <a:spLocks noGrp="1"/>
          </p:cNvSpPr>
          <p:nvPr>
            <p:ph type="subTitle"/>
          </p:nvPr>
        </p:nvSpPr>
        <p:spPr>
          <a:xfrm>
            <a:off x="1371600" y="4508280"/>
            <a:ext cx="6400800" cy="1130040"/>
          </a:xfrm>
          <a:prstGeom prst="rect">
            <a:avLst/>
          </a:prstGeom>
          <a:noFill/>
          <a:ln w="0">
            <a:noFill/>
          </a:ln>
        </p:spPr>
        <p:txBody>
          <a:bodyPr anchor="t">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Times New Roman"/>
                <a:ea typeface="宋体"/>
              </a:rPr>
              <a:t>3.1 FUNDAMENTALS OF QUANTITATIVE LOG INTERPRETATION</a:t>
            </a:r>
            <a:endParaRPr b="0" lang="en-US" sz="1800" spc="-1" strike="noStrike">
              <a:solidFill>
                <a:srgbClr val="404040"/>
              </a:solidFill>
              <a:latin typeface="Calibri"/>
            </a:endParaRPr>
          </a:p>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Calibri Light"/>
                <a:ea typeface="等线"/>
              </a:rPr>
              <a:t>测井解释基础</a:t>
            </a:r>
            <a:endParaRPr b="0" lang="en-US" sz="1800" spc="-1" strike="noStrike">
              <a:solidFill>
                <a:srgbClr val="404040"/>
              </a:solidFill>
              <a:latin typeface="Calibri"/>
            </a:endParaRPr>
          </a:p>
        </p:txBody>
      </p:sp>
      <p:pic>
        <p:nvPicPr>
          <p:cNvPr id="351" name="文本框 4" descr=""/>
          <p:cNvPicPr/>
          <p:nvPr/>
        </p:nvPicPr>
        <p:blipFill>
          <a:blip r:embed="rId1"/>
          <a:stretch/>
        </p:blipFill>
        <p:spPr>
          <a:xfrm>
            <a:off x="1646280" y="2938320"/>
            <a:ext cx="5851440" cy="1285920"/>
          </a:xfrm>
          <a:prstGeom prst="rect">
            <a:avLst/>
          </a:prstGeom>
          <a:ln w="0">
            <a:noFill/>
          </a:ln>
        </p:spPr>
      </p:pic>
      <p:pic>
        <p:nvPicPr>
          <p:cNvPr id="352" name="图片 6" descr=""/>
          <p:cNvPicPr/>
          <p:nvPr/>
        </p:nvPicPr>
        <p:blipFill>
          <a:blip r:embed="rId2"/>
          <a:stretch/>
        </p:blipFill>
        <p:spPr>
          <a:xfrm>
            <a:off x="490680" y="295200"/>
            <a:ext cx="176184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83" name="文本框 2"/>
          <p:cNvSpPr/>
          <p:nvPr/>
        </p:nvSpPr>
        <p:spPr>
          <a:xfrm>
            <a:off x="287280" y="598320"/>
            <a:ext cx="856944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Figure 1-1 to Figure 1-3 show the horizontal profile of the permeable water-bearing formation near the hole, the radial distribution of resistivity around the hole, and the radial distribution of fluid near the hole during the drilling operation, respectively.</a:t>
            </a:r>
            <a:endParaRPr b="0" lang="en-US" sz="1800" spc="-1" strike="noStrike">
              <a:solidFill>
                <a:srgbClr val="000000"/>
              </a:solidFill>
              <a:latin typeface="Calibri"/>
            </a:endParaRPr>
          </a:p>
        </p:txBody>
      </p:sp>
      <p:sp>
        <p:nvSpPr>
          <p:cNvPr id="384" name="文本框 6"/>
          <p:cNvSpPr/>
          <p:nvPr/>
        </p:nvSpPr>
        <p:spPr>
          <a:xfrm>
            <a:off x="255600" y="1514520"/>
            <a:ext cx="8569440" cy="277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where Rmf (is the resistivity of the mud filtrate and Sxo is the mud filtrate saturation. Sxo is equal to (1-Shr), Shr being the residual hydrocarbon saturation in the flushed zone. Shr depends to some extent on the hydrocarbon viscosity, generally increasing as the viscosity increase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Farther out from the borehole the displacement of formation fluids is less and less complete, resulting in a transition zone with a progressive change in resistivity from Rxo co the resistivity Rt of the uninvaded formation (Fig.1-4). Sometimes, in oil- or gas-bearing formations, where the mobility of the hydrocarbons is greater than that of the water due to relative permeability differences, the oil or gas moves away faster than the interstitial water. In this case, there may be formed between the flushed zone and uninvaded zone an annular zone with a high formation water saturation; if Rmf is greater than Rw, this annulus will have a resistivity lower than either Rxo or Rt. Annuli do not occur in all oil-bearing formations, and when they do, they generally disappear with time.</a:t>
            </a:r>
            <a:endParaRPr b="0" lang="en-US" sz="1600" spc="-1" strike="noStrike">
              <a:solidFill>
                <a:srgbClr val="000000"/>
              </a:solidFill>
              <a:latin typeface="Calibri"/>
            </a:endParaRPr>
          </a:p>
        </p:txBody>
      </p:sp>
      <p:sp>
        <p:nvSpPr>
          <p:cNvPr id="385" name="文本框 11"/>
          <p:cNvSpPr/>
          <p:nvPr/>
        </p:nvSpPr>
        <p:spPr>
          <a:xfrm>
            <a:off x="255600" y="4314960"/>
            <a:ext cx="850428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Fig.1-4-(Upper)—Schematic representation of invasion and resistivity profile in a water-bearing zone. (Lower)—Invasion and resistivity pro-file in an oil-bearing zone showing resistivity annulus.)</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In fractured formations the mud filtrate goes easily into the fissures, but penetrates very little into the unfractured blocks of low-permeability matrix. Therefore only a small proportion of the original fluid is displaced by the filtrate even very close to the borehole. Rxo then, does not differ much from Rt, and the Archie relationship as expressed in Eq.1-5 is not applicabl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文本框 4"/>
          <p:cNvSpPr/>
          <p:nvPr/>
        </p:nvSpPr>
        <p:spPr>
          <a:xfrm>
            <a:off x="108000" y="33336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Words and phrases</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pic>
        <p:nvPicPr>
          <p:cNvPr id="387" name="文本框 2" descr=""/>
          <p:cNvPicPr/>
          <p:nvPr/>
        </p:nvPicPr>
        <p:blipFill>
          <a:blip r:embed="rId1"/>
          <a:stretch/>
        </p:blipFill>
        <p:spPr>
          <a:xfrm>
            <a:off x="-6480" y="669960"/>
            <a:ext cx="4602240" cy="5207040"/>
          </a:xfrm>
          <a:prstGeom prst="rect">
            <a:avLst/>
          </a:prstGeom>
          <a:ln w="0">
            <a:noFill/>
          </a:ln>
        </p:spPr>
      </p:pic>
      <p:pic>
        <p:nvPicPr>
          <p:cNvPr id="388" name="文本框 5" descr=""/>
          <p:cNvPicPr/>
          <p:nvPr/>
        </p:nvPicPr>
        <p:blipFill>
          <a:blip r:embed="rId2"/>
          <a:stretch/>
        </p:blipFill>
        <p:spPr>
          <a:xfrm>
            <a:off x="4456080" y="480960"/>
            <a:ext cx="4578480" cy="1555920"/>
          </a:xfrm>
          <a:prstGeom prst="rect">
            <a:avLst/>
          </a:prstGeom>
          <a:ln w="0">
            <a:noFill/>
          </a:ln>
        </p:spPr>
      </p:pic>
      <p:pic>
        <p:nvPicPr>
          <p:cNvPr id="389" name="文本框 8" descr=""/>
          <p:cNvPicPr/>
          <p:nvPr/>
        </p:nvPicPr>
        <p:blipFill>
          <a:blip r:embed="rId3"/>
          <a:stretch/>
        </p:blipFill>
        <p:spPr>
          <a:xfrm>
            <a:off x="4638600" y="2066760"/>
            <a:ext cx="4200480" cy="3827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文本框 4"/>
          <p:cNvSpPr/>
          <p:nvPr/>
        </p:nvSpPr>
        <p:spPr>
          <a:xfrm>
            <a:off x="108000" y="33336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Words and phrases</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pic>
        <p:nvPicPr>
          <p:cNvPr id="391" name="文本框 3" descr=""/>
          <p:cNvPicPr/>
          <p:nvPr/>
        </p:nvPicPr>
        <p:blipFill>
          <a:blip r:embed="rId1"/>
          <a:stretch/>
        </p:blipFill>
        <p:spPr>
          <a:xfrm>
            <a:off x="109440" y="658800"/>
            <a:ext cx="4602240" cy="4522680"/>
          </a:xfrm>
          <a:prstGeom prst="rect">
            <a:avLst/>
          </a:prstGeom>
          <a:ln w="0">
            <a:noFill/>
          </a:ln>
        </p:spPr>
      </p:pic>
      <p:pic>
        <p:nvPicPr>
          <p:cNvPr id="392" name="文本框 7" descr=""/>
          <p:cNvPicPr/>
          <p:nvPr/>
        </p:nvPicPr>
        <p:blipFill>
          <a:blip r:embed="rId2"/>
          <a:stretch/>
        </p:blipFill>
        <p:spPr>
          <a:xfrm>
            <a:off x="4419720" y="731880"/>
            <a:ext cx="4578120" cy="1785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文本框 4"/>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Course practice</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pic>
        <p:nvPicPr>
          <p:cNvPr id="394" name="文本框 6" descr=""/>
          <p:cNvPicPr/>
          <p:nvPr/>
        </p:nvPicPr>
        <p:blipFill>
          <a:blip r:embed="rId1"/>
          <a:stretch/>
        </p:blipFill>
        <p:spPr>
          <a:xfrm>
            <a:off x="219240" y="596880"/>
            <a:ext cx="8638920" cy="554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文本框 8"/>
          <p:cNvSpPr/>
          <p:nvPr/>
        </p:nvSpPr>
        <p:spPr>
          <a:xfrm>
            <a:off x="-22320" y="25704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54" name="文本框 2"/>
          <p:cNvSpPr/>
          <p:nvPr/>
        </p:nvSpPr>
        <p:spPr>
          <a:xfrm>
            <a:off x="378000" y="595440"/>
            <a:ext cx="8353080" cy="4717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RESERVOIR PARAMETERS TO BE EVALUATED</a:t>
            </a:r>
            <a:endParaRPr b="0" lang="en-US" sz="16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Almost all oil and gas produced today comes from accumulations in the pore spaces of reservoir rocks. Although oil shales and tar sands may someday become important petroleum sources, they will be considered only briefly in this book.</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amount of oil or gas contained in a unit volume of the reservoir is the product of its porosity by the hydrocarbon saturation. Porosity is the pore volume per unit volume of formation. Hydrocarbon saturation is the fraction (or percentage) of the pore volume filled with hydrocarbon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In addition to the porosity and the hydrocarbon saturation, the volume of the formation containing hydrocarbons is needed in order to determine if the accumulation can be considered commercial. Knowledge of the thickness and area of the reservoir are needed for computation of its volume.</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o evaluate the producibility of a reservoir, it is useful to know how easily fluid can flow through the pore system. This property of the formation, which depends on the manner in which the pores are interconnected, is its permeability. The main physical parameters needed to evaluate a reservoir, then, are its porosity, hydrocarbon saturation permeable bed thickness, and permeability. These parameters can be derived or inferred from electrical, nuclear, and acoustic log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is publication is concerned mainly with the determination of porosity and water saturation. It also explains how logs are used to obtain valuable information about permeability, lithology, and producibility, and to distinguish between oil and ga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文本框 9"/>
          <p:cNvSpPr/>
          <p:nvPr/>
        </p:nvSpPr>
        <p:spPr>
          <a:xfrm>
            <a:off x="12600" y="263520"/>
            <a:ext cx="45770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56" name="文本框 2"/>
          <p:cNvSpPr/>
          <p:nvPr/>
        </p:nvSpPr>
        <p:spPr>
          <a:xfrm>
            <a:off x="268200" y="601560"/>
            <a:ext cx="8642520" cy="325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Of the formation parameters obtained directly from logs, resistivity is of particular importance. It is essential to saturation determinations. Resistivity measurements are used, singly and in combination, to deduce formation resistivity in the uninvaded formation; i.e., beyond the zone contaminated by borehole fluids. They are also used to determine the resistivity close to the borehole, where mud filtrate has largely replaced the original fluids. Resistivity measurements, along with porosity and water resistivity, are used to obtain values of water saturation. Saturation values from both shallow and deep resistivity measurements are compared in order to evaluate the producibility of a formation.</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Several different logs may be used to determine porosity: Sonic, Formation Density, and Neutron Logs have responses that depend primarily on formation porosity. They are also affected by rock properties, each in a different way, so combinations of two or three of these logs yield better knowledge of the porosity, lithology, and pore geometry; also, they will frequently distinguish between oil and ga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Permeability, at the present time, can only be estimated from empirical relationships. These estimates should be considered as having only order-of-magnitude accuracy.</a:t>
            </a:r>
            <a:endParaRPr b="0" lang="en-US" sz="1600" spc="-1" strike="noStrike">
              <a:solidFill>
                <a:srgbClr val="000000"/>
              </a:solidFill>
              <a:latin typeface="Calibri"/>
            </a:endParaRPr>
          </a:p>
        </p:txBody>
      </p:sp>
      <p:sp>
        <p:nvSpPr>
          <p:cNvPr id="357" name="文本框 5"/>
          <p:cNvSpPr/>
          <p:nvPr/>
        </p:nvSpPr>
        <p:spPr>
          <a:xfrm>
            <a:off x="285840" y="4027320"/>
            <a:ext cx="8607240" cy="2770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RESISTIVITY</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resistivity of a substance is its ability to impede the flow of electric current through that substance. The resistivity unit used in electrical logging is the ohm-meter2/meter, usually written ohm-m. The resistivity of a formation in ohmmeters is the resistance in ohms of a one-meter cube when the current flows between opposite faces of the cube.</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Electrical conductivity is the reciprocal of resistivity, expressed in mhos per meter. In electrical logging practice, to avoid decimal fractions, conductivity is expressed in millimhos per meter (mmho/m). A resistivity of one ohm-m corresponds to a conductivity of 1000 mmho/m; 100 ohm-m corresponds to 10 mmho/m, etc.</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Formation resistivities usually fall in the range from 0.2 to 1000 ohm-m. Resistivities higher than 1000 ohm-m are uncommon in permeable formation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59" name="文本框 2"/>
          <p:cNvSpPr/>
          <p:nvPr/>
        </p:nvSpPr>
        <p:spPr>
          <a:xfrm>
            <a:off x="250920" y="598320"/>
            <a:ext cx="8353440" cy="496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METALLIC CONDUCTION</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Logs are sometimes used to locate and evaluate ore bodies. Many ores, such as galena, chalcopyrite, etc., have very high conductivities. Their depth and thickness may be readily determined from resistivity logs run in test borings</a:t>
            </a:r>
            <a:endParaRPr b="0" lang="en-US" sz="16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CONDUCTION IN RESERVOIR ROCK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Most formations logged for oil and gas are made up of rocks which when dry, will not conduct electrical current. Current flows through the interstitial water, made conductive by salts in solution. These salts dissociate into positively-charged cations (Na</a:t>
            </a:r>
            <a:r>
              <a:rPr b="0" lang="en-US" sz="1600" spc="-1" strike="noStrike" baseline="30000">
                <a:solidFill>
                  <a:srgbClr val="000000"/>
                </a:solidFill>
                <a:latin typeface="Times New Roman"/>
                <a:ea typeface="宋体"/>
              </a:rPr>
              <a:t>+</a:t>
            </a:r>
            <a:r>
              <a:rPr b="0" lang="en-US" sz="1600" spc="-1" strike="noStrike">
                <a:solidFill>
                  <a:srgbClr val="000000"/>
                </a:solidFill>
                <a:latin typeface="Times New Roman"/>
                <a:ea typeface="宋体"/>
              </a:rPr>
              <a:t>, Ca</a:t>
            </a:r>
            <a:r>
              <a:rPr b="0" lang="en-US" sz="1600" spc="-1" strike="noStrike" baseline="30000">
                <a:solidFill>
                  <a:srgbClr val="000000"/>
                </a:solidFill>
                <a:latin typeface="Times New Roman"/>
                <a:ea typeface="宋体"/>
              </a:rPr>
              <a:t>++</a:t>
            </a:r>
            <a:r>
              <a:rPr b="0" lang="en-US" sz="1600" spc="-1" strike="noStrike">
                <a:solidFill>
                  <a:srgbClr val="000000"/>
                </a:solidFill>
                <a:latin typeface="Times New Roman"/>
                <a:ea typeface="宋体"/>
              </a:rPr>
              <a:t> . . .) and negatively charged anions (Cl</a:t>
            </a:r>
            <a:r>
              <a:rPr b="0" lang="en-US" sz="1600" spc="-1" strike="noStrike" baseline="30000">
                <a:solidFill>
                  <a:srgbClr val="000000"/>
                </a:solidFill>
                <a:latin typeface="Times New Roman"/>
                <a:ea typeface="宋体"/>
              </a:rPr>
              <a:t>-</a:t>
            </a:r>
            <a:r>
              <a:rPr b="0" lang="en-US" sz="1600" spc="-1" strike="noStrike">
                <a:solidFill>
                  <a:srgbClr val="000000"/>
                </a:solidFill>
                <a:latin typeface="Times New Roman"/>
                <a:ea typeface="宋体"/>
              </a:rPr>
              <a:t>, SO</a:t>
            </a:r>
            <a:r>
              <a:rPr b="0" lang="en-US" sz="1600" spc="-1" strike="noStrike" baseline="30000">
                <a:solidFill>
                  <a:srgbClr val="000000"/>
                </a:solidFill>
                <a:latin typeface="Times New Roman"/>
                <a:ea typeface="宋体"/>
              </a:rPr>
              <a:t>2-</a:t>
            </a:r>
            <a:r>
              <a:rPr b="0" lang="en-US" sz="1600" spc="-1" strike="noStrike">
                <a:solidFill>
                  <a:srgbClr val="000000"/>
                </a:solidFill>
                <a:latin typeface="Times New Roman"/>
                <a:ea typeface="宋体"/>
              </a:rPr>
              <a:t> ...). Under the influence of an electrical field these ions move, carrying an electrical current through the solution. Other things being equal, the greater the salt concentration, the lower the resistivity of the formation water, hence of the formation.</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In the case of formation water containing sodium chloride only, its resistivity, Rw, is a function of its salinity and of temperature. Knowing these two parameters, one can compute Rw from Chart Gen-9. For a water containing other salts, in addition to NaCl, R„ can be estimated from its chemical analysis.</a:t>
            </a:r>
            <a:endParaRPr b="0" lang="en-US" sz="16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EFFECT OF TEMPERATURE</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In quantitative log interpretation it is necessary to correct all fluid resistivities to formation temperature. Knowing bottom-hole temperature, one can estimate formation temperature from related data charts. These charts is based on the assumption that temperature increases linearly with depth. This condition may not always be met in practi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1" name="文本框 5"/>
          <p:cNvSpPr/>
          <p:nvPr/>
        </p:nvSpPr>
        <p:spPr>
          <a:xfrm>
            <a:off x="250920" y="598320"/>
            <a:ext cx="864216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SHALE CONDUCTION</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Shaliness also contributes to formation conductivity. Shale conduction differs from electrolytic conduction described above in that the current is not carried by ions moving freely in a solution. Rather, conduction is an ion-exchange process whereby (usually the positively charged) ions move under the influence of the impressed electric field between exchange sites on the surfaces of the clay particle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Surface conductance at the shale-liquid interfaces is an important factor in the effect of shaliness on conductivity, and its influence is often disproportionate to the quantity of shale. The net effect of shaliness depends on the amount, type, and distribution of the shale, and on the nature and relative amount of the formation water.</a:t>
            </a:r>
            <a:endParaRPr b="0" lang="en-US" sz="1600" spc="-1" strike="noStrike">
              <a:solidFill>
                <a:srgbClr val="000000"/>
              </a:solidFill>
              <a:latin typeface="Calibri"/>
            </a:endParaRPr>
          </a:p>
        </p:txBody>
      </p:sp>
      <p:sp>
        <p:nvSpPr>
          <p:cNvPr id="362" name="文本框 11"/>
          <p:cNvSpPr/>
          <p:nvPr/>
        </p:nvSpPr>
        <p:spPr>
          <a:xfrm>
            <a:off x="395280" y="3154320"/>
            <a:ext cx="8353440" cy="1344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FORMATION FACTOR AND POROSITY</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It has been established experimentally that the resistivity of a clean formation (i.e., one containing no appreciable amount of clay) is proportional to the resistivity of the brine with which it is fully saturated. The constant of proportionality is called formation resistivity factor, F. Thus, If R„ is the resistivity of a non-shaly formation sample 100% saturated with brine of resistivity R</a:t>
            </a:r>
            <a:r>
              <a:rPr b="0" lang="en-US" sz="1600" spc="-1" strike="noStrike" baseline="-25000">
                <a:solidFill>
                  <a:srgbClr val="000000"/>
                </a:solidFill>
                <a:latin typeface="Times New Roman"/>
                <a:ea typeface="宋体"/>
              </a:rPr>
              <a:t>w</a:t>
            </a:r>
            <a:r>
              <a:rPr b="0" lang="en-US" sz="1600" spc="-1" strike="noStrike">
                <a:solidFill>
                  <a:srgbClr val="000000"/>
                </a:solidFill>
                <a:latin typeface="Times New Roman"/>
                <a:ea typeface="宋体"/>
              </a:rPr>
              <a:t>,</a:t>
            </a:r>
            <a:endParaRPr b="0" lang="en-US" sz="1600" spc="-1" strike="noStrike">
              <a:solidFill>
                <a:srgbClr val="000000"/>
              </a:solidFill>
              <a:latin typeface="Calibri"/>
            </a:endParaRPr>
          </a:p>
        </p:txBody>
      </p:sp>
      <p:pic>
        <p:nvPicPr>
          <p:cNvPr id="363" name="图片 13" descr=""/>
          <p:cNvPicPr/>
          <p:nvPr/>
        </p:nvPicPr>
        <p:blipFill>
          <a:blip r:embed="rId1"/>
          <a:stretch/>
        </p:blipFill>
        <p:spPr>
          <a:xfrm>
            <a:off x="3492360" y="4797360"/>
            <a:ext cx="1905120" cy="523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5" name="文本框 2"/>
          <p:cNvSpPr/>
          <p:nvPr/>
        </p:nvSpPr>
        <p:spPr>
          <a:xfrm>
            <a:off x="324000" y="615960"/>
            <a:ext cx="8496000" cy="2561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roughout this book, the term "formation water" will be used to identify the water which existed in the formation before it was penetrated by the drill bit. In most cases it is the same as "connate water”.)</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For a given porosity the ratio Ro/R</a:t>
            </a:r>
            <a:r>
              <a:rPr b="0" lang="en-US" sz="1600" spc="-1" strike="noStrike" baseline="-25000">
                <a:solidFill>
                  <a:srgbClr val="000000"/>
                </a:solidFill>
                <a:latin typeface="Times New Roman"/>
                <a:ea typeface="宋体"/>
              </a:rPr>
              <a:t>w</a:t>
            </a:r>
            <a:r>
              <a:rPr b="0" lang="en-US" sz="1600" spc="-1" strike="noStrike">
                <a:solidFill>
                  <a:srgbClr val="000000"/>
                </a:solidFill>
                <a:latin typeface="Times New Roman"/>
                <a:ea typeface="宋体"/>
              </a:rPr>
              <a:t> remains nearly constant for all values of R</a:t>
            </a:r>
            <a:r>
              <a:rPr b="0" lang="en-US" sz="1600" spc="-1" strike="noStrike" baseline="-25000">
                <a:solidFill>
                  <a:srgbClr val="000000"/>
                </a:solidFill>
                <a:latin typeface="Times New Roman"/>
                <a:ea typeface="宋体"/>
              </a:rPr>
              <a:t>w</a:t>
            </a:r>
            <a:r>
              <a:rPr b="0" lang="en-US" sz="1600" spc="-1" strike="noStrike">
                <a:solidFill>
                  <a:srgbClr val="000000"/>
                </a:solidFill>
                <a:latin typeface="Times New Roman"/>
                <a:ea typeface="宋体"/>
              </a:rPr>
              <a:t> below about one ohm-m. However, experiments show that in more resistive waters, the value of F is reduced as Rw rises, and as the grain size of the sand decreases. This phenomenon is attributed to a greater proportionate influence of the surface conductance of the grains, in fresher water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porosity,</a:t>
            </a:r>
            <a:r>
              <a:rPr b="0" lang="zh-CN" sz="1600" spc="-1" strike="noStrike">
                <a:solidFill>
                  <a:srgbClr val="000000"/>
                </a:solidFill>
                <a:latin typeface="Times New Roman"/>
                <a:ea typeface="宋体"/>
              </a:rPr>
              <a:t>Ф</a:t>
            </a:r>
            <a:r>
              <a:rPr b="0" lang="en-US" sz="1600" spc="-1" strike="noStrike">
                <a:solidFill>
                  <a:srgbClr val="000000"/>
                </a:solidFill>
                <a:latin typeface="Times New Roman"/>
                <a:ea typeface="宋体"/>
              </a:rPr>
              <a:t>, of a rock is the fraction of the total volume occupied by pores or voids. Formation factor is a function of porosity, and also of pore structure and pore-size distribution.</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Archie proposed the formula</a:t>
            </a:r>
            <a:endParaRPr b="0" lang="en-US" sz="1600" spc="-1" strike="noStrike">
              <a:solidFill>
                <a:srgbClr val="000000"/>
              </a:solidFill>
              <a:latin typeface="Calibri"/>
            </a:endParaRPr>
          </a:p>
        </p:txBody>
      </p:sp>
      <p:pic>
        <p:nvPicPr>
          <p:cNvPr id="366" name="图片 8" descr=""/>
          <p:cNvPicPr/>
          <p:nvPr/>
        </p:nvPicPr>
        <p:blipFill>
          <a:blip r:embed="rId1"/>
          <a:stretch/>
        </p:blipFill>
        <p:spPr>
          <a:xfrm>
            <a:off x="0" y="3170160"/>
            <a:ext cx="5764320" cy="2533680"/>
          </a:xfrm>
          <a:prstGeom prst="rect">
            <a:avLst/>
          </a:prstGeom>
          <a:ln w="0">
            <a:noFill/>
          </a:ln>
        </p:spPr>
      </p:pic>
      <p:sp>
        <p:nvSpPr>
          <p:cNvPr id="367" name="文本框 12"/>
          <p:cNvSpPr/>
          <p:nvPr/>
        </p:nvSpPr>
        <p:spPr>
          <a:xfrm>
            <a:off x="5940360" y="3149640"/>
            <a:ext cx="287964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Within their normal ranges of application these two formulas differ little from the so-called "Humble formula":</a:t>
            </a:r>
            <a:endParaRPr b="0" lang="en-US" sz="1600" spc="-1" strike="noStrike">
              <a:solidFill>
                <a:srgbClr val="000000"/>
              </a:solidFill>
              <a:latin typeface="Calibri"/>
            </a:endParaRPr>
          </a:p>
        </p:txBody>
      </p:sp>
      <p:pic>
        <p:nvPicPr>
          <p:cNvPr id="368" name="图片 14" descr=""/>
          <p:cNvPicPr/>
          <p:nvPr/>
        </p:nvPicPr>
        <p:blipFill>
          <a:blip r:embed="rId2"/>
          <a:stretch/>
        </p:blipFill>
        <p:spPr>
          <a:xfrm>
            <a:off x="6588000" y="4348080"/>
            <a:ext cx="1514520" cy="590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pic>
        <p:nvPicPr>
          <p:cNvPr id="370" name="图片 6" descr=""/>
          <p:cNvPicPr/>
          <p:nvPr/>
        </p:nvPicPr>
        <p:blipFill>
          <a:blip r:embed="rId1"/>
          <a:stretch/>
        </p:blipFill>
        <p:spPr>
          <a:xfrm>
            <a:off x="480960" y="628560"/>
            <a:ext cx="8182080" cy="1800360"/>
          </a:xfrm>
          <a:prstGeom prst="rect">
            <a:avLst/>
          </a:prstGeom>
          <a:ln w="0">
            <a:noFill/>
          </a:ln>
        </p:spPr>
      </p:pic>
      <p:pic>
        <p:nvPicPr>
          <p:cNvPr id="371" name="图片 14" descr=""/>
          <p:cNvPicPr/>
          <p:nvPr/>
        </p:nvPicPr>
        <p:blipFill>
          <a:blip r:embed="rId2"/>
          <a:stretch/>
        </p:blipFill>
        <p:spPr>
          <a:xfrm>
            <a:off x="480960" y="2414520"/>
            <a:ext cx="7978680" cy="441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pic>
        <p:nvPicPr>
          <p:cNvPr id="373" name="图片 2" descr=""/>
          <p:cNvPicPr/>
          <p:nvPr/>
        </p:nvPicPr>
        <p:blipFill>
          <a:blip r:embed="rId1"/>
          <a:stretch/>
        </p:blipFill>
        <p:spPr>
          <a:xfrm>
            <a:off x="5292720" y="430200"/>
            <a:ext cx="3733920" cy="6143760"/>
          </a:xfrm>
          <a:prstGeom prst="rect">
            <a:avLst/>
          </a:prstGeom>
          <a:ln w="0">
            <a:noFill/>
          </a:ln>
        </p:spPr>
      </p:pic>
      <p:pic>
        <p:nvPicPr>
          <p:cNvPr id="374" name="图片 6" descr=""/>
          <p:cNvPicPr/>
          <p:nvPr/>
        </p:nvPicPr>
        <p:blipFill>
          <a:blip r:embed="rId2"/>
          <a:stretch/>
        </p:blipFill>
        <p:spPr>
          <a:xfrm>
            <a:off x="1187280" y="428760"/>
            <a:ext cx="1651320" cy="695160"/>
          </a:xfrm>
          <a:prstGeom prst="rect">
            <a:avLst/>
          </a:prstGeom>
          <a:ln w="0">
            <a:noFill/>
          </a:ln>
        </p:spPr>
      </p:pic>
      <p:pic>
        <p:nvPicPr>
          <p:cNvPr id="375" name="图片 13" descr=""/>
          <p:cNvPicPr/>
          <p:nvPr/>
        </p:nvPicPr>
        <p:blipFill>
          <a:blip r:embed="rId3"/>
          <a:stretch/>
        </p:blipFill>
        <p:spPr>
          <a:xfrm>
            <a:off x="955800" y="1123920"/>
            <a:ext cx="3243240" cy="5599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77" name="文本框 3"/>
          <p:cNvSpPr/>
          <p:nvPr/>
        </p:nvSpPr>
        <p:spPr>
          <a:xfrm>
            <a:off x="324000" y="628560"/>
            <a:ext cx="8351640" cy="15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INVASION</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During the drilling operation, the mud in the borehole is usually conditioned so that the hydrostatic pressure of the mud column is greater than the pressure of the formations. The differential pressure forces mud filtrate into the permeable formations, and the solid particles of the mud are deposited on the borehole wall where they form a mud cake. Mud cake usually has very low permeability and considerably reduces the rate of infiltration.</a:t>
            </a:r>
            <a:endParaRPr b="0" lang="en-US" sz="1600" spc="-1" strike="noStrike">
              <a:solidFill>
                <a:srgbClr val="000000"/>
              </a:solidFill>
              <a:latin typeface="Calibri"/>
            </a:endParaRPr>
          </a:p>
        </p:txBody>
      </p:sp>
      <p:sp>
        <p:nvSpPr>
          <p:cNvPr id="378" name="文本框 5"/>
          <p:cNvSpPr/>
          <p:nvPr/>
        </p:nvSpPr>
        <p:spPr>
          <a:xfrm>
            <a:off x="431640" y="2197080"/>
            <a:ext cx="8244000" cy="857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Very close to the hole all the formation water and some of the hydrocarbons, if present, are flushed away by the filtrate. The resistivity, R</a:t>
            </a:r>
            <a:r>
              <a:rPr b="0" lang="en-US" sz="1600" spc="-1" strike="noStrike" baseline="-25000">
                <a:solidFill>
                  <a:srgbClr val="000000"/>
                </a:solidFill>
                <a:latin typeface="Times New Roman"/>
                <a:ea typeface="宋体"/>
              </a:rPr>
              <a:t>xo</a:t>
            </a:r>
            <a:r>
              <a:rPr b="0" lang="en-US" sz="1600" spc="-1" strike="noStrike">
                <a:solidFill>
                  <a:srgbClr val="000000"/>
                </a:solidFill>
                <a:latin typeface="Times New Roman"/>
                <a:ea typeface="宋体"/>
              </a:rPr>
              <a:t>, of this "flushed zone" is expressed by the Archie formula (Eq, 1-5) as: </a:t>
            </a:r>
            <a:endParaRPr b="0" lang="en-US" sz="1600" spc="-1" strike="noStrike">
              <a:solidFill>
                <a:srgbClr val="000000"/>
              </a:solidFill>
              <a:latin typeface="Calibri"/>
            </a:endParaRPr>
          </a:p>
        </p:txBody>
      </p:sp>
      <p:pic>
        <p:nvPicPr>
          <p:cNvPr id="379" name="图片 7" descr=""/>
          <p:cNvPicPr/>
          <p:nvPr/>
        </p:nvPicPr>
        <p:blipFill>
          <a:blip r:embed="rId1"/>
          <a:stretch/>
        </p:blipFill>
        <p:spPr>
          <a:xfrm>
            <a:off x="2849400" y="2771640"/>
            <a:ext cx="1714680" cy="543240"/>
          </a:xfrm>
          <a:prstGeom prst="rect">
            <a:avLst/>
          </a:prstGeom>
          <a:ln w="0">
            <a:noFill/>
          </a:ln>
        </p:spPr>
      </p:pic>
      <p:pic>
        <p:nvPicPr>
          <p:cNvPr id="380" name="图片 10" descr=""/>
          <p:cNvPicPr/>
          <p:nvPr/>
        </p:nvPicPr>
        <p:blipFill>
          <a:blip r:embed="rId2"/>
          <a:stretch/>
        </p:blipFill>
        <p:spPr>
          <a:xfrm>
            <a:off x="611280" y="4143240"/>
            <a:ext cx="3628800" cy="1971720"/>
          </a:xfrm>
          <a:prstGeom prst="rect">
            <a:avLst/>
          </a:prstGeom>
          <a:ln w="0">
            <a:noFill/>
          </a:ln>
        </p:spPr>
      </p:pic>
      <p:pic>
        <p:nvPicPr>
          <p:cNvPr id="381" name="图片 12" descr=""/>
          <p:cNvPicPr/>
          <p:nvPr/>
        </p:nvPicPr>
        <p:blipFill>
          <a:blip r:embed="rId3"/>
          <a:stretch/>
        </p:blipFill>
        <p:spPr>
          <a:xfrm>
            <a:off x="5041800" y="3029040"/>
            <a:ext cx="3210120" cy="308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02T08:56:59Z</dcterms:created>
  <dc:creator>朱允龙</dc:creator>
  <dc:description/>
  <dc:language>en-US</dc:language>
  <cp:lastModifiedBy>sunny888903 sunny888903</cp:lastModifiedBy>
  <dcterms:modified xsi:type="dcterms:W3CDTF">2024-08-31T02:18:41Z</dcterms:modified>
  <cp:revision>34</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424</vt:lpwstr>
  </property>
</Properties>
</file>