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040D76-2810-4448-AA77-D4A16DBB85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D98D59-BC16-487D-B8EB-29829188C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1B3CBE-0A11-410F-B2B7-050AF21AB0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F625D7-4016-4AC5-BF17-D9484864A3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CA49C1-E40D-414A-9F30-E4B6338F59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076DBE-A59C-4704-89AD-08BCEE656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7B4020-DF76-4A2F-B150-14419362CC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939DF-578F-4841-830B-87E2FD6BE1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F7382-06AD-4090-A9AE-C65A3EAB64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D7573-E2C2-4989-BA44-5D96AFF844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D6CED-DB42-417F-B3F9-B52DE49B6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190F5-2C67-4418-B601-C593D9AE2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0E738-C80C-4F59-8E87-423C19E20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1CD20-6A9B-4E2F-8151-B321F4F67D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C01BB7-79A4-4922-802B-F1273C3AA9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4DC106-C95E-436A-9C86-AC832434F7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FA2A55-6F68-46CE-B28C-DED5157B1D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3B7C4C-2A66-4A46-A332-78EBE0E9B4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5EDE8B-1DCA-4105-AA37-994068E419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FB11A8-4B25-4272-8341-F59E4535998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B69AFE-5AF8-4412-8A19-08D1E76DDA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E6FF67-E0F9-40BE-999F-4D518C34E6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F8402-20C0-4DCE-87FC-9F73A05D7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3B1F6F-0DBF-4CD9-9C3E-7CADC230B3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081F0A-936D-461C-81F8-D1C64A4F19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7F643E-666A-4051-926E-30C7A581C8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3FD708-3D05-4AF0-B5EB-9E9269370D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3C6AD9-2EBC-4977-BA15-4BB48EBE09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88DC0AD-20C8-4F40-81B9-7845D7EDE0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23BA44-9F32-4ECF-9A33-A82302D65B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69C891-1E00-4166-AA92-8D15A27E8C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70EF0B-D10A-4276-8BF4-11E15F0E86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7304BB-C740-401C-862F-E6FBE340BF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FA5BC0-01E7-485D-9410-149635BE8C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BA0922E-2FF2-4084-B68F-940BA4FE76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2FC0C3-7E1C-465C-8379-557109D89E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338629-AECD-410F-B98A-79E6A42EEA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1E0A14-770F-44F9-B6E7-74CA78B33D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56AB54-15C0-4E5B-9EBE-2984FF7221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2FBAD3-D92F-4CC9-BDE5-AC81D984DF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B891E7-3BCC-4D9E-9CB3-7B76606EDB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48BAA1A-3E4C-4B16-BA9A-4772374586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0DF64B-0A58-4897-93B3-5AB7F8EC18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3AC9C0-E3B9-4282-9196-5FBF2D1F3B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B8732-A794-4138-A42A-CA493552E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C4D217-3D99-405B-B498-33AF913841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D919CFE-0FD6-450C-A075-EB9FBF8E28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D4F91A-4237-4608-BD9B-14873A6A14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1CD993-CE7A-41AD-A6C7-BBEC97CAC8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9FF63B-F0FC-44E5-B0E9-EF2F6EB008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BED64C-2B63-4FBA-9B08-F9A0E12720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6467DE-DE12-42E4-8166-2DCDA3A7C3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4BAE4A-BE7D-4221-8D62-EECBE5DB1C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B7E98D-E3D8-4D1E-926E-B6547C51F1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C1D475-2B7A-4805-BB4D-76DC933F2E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EA5DD-323A-41BD-9C18-654B595981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57DBA8-CE42-40A8-8EF4-711410B8805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6B193CA-CC8C-4C59-AB03-F4DFEFD8DF4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EB6BCD-1794-40EC-974A-3A21E66636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D0F95C-2622-4BB2-8F7F-55EEEDE96CF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BD79687-3E2F-4ECD-8C36-39F53685C4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5416BC-D2D6-44E8-AB7B-3626D1E0A8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3497EE-958D-4F4B-A4E8-DB71DB4B75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D46FFA-088D-49D0-9A09-A8B26B6059B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BBA519-71C3-40E9-8A26-F2091DD8B0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2B551D-E804-4AA2-A631-CD19AA97BC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8BDFF-5FD0-4D47-80D3-189D4AAAB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BEDEF5-A3AD-4F17-A23F-8E928CA411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EDCF6D6-23D2-4C25-9C3C-2C9929B28D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598997-256F-4BE0-A3E0-34C11296DBD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22D8BD7-68EC-45DC-B5C9-7A91FDDB8A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84E85A-DC9C-4958-B6A0-15C05A50F5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2E144E-D477-4720-BD9E-E20A186E08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913EB0F-4DDB-4C4D-905C-99FB2D9255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24189F-DFC7-4A19-B4D2-EE6E36DA6C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4F8DED-A88B-4B81-8A02-6ABCBA115D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48FB86-AE2E-4E81-84DD-88A8ECB62D6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31B27-FB84-4BA0-AB50-3FB5EEC34A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CEA262-C822-41B3-86BE-4217E6424D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43BA6C-6258-42BC-A83C-9D80FD699A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AF9538-9FA0-4824-8104-A17C9323BC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348204-21A8-4C86-BAC7-00F66EFE4E6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69AAA8B-1A9E-4A0C-91E5-BC71CB108A7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457B42-31FC-406E-9907-2DA5D52BB6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898198-D472-4484-A56E-37F0C2A19F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94D56E-C59E-4224-AB56-0383D410C14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133ECC-74F5-4841-B52E-B820B2BEA8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296F1E-3136-4A57-AB24-2F278F58ED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4DDF9-C464-47AE-BF9B-D54B51154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E08C62-F569-42B6-9FDE-77D8D0018DA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1FABE8-D93A-4ECC-9674-EE001EA3F6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02B30E-7583-4EC2-845A-93FAB8F028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E05A89-E99E-44D4-97C5-5E13878C0D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5"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96113D-9F67-421F-A9CC-771C2D93BA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81A748-6D47-48B1-BC85-049F490E32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3"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10EA6E-62CE-4F20-8AAC-5DD824D6AA6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120B4F-E09E-4265-9343-FA46B8B2C77B}"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B57BA8-D499-4ED5-9EC3-6C491446E5E2}"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grpSp>
        <p:nvGrpSpPr>
          <p:cNvPr id="89" name="组合 7"/>
          <p:cNvGrpSpPr/>
          <p:nvPr/>
        </p:nvGrpSpPr>
        <p:grpSpPr>
          <a:xfrm>
            <a:off x="6480" y="-27000"/>
            <a:ext cx="9137520" cy="252360"/>
            <a:chOff x="6480" y="-27000"/>
            <a:chExt cx="9137520" cy="252360"/>
          </a:xfrm>
        </p:grpSpPr>
        <p:sp>
          <p:nvSpPr>
            <p:cNvPr id="90" name="矩形 7"/>
            <p:cNvSpPr/>
            <p:nvPr/>
          </p:nvSpPr>
          <p:spPr>
            <a:xfrm>
              <a:off x="6480" y="-27000"/>
              <a:ext cx="9137520" cy="252360"/>
            </a:xfrm>
            <a:prstGeom prst="rect">
              <a:avLst/>
            </a:prstGeom>
            <a:solidFill>
              <a:srgbClr val="61d4ff"/>
            </a:solidFill>
            <a:ln w="15840">
              <a:solidFill>
                <a:srgbClr val="61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矩形 9"/>
            <p:cNvSpPr/>
            <p:nvPr/>
          </p:nvSpPr>
          <p:spPr>
            <a:xfrm>
              <a:off x="3503520" y="-27000"/>
              <a:ext cx="22287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仿宋_GB2312"/>
                  <a:ea typeface="仿宋_GB2312"/>
                </a:rPr>
                <a:t>机电工程专业英语  </a:t>
              </a:r>
              <a:endParaRPr b="0" lang="en-US" sz="1400" spc="-1" strike="noStrike">
                <a:solidFill>
                  <a:srgbClr val="000000"/>
                </a:solidFill>
                <a:latin typeface="Calibri"/>
              </a:endParaRPr>
            </a:p>
          </p:txBody>
        </p:sp>
      </p:grpSp>
      <p:sp>
        <p:nvSpPr>
          <p:cNvPr id="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4"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C5B970-D920-4ED0-8FCF-894E32F9FCE2}"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8"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A7AEB7-3358-4EE6-AC05-668F523B90E7}"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8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4"/>
          <p:cNvSpPr>
            <a:spLocks noGrp="1"/>
          </p:cNvSpPr>
          <p:nvPr>
            <p:ph type="ftr" idx="14"/>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433718-A352-4B46-847C-9411D3A0BE1F}"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4" name="PlaceHolder 3"/>
          <p:cNvSpPr>
            <a:spLocks noGrp="1"/>
          </p:cNvSpPr>
          <p:nvPr>
            <p:ph type="dt" idx="16"/>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PlaceHolder 4"/>
          <p:cNvSpPr>
            <a:spLocks noGrp="1"/>
          </p:cNvSpPr>
          <p:nvPr>
            <p:ph type="ftr" idx="17"/>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637052"/>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C79854-C73B-46FA-A3C4-BB66D4491A54}" type="slidenum">
              <a:rPr b="0" lang="zh-CN" sz="1000" spc="-1" strike="noStrike">
                <a:solidFill>
                  <a:srgbClr val="637052"/>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7"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10FB3C-24F1-4D93-A66A-66ADFC24AE97}"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9"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0" name="PlaceHolder 3"/>
          <p:cNvSpPr>
            <a:spLocks noGrp="1"/>
          </p:cNvSpPr>
          <p:nvPr>
            <p:ph type="dt" idx="22"/>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PlaceHolder 4"/>
          <p:cNvSpPr>
            <a:spLocks noGrp="1"/>
          </p:cNvSpPr>
          <p:nvPr>
            <p:ph type="ftr" idx="23"/>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5"/>
          <p:cNvSpPr>
            <a:spLocks noGrp="1"/>
          </p:cNvSpPr>
          <p:nvPr>
            <p:ph type="sldNum" idx="2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61F2EF-F1D2-45E4-99C3-679710713E0C}"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76360" y="620640"/>
            <a:ext cx="7991280" cy="147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黑体"/>
                <a:ea typeface="黑体"/>
              </a:rPr>
              <a:t>机电工程专业英语</a:t>
            </a:r>
            <a:endParaRPr b="0" lang="en-US" sz="4000" spc="-1" strike="noStrike">
              <a:solidFill>
                <a:srgbClr val="404040"/>
              </a:solidFill>
              <a:latin typeface="Calibri Light"/>
            </a:endParaRPr>
          </a:p>
        </p:txBody>
      </p:sp>
      <p:sp>
        <p:nvSpPr>
          <p:cNvPr id="350" name="PlaceHolder 2"/>
          <p:cNvSpPr>
            <a:spLocks noGrp="1"/>
          </p:cNvSpPr>
          <p:nvPr>
            <p:ph type="subTitle"/>
          </p:nvPr>
        </p:nvSpPr>
        <p:spPr>
          <a:xfrm>
            <a:off x="1547640" y="4446360"/>
            <a:ext cx="6400800" cy="1130040"/>
          </a:xfrm>
          <a:prstGeom prst="rect">
            <a:avLst/>
          </a:prstGeom>
          <a:noFill/>
          <a:ln w="0">
            <a:noFill/>
          </a:ln>
        </p:spPr>
        <p:txBody>
          <a:bodyPr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宋体"/>
              </a:rPr>
              <a:t>2.2 DEFIBRILLATOR</a:t>
            </a:r>
            <a:endParaRPr b="0" lang="en-US" sz="1800" spc="-1" strike="noStrike">
              <a:solidFill>
                <a:srgbClr val="404040"/>
              </a:solidFill>
              <a:latin typeface="Calibri"/>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除颤仪</a:t>
            </a:r>
            <a:endParaRPr b="0" lang="en-US" sz="1800" spc="-1" strike="noStrike">
              <a:solidFill>
                <a:srgbClr val="404040"/>
              </a:solidFill>
              <a:latin typeface="Calibri"/>
            </a:endParaRPr>
          </a:p>
        </p:txBody>
      </p:sp>
      <p:pic>
        <p:nvPicPr>
          <p:cNvPr id="351" name="文本框 4" descr=""/>
          <p:cNvPicPr/>
          <p:nvPr/>
        </p:nvPicPr>
        <p:blipFill>
          <a:blip r:embed="rId1"/>
          <a:stretch/>
        </p:blipFill>
        <p:spPr>
          <a:xfrm>
            <a:off x="1646280" y="2938320"/>
            <a:ext cx="5851440" cy="1285920"/>
          </a:xfrm>
          <a:prstGeom prst="rect">
            <a:avLst/>
          </a:prstGeom>
          <a:ln w="0">
            <a:noFill/>
          </a:ln>
        </p:spPr>
      </p:pic>
      <p:pic>
        <p:nvPicPr>
          <p:cNvPr id="352" name="图片 6" descr=""/>
          <p:cNvPicPr/>
          <p:nvPr/>
        </p:nvPicPr>
        <p:blipFill>
          <a:blip r:embed="rId2"/>
          <a:stretch/>
        </p:blipFill>
        <p:spPr>
          <a:xfrm>
            <a:off x="490680" y="295200"/>
            <a:ext cx="176184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9" name="文本框 2"/>
          <p:cNvSpPr/>
          <p:nvPr/>
        </p:nvSpPr>
        <p:spPr>
          <a:xfrm>
            <a:off x="123840" y="907920"/>
            <a:ext cx="4578480" cy="499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Depolarize  </a:t>
            </a:r>
            <a:r>
              <a:rPr b="0" i="1" lang="en-US" sz="1400" spc="-1" strike="noStrike">
                <a:solidFill>
                  <a:srgbClr val="000000"/>
                </a:solidFill>
                <a:latin typeface="Times New Roman"/>
                <a:ea typeface="宋体"/>
              </a:rPr>
              <a:t> vt.  </a:t>
            </a:r>
            <a:r>
              <a:rPr b="0" lang="zh-CN" sz="1400" spc="-1" strike="noStrike">
                <a:solidFill>
                  <a:srgbClr val="000000"/>
                </a:solidFill>
                <a:latin typeface="Times New Roman"/>
                <a:ea typeface="宋体"/>
              </a:rPr>
              <a:t>去偏光；去偏极</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ardiac  </a:t>
            </a:r>
            <a:r>
              <a:rPr b="0" i="1" lang="en-US" sz="1400" spc="-1" strike="noStrike">
                <a:solidFill>
                  <a:srgbClr val="000000"/>
                </a:solidFill>
                <a:latin typeface="Times New Roman"/>
                <a:ea typeface="宋体"/>
              </a:rPr>
              <a:t> adj.  </a:t>
            </a:r>
            <a:r>
              <a:rPr b="0" lang="zh-CN" sz="1400" spc="-1" strike="noStrike">
                <a:solidFill>
                  <a:srgbClr val="000000"/>
                </a:solidFill>
                <a:latin typeface="Times New Roman"/>
                <a:ea typeface="宋体"/>
              </a:rPr>
              <a:t>心脏的；（与）贲门（有关）的；</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lt;</a:t>
            </a:r>
            <a:r>
              <a:rPr b="0" lang="zh-CN" sz="1400" spc="-1" strike="noStrike">
                <a:solidFill>
                  <a:srgbClr val="000000"/>
                </a:solidFill>
                <a:latin typeface="Times New Roman"/>
                <a:ea typeface="宋体"/>
              </a:rPr>
              <a:t>非正式</a:t>
            </a:r>
            <a:r>
              <a:rPr b="0" lang="en-US" sz="1400" spc="-1" strike="noStrike">
                <a:solidFill>
                  <a:srgbClr val="000000"/>
                </a:solidFill>
                <a:latin typeface="Times New Roman"/>
                <a:ea typeface="宋体"/>
              </a:rPr>
              <a:t>&gt;</a:t>
            </a:r>
            <a:r>
              <a:rPr b="0" lang="zh-CN" sz="1400" spc="-1" strike="noStrike">
                <a:solidFill>
                  <a:srgbClr val="000000"/>
                </a:solidFill>
                <a:latin typeface="Times New Roman"/>
                <a:ea typeface="宋体"/>
              </a:rPr>
              <a:t>心脏病患者</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ardiac autonomic cells  </a:t>
            </a:r>
            <a:r>
              <a:rPr b="0" lang="zh-CN" sz="1400" spc="-1" strike="noStrike">
                <a:solidFill>
                  <a:srgbClr val="000000"/>
                </a:solidFill>
                <a:latin typeface="Times New Roman"/>
                <a:ea typeface="宋体"/>
              </a:rPr>
              <a:t>心脏自主细胞</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inactivate  </a:t>
            </a:r>
            <a:r>
              <a:rPr b="0" i="1" lang="en-US" sz="1400" spc="-1" strike="noStrike">
                <a:solidFill>
                  <a:srgbClr val="000000"/>
                </a:solidFill>
                <a:latin typeface="Times New Roman"/>
                <a:ea typeface="宋体"/>
              </a:rPr>
              <a:t> vt.  </a:t>
            </a:r>
            <a:r>
              <a:rPr b="0" lang="zh-CN" sz="1400" spc="-1" strike="noStrike">
                <a:solidFill>
                  <a:srgbClr val="000000"/>
                </a:solidFill>
                <a:latin typeface="Times New Roman"/>
                <a:ea typeface="宋体"/>
              </a:rPr>
              <a:t>使不活动；使不活泼；阻止活动</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reentry   </a:t>
            </a:r>
            <a:r>
              <a:rPr b="0" i="1" lang="en-US" sz="1400" spc="-1" strike="noStrike">
                <a:solidFill>
                  <a:srgbClr val="000000"/>
                </a:solidFill>
                <a:latin typeface="Times New Roman"/>
                <a:ea typeface="宋体"/>
              </a:rPr>
              <a:t> n  .</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航</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再入；再进</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reentry channel  </a:t>
            </a:r>
            <a:r>
              <a:rPr b="0" lang="zh-CN" sz="1400" spc="-1" strike="noStrike">
                <a:solidFill>
                  <a:srgbClr val="000000"/>
                </a:solidFill>
                <a:latin typeface="Times New Roman"/>
                <a:ea typeface="宋体"/>
              </a:rPr>
              <a:t>再入通道</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inoatrial  n,  </a:t>
            </a:r>
            <a:r>
              <a:rPr b="0" lang="zh-CN" sz="1400" spc="-1" strike="noStrike">
                <a:solidFill>
                  <a:srgbClr val="000000"/>
                </a:solidFill>
                <a:latin typeface="Times New Roman"/>
                <a:ea typeface="宋体"/>
              </a:rPr>
              <a:t>窦房</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Node   n.  </a:t>
            </a:r>
            <a:r>
              <a:rPr b="0" lang="zh-CN" sz="1400" spc="-1" strike="noStrike">
                <a:solidFill>
                  <a:srgbClr val="000000"/>
                </a:solidFill>
                <a:latin typeface="Times New Roman"/>
                <a:ea typeface="宋体"/>
              </a:rPr>
              <a:t>茎节；结，结节；结点</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inoatrial node  </a:t>
            </a:r>
            <a:r>
              <a:rPr b="0" lang="zh-CN" sz="1400" spc="-1" strike="noStrike">
                <a:solidFill>
                  <a:srgbClr val="000000"/>
                </a:solidFill>
                <a:latin typeface="Times New Roman"/>
                <a:ea typeface="宋体"/>
              </a:rPr>
              <a:t>窦房结</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autonomy   </a:t>
            </a:r>
            <a:r>
              <a:rPr b="0" i="1" lang="en-US" sz="1400" spc="-1" strike="noStrike">
                <a:solidFill>
                  <a:srgbClr val="000000"/>
                </a:solidFill>
                <a:latin typeface="Times New Roman"/>
                <a:ea typeface="宋体"/>
              </a:rPr>
              <a:t> n.  </a:t>
            </a:r>
            <a:r>
              <a:rPr b="0" lang="zh-CN" sz="1400" spc="-1" strike="noStrike">
                <a:solidFill>
                  <a:srgbClr val="000000"/>
                </a:solidFill>
                <a:latin typeface="Times New Roman"/>
                <a:ea typeface="宋体"/>
              </a:rPr>
              <a:t>自治，自治权；</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the heart rhythm  </a:t>
            </a:r>
            <a:r>
              <a:rPr b="0" lang="zh-CN" sz="1400" spc="-1" strike="noStrike">
                <a:solidFill>
                  <a:srgbClr val="000000"/>
                </a:solidFill>
                <a:latin typeface="Times New Roman"/>
                <a:ea typeface="宋体"/>
              </a:rPr>
              <a:t>心律</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Unidirectional  </a:t>
            </a:r>
            <a:r>
              <a:rPr b="0" i="1" lang="en-US" sz="1400" spc="-1" strike="noStrike">
                <a:solidFill>
                  <a:srgbClr val="000000"/>
                </a:solidFill>
                <a:latin typeface="Times New Roman"/>
                <a:ea typeface="宋体"/>
              </a:rPr>
              <a:t> adj.  </a:t>
            </a:r>
            <a:r>
              <a:rPr b="0" lang="zh-CN" sz="1400" spc="-1" strike="noStrike">
                <a:solidFill>
                  <a:srgbClr val="000000"/>
                </a:solidFill>
                <a:latin typeface="Times New Roman"/>
                <a:ea typeface="宋体"/>
              </a:rPr>
              <a:t>单向的；单向性的</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Unidirectional waveform defibrillator  </a:t>
            </a:r>
            <a:r>
              <a:rPr b="0" lang="zh-CN" sz="1400" spc="-1" strike="noStrike">
                <a:solidFill>
                  <a:srgbClr val="000000"/>
                </a:solidFill>
                <a:latin typeface="Times New Roman"/>
                <a:ea typeface="宋体"/>
              </a:rPr>
              <a:t>单向波形除颤器</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Bidirectional waveform defibrillator  </a:t>
            </a:r>
            <a:r>
              <a:rPr b="0" lang="zh-CN" sz="1400" spc="-1" strike="noStrike">
                <a:solidFill>
                  <a:srgbClr val="000000"/>
                </a:solidFill>
                <a:latin typeface="Times New Roman"/>
                <a:ea typeface="宋体"/>
              </a:rPr>
              <a:t>双向波形除颤器</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linical   </a:t>
            </a:r>
            <a:r>
              <a:rPr b="0" i="1" lang="en-US" sz="1400" spc="-1" strike="noStrike">
                <a:solidFill>
                  <a:srgbClr val="000000"/>
                </a:solidFill>
                <a:latin typeface="Times New Roman"/>
                <a:ea typeface="宋体"/>
              </a:rPr>
              <a:t> adj.  </a:t>
            </a:r>
            <a:r>
              <a:rPr b="0" lang="zh-CN" sz="1400" spc="-1" strike="noStrike">
                <a:solidFill>
                  <a:srgbClr val="000000"/>
                </a:solidFill>
                <a:latin typeface="Times New Roman"/>
                <a:ea typeface="宋体"/>
              </a:rPr>
              <a:t>诊所的，医务室的；临床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ynchronous  </a:t>
            </a:r>
            <a:r>
              <a:rPr b="0" i="1" lang="en-US" sz="1400" spc="-1" strike="noStrike">
                <a:solidFill>
                  <a:srgbClr val="000000"/>
                </a:solidFill>
                <a:latin typeface="Times New Roman"/>
                <a:ea typeface="宋体"/>
              </a:rPr>
              <a:t> adj.  </a:t>
            </a:r>
            <a:r>
              <a:rPr b="0" lang="zh-CN" sz="1400" spc="-1" strike="noStrike">
                <a:solidFill>
                  <a:srgbClr val="000000"/>
                </a:solidFill>
                <a:latin typeface="Times New Roman"/>
                <a:ea typeface="宋体"/>
              </a:rPr>
              <a:t>同步的；同时的</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ynchronous defibrillation  </a:t>
            </a:r>
            <a:r>
              <a:rPr b="0" lang="zh-CN" sz="1400" spc="-1" strike="noStrike">
                <a:solidFill>
                  <a:srgbClr val="000000"/>
                </a:solidFill>
                <a:latin typeface="Times New Roman"/>
                <a:ea typeface="宋体"/>
              </a:rPr>
              <a:t>同步除颤</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ardioversion   </a:t>
            </a:r>
            <a:r>
              <a:rPr b="0" i="1" lang="en-US" sz="1400" spc="-1" strike="noStrike">
                <a:solidFill>
                  <a:srgbClr val="000000"/>
                </a:solidFill>
                <a:latin typeface="Times New Roman"/>
                <a:ea typeface="宋体"/>
              </a:rPr>
              <a:t> n.  </a:t>
            </a:r>
            <a:r>
              <a:rPr b="0" lang="zh-CN" sz="1400" spc="-1" strike="noStrike">
                <a:solidFill>
                  <a:srgbClr val="000000"/>
                </a:solidFill>
                <a:latin typeface="Times New Roman"/>
                <a:ea typeface="宋体"/>
              </a:rPr>
              <a:t>复律法；心律转变法</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Atrial    </a:t>
            </a:r>
            <a:r>
              <a:rPr b="0" i="1" lang="en-US" sz="1400" spc="-1" strike="noStrike">
                <a:solidFill>
                  <a:srgbClr val="000000"/>
                </a:solidFill>
                <a:latin typeface="Times New Roman"/>
                <a:ea typeface="宋体"/>
              </a:rPr>
              <a:t>adj.  </a:t>
            </a:r>
            <a:r>
              <a:rPr b="0" lang="zh-CN" sz="1400" spc="-1" strike="noStrike">
                <a:solidFill>
                  <a:srgbClr val="000000"/>
                </a:solidFill>
                <a:latin typeface="Times New Roman"/>
                <a:ea typeface="宋体"/>
              </a:rPr>
              <a:t>心房的；门廊</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Atrial fibrillation  </a:t>
            </a:r>
            <a:r>
              <a:rPr b="0" lang="zh-CN" sz="1400" spc="-1" strike="noStrike">
                <a:solidFill>
                  <a:srgbClr val="000000"/>
                </a:solidFill>
                <a:latin typeface="Times New Roman"/>
                <a:ea typeface="宋体"/>
              </a:rPr>
              <a:t>房颤</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lutter    </a:t>
            </a:r>
            <a:r>
              <a:rPr b="0" i="1" lang="en-US" sz="1400" spc="-1" strike="noStrike">
                <a:solidFill>
                  <a:srgbClr val="000000"/>
                </a:solidFill>
                <a:latin typeface="Times New Roman"/>
                <a:ea typeface="宋体"/>
              </a:rPr>
              <a:t> v.  </a:t>
            </a:r>
            <a:r>
              <a:rPr b="0" lang="zh-CN" sz="1400" spc="-1" strike="noStrike">
                <a:solidFill>
                  <a:srgbClr val="000000"/>
                </a:solidFill>
                <a:latin typeface="Times New Roman"/>
                <a:ea typeface="宋体"/>
              </a:rPr>
              <a:t>飘动，颤动；</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upraventricular  n,  </a:t>
            </a:r>
            <a:r>
              <a:rPr b="0" lang="zh-CN" sz="1400" spc="-1" strike="noStrike">
                <a:solidFill>
                  <a:srgbClr val="000000"/>
                </a:solidFill>
                <a:latin typeface="Times New Roman"/>
                <a:ea typeface="宋体"/>
              </a:rPr>
              <a:t>室上性</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380" name="文本框 6"/>
          <p:cNvSpPr/>
          <p:nvPr/>
        </p:nvSpPr>
        <p:spPr>
          <a:xfrm>
            <a:off x="4702320" y="892080"/>
            <a:ext cx="4317840" cy="393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ventricular  </a:t>
            </a:r>
            <a:r>
              <a:rPr b="0" i="1" lang="en-US" sz="1400" spc="-1" strike="noStrike">
                <a:solidFill>
                  <a:srgbClr val="000000"/>
                </a:solidFill>
                <a:latin typeface="Times New Roman"/>
                <a:ea typeface="宋体"/>
              </a:rPr>
              <a:t> adj.  </a:t>
            </a:r>
            <a:r>
              <a:rPr b="0" lang="zh-CN" sz="1400" spc="-1" strike="noStrike">
                <a:solidFill>
                  <a:srgbClr val="000000"/>
                </a:solidFill>
                <a:latin typeface="Times New Roman"/>
                <a:ea typeface="宋体"/>
              </a:rPr>
              <a:t>心室的；脑室的；膨胀的；腹部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tachycardia   </a:t>
            </a:r>
            <a:r>
              <a:rPr b="0" i="1" lang="en-US" sz="1400" spc="-1" strike="noStrike">
                <a:solidFill>
                  <a:srgbClr val="000000"/>
                </a:solidFill>
                <a:latin typeface="Times New Roman"/>
                <a:ea typeface="宋体"/>
              </a:rPr>
              <a:t> n.  </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内科</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心动过速；心跳过速</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ventricular tachycardia  </a:t>
            </a:r>
            <a:r>
              <a:rPr b="0" lang="zh-CN" sz="1400" spc="-1" strike="noStrike">
                <a:solidFill>
                  <a:srgbClr val="000000"/>
                </a:solidFill>
                <a:latin typeface="Times New Roman"/>
                <a:ea typeface="宋体"/>
              </a:rPr>
              <a:t>室性心动过速</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electrocardiogram   </a:t>
            </a:r>
            <a:r>
              <a:rPr b="0" i="1" lang="en-US" sz="1400" spc="-1" strike="noStrike">
                <a:solidFill>
                  <a:srgbClr val="000000"/>
                </a:solidFill>
                <a:latin typeface="Times New Roman"/>
                <a:ea typeface="宋体"/>
              </a:rPr>
              <a:t> n.  </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内科</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心电图</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trigger    </a:t>
            </a:r>
            <a:r>
              <a:rPr b="0" i="1" lang="en-US" sz="1400" spc="-1" strike="noStrike">
                <a:solidFill>
                  <a:srgbClr val="000000"/>
                </a:solidFill>
                <a:latin typeface="Times New Roman"/>
                <a:ea typeface="宋体"/>
              </a:rPr>
              <a:t>v.   </a:t>
            </a:r>
            <a:r>
              <a:rPr b="0" lang="zh-CN" sz="1400" spc="-1" strike="noStrike">
                <a:solidFill>
                  <a:srgbClr val="000000"/>
                </a:solidFill>
                <a:latin typeface="Times New Roman"/>
                <a:ea typeface="宋体"/>
              </a:rPr>
              <a:t>引发，激发；</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ECG   </a:t>
            </a:r>
            <a:r>
              <a:rPr b="0" i="1" lang="en-US" sz="1400" spc="-1" strike="noStrike">
                <a:solidFill>
                  <a:srgbClr val="000000"/>
                </a:solidFill>
                <a:latin typeface="Times New Roman"/>
                <a:ea typeface="宋体"/>
              </a:rPr>
              <a:t>abbr.  </a:t>
            </a:r>
            <a:r>
              <a:rPr b="0" lang="zh-CN" sz="1400" spc="-1" strike="noStrike">
                <a:solidFill>
                  <a:srgbClr val="000000"/>
                </a:solidFill>
                <a:latin typeface="Times New Roman"/>
                <a:ea typeface="宋体"/>
              </a:rPr>
              <a:t>心电图（</a:t>
            </a:r>
            <a:r>
              <a:rPr b="0" lang="en-US" sz="1400" spc="-1" strike="noStrike">
                <a:solidFill>
                  <a:srgbClr val="000000"/>
                </a:solidFill>
                <a:latin typeface="Times New Roman"/>
                <a:ea typeface="宋体"/>
              </a:rPr>
              <a:t>Electrocardiograph</a:t>
            </a:r>
            <a:r>
              <a:rPr b="0" lang="zh-CN" sz="1400" spc="-1" strike="noStrike">
                <a:solidFill>
                  <a:srgbClr val="000000"/>
                </a:solidFill>
                <a:latin typeface="Times New Roman"/>
                <a:ea typeface="宋体"/>
              </a:rPr>
              <a:t>）</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inus rhythm  </a:t>
            </a:r>
            <a:r>
              <a:rPr b="0" lang="zh-CN" sz="1400" spc="-1" strike="noStrike">
                <a:solidFill>
                  <a:srgbClr val="000000"/>
                </a:solidFill>
                <a:latin typeface="Times New Roman"/>
                <a:ea typeface="宋体"/>
              </a:rPr>
              <a:t>窦性心律</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Ventricular fibrillation  </a:t>
            </a:r>
            <a:r>
              <a:rPr b="0" lang="zh-CN" sz="1400" spc="-1" strike="noStrike">
                <a:solidFill>
                  <a:srgbClr val="000000"/>
                </a:solidFill>
                <a:latin typeface="Times New Roman"/>
                <a:ea typeface="宋体"/>
              </a:rPr>
              <a:t>室颤</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onsciousness  </a:t>
            </a:r>
            <a:r>
              <a:rPr b="0" i="1" lang="en-US" sz="1400" spc="-1" strike="noStrike">
                <a:solidFill>
                  <a:srgbClr val="000000"/>
                </a:solidFill>
                <a:latin typeface="Times New Roman"/>
                <a:ea typeface="宋体"/>
              </a:rPr>
              <a:t> n.  </a:t>
            </a:r>
            <a:r>
              <a:rPr b="0" lang="zh-CN" sz="1400" spc="-1" strike="noStrike">
                <a:solidFill>
                  <a:srgbClr val="000000"/>
                </a:solidFill>
                <a:latin typeface="Times New Roman"/>
                <a:ea typeface="宋体"/>
              </a:rPr>
              <a:t>知觉，清醒</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intermittent   </a:t>
            </a:r>
            <a:r>
              <a:rPr b="0" i="1" lang="en-US" sz="1400" spc="-1" strike="noStrike">
                <a:solidFill>
                  <a:srgbClr val="000000"/>
                </a:solidFill>
                <a:latin typeface="Times New Roman"/>
                <a:ea typeface="宋体"/>
              </a:rPr>
              <a:t> adj.  </a:t>
            </a:r>
            <a:r>
              <a:rPr b="0" lang="zh-CN" sz="1400" spc="-1" strike="noStrike">
                <a:solidFill>
                  <a:srgbClr val="000000"/>
                </a:solidFill>
                <a:latin typeface="Times New Roman"/>
                <a:ea typeface="宋体"/>
              </a:rPr>
              <a:t>间歇的，断断续续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hemodynamic  </a:t>
            </a:r>
            <a:r>
              <a:rPr b="0" i="1" lang="en-US" sz="1400" spc="-1" strike="noStrike">
                <a:solidFill>
                  <a:srgbClr val="000000"/>
                </a:solidFill>
                <a:latin typeface="Times New Roman"/>
                <a:ea typeface="宋体"/>
              </a:rPr>
              <a:t> adj.  </a:t>
            </a:r>
            <a:r>
              <a:rPr b="0" lang="zh-CN" sz="1400" spc="-1" strike="noStrike">
                <a:solidFill>
                  <a:srgbClr val="000000"/>
                </a:solidFill>
                <a:latin typeface="Times New Roman"/>
                <a:ea typeface="宋体"/>
              </a:rPr>
              <a:t>血液动力学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hemodynamic disorder  </a:t>
            </a:r>
            <a:r>
              <a:rPr b="0" lang="zh-CN" sz="1400" spc="-1" strike="noStrike">
                <a:solidFill>
                  <a:srgbClr val="000000"/>
                </a:solidFill>
                <a:latin typeface="Times New Roman"/>
                <a:ea typeface="宋体"/>
              </a:rPr>
              <a:t>血流动力学紊乱</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hypertrophy    n.  [</a:t>
            </a:r>
            <a:r>
              <a:rPr b="0" lang="zh-CN" sz="1400" spc="-1" strike="noStrike">
                <a:solidFill>
                  <a:srgbClr val="000000"/>
                </a:solidFill>
                <a:latin typeface="Times New Roman"/>
                <a:ea typeface="宋体"/>
              </a:rPr>
              <a:t>病理</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肥大；过度增大</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yndrome    n.  </a:t>
            </a:r>
            <a:r>
              <a:rPr b="0" lang="zh-CN" sz="1400" spc="-1" strike="noStrike">
                <a:solidFill>
                  <a:srgbClr val="000000"/>
                </a:solidFill>
                <a:latin typeface="Times New Roman"/>
                <a:ea typeface="宋体"/>
              </a:rPr>
              <a:t>综合征，征群，综合症状；</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electrocardiograph    n.  [</a:t>
            </a:r>
            <a:r>
              <a:rPr b="0" lang="zh-CN" sz="1400" spc="-1" strike="noStrike">
                <a:solidFill>
                  <a:srgbClr val="000000"/>
                </a:solidFill>
                <a:latin typeface="Times New Roman"/>
                <a:ea typeface="宋体"/>
              </a:rPr>
              <a:t>内科</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心电图仪，</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内科</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心电图描记器</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oscilloscope    n.  [</a:t>
            </a:r>
            <a:r>
              <a:rPr b="0" lang="zh-CN" sz="1400" spc="-1" strike="noStrike">
                <a:solidFill>
                  <a:srgbClr val="000000"/>
                </a:solidFill>
                <a:latin typeface="Times New Roman"/>
                <a:ea typeface="宋体"/>
              </a:rPr>
              <a:t>电子</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示波器；示波镜</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82" name="文本框 2"/>
          <p:cNvSpPr/>
          <p:nvPr/>
        </p:nvSpPr>
        <p:spPr>
          <a:xfrm>
            <a:off x="179280" y="595440"/>
            <a:ext cx="8569440" cy="4006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Complex Sentence Analysi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 If it does not revert to Sinus rhythm, it can be increased.</a:t>
            </a:r>
            <a:endParaRPr b="0" lang="en-US" sz="1600" spc="-1" strike="noStrike">
              <a:solidFill>
                <a:srgbClr val="000000"/>
              </a:solidFill>
              <a:latin typeface="Calibri"/>
            </a:endParaRPr>
          </a:p>
          <a:p>
            <a:pPr>
              <a:lnSpc>
                <a:spcPct val="100000"/>
              </a:lnSpc>
              <a:spcAft>
                <a:spcPts val="1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do not revert to</a:t>
            </a:r>
            <a:r>
              <a:rPr b="0" lang="zh-CN" sz="1600" spc="-1" strike="noStrike">
                <a:solidFill>
                  <a:srgbClr val="000000"/>
                </a:solidFill>
                <a:latin typeface="Segoe UI"/>
                <a:ea typeface="宋体"/>
              </a:rPr>
              <a:t>不要返回到</a:t>
            </a:r>
            <a:r>
              <a:rPr b="0" lang="en-US" sz="1600" spc="-1" strike="noStrike">
                <a:solidFill>
                  <a:srgbClr val="000000"/>
                </a:solidFill>
                <a:latin typeface="Segoe UI"/>
                <a:ea typeface="宋体"/>
              </a:rPr>
              <a:t>/</a:t>
            </a:r>
            <a:r>
              <a:rPr b="0" lang="zh-CN" sz="1600" spc="-1" strike="noStrike">
                <a:solidFill>
                  <a:srgbClr val="000000"/>
                </a:solidFill>
                <a:latin typeface="Segoe UI"/>
                <a:ea typeface="宋体"/>
              </a:rPr>
              <a:t>恢复到</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若不能恢复窦性心律，它可能会增加。</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2) When there is a history of digitalis poisoning and Hypokalemia, it is not suitable for electrical cardiovers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is not suitable for…</a:t>
            </a:r>
            <a:r>
              <a:rPr b="0" lang="zh-CN" sz="1600" spc="-1" strike="noStrike">
                <a:solidFill>
                  <a:srgbClr val="000000"/>
                </a:solidFill>
                <a:latin typeface="Times New Roman"/>
                <a:ea typeface="宋体"/>
              </a:rPr>
              <a:t>不适合</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当有洋地黄中毒和低钾血症史时，不宜电复律。</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3) The early onset of ventricular fibrillation is generally coarse fibrillation, and defibrillation is easy to succeed at this time, so it should be attempted within 2 minut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be attempted…</a:t>
            </a:r>
            <a:r>
              <a:rPr b="0" lang="zh-CN" sz="1600" spc="-1" strike="noStrike">
                <a:solidFill>
                  <a:srgbClr val="000000"/>
                </a:solidFill>
                <a:latin typeface="Times New Roman"/>
                <a:ea typeface="宋体"/>
              </a:rPr>
              <a:t>试图</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尝试</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oarse fibrillation</a:t>
            </a:r>
            <a:r>
              <a:rPr b="0" lang="zh-CN" sz="1600" spc="-1" strike="noStrike">
                <a:solidFill>
                  <a:srgbClr val="000000"/>
                </a:solidFill>
                <a:latin typeface="Times New Roman"/>
                <a:ea typeface="宋体"/>
              </a:rPr>
              <a:t>粗颤</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室性颤动的早期起病一般为粗颤，此时除颤易成功，应在</a:t>
            </a:r>
            <a:r>
              <a:rPr b="0" lang="en-US" sz="1600" spc="-1" strike="noStrike">
                <a:solidFill>
                  <a:srgbClr val="000000"/>
                </a:solidFill>
                <a:latin typeface="Times New Roman"/>
                <a:ea typeface="宋体"/>
              </a:rPr>
              <a:t>2</a:t>
            </a:r>
            <a:r>
              <a:rPr b="0" lang="zh-CN" sz="1600" spc="-1" strike="noStrike">
                <a:solidFill>
                  <a:srgbClr val="000000"/>
                </a:solidFill>
                <a:latin typeface="Times New Roman"/>
                <a:ea typeface="宋体"/>
              </a:rPr>
              <a:t>分钟内尝试完成。</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4) Charging: Before charging, instruct other personnel not to come into contact with the patien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ome into contact with…</a:t>
            </a:r>
            <a:r>
              <a:rPr b="0" lang="zh-CN" sz="1600" spc="-1" strike="noStrike">
                <a:solidFill>
                  <a:srgbClr val="000000"/>
                </a:solidFill>
                <a:latin typeface="Segoe UI"/>
                <a:ea typeface="宋体"/>
              </a:rPr>
              <a:t>接触：指与某物或某人直接或间接地相互作用或沟通。</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a:t>
            </a:r>
            <a:r>
              <a:rPr b="0" lang="zh-CN" sz="1600" spc="-1" strike="noStrike">
                <a:solidFill>
                  <a:srgbClr val="000000"/>
                </a:solidFill>
                <a:latin typeface="Segoe UI"/>
                <a:ea typeface="宋体"/>
              </a:rPr>
              <a:t>充电</a:t>
            </a:r>
            <a:r>
              <a:rPr b="0" lang="en-US" sz="1600" spc="-1" strike="noStrike">
                <a:solidFill>
                  <a:srgbClr val="000000"/>
                </a:solidFill>
                <a:latin typeface="Segoe UI"/>
                <a:ea typeface="宋体"/>
              </a:rPr>
              <a:t>:</a:t>
            </a:r>
            <a:r>
              <a:rPr b="0" lang="zh-CN" sz="1600" spc="-1" strike="noStrike">
                <a:solidFill>
                  <a:srgbClr val="000000"/>
                </a:solidFill>
                <a:latin typeface="Segoe UI"/>
                <a:ea typeface="宋体"/>
              </a:rPr>
              <a:t>充电前，提醒其他人员不要与患者接触。</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8"/>
          <p:cNvSpPr/>
          <p:nvPr/>
        </p:nvSpPr>
        <p:spPr>
          <a:xfrm>
            <a:off x="-22320" y="25704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4" name="文本框 1"/>
          <p:cNvSpPr/>
          <p:nvPr/>
        </p:nvSpPr>
        <p:spPr>
          <a:xfrm>
            <a:off x="108000" y="590400"/>
            <a:ext cx="4597200" cy="496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Concept of defibrillator</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 a very short period of time, a strong current is supplied to the heart (currently, direct current is used), which can depolarize all cardiac autonomic cells at the same time in an instant, and inactivate all possible reentry channels. Then the Sinoatrial node, which has the highest autonomy in the cardiac pacing system, can regain its dominant position to control the heart beat, so the heart rhythm returns to sinu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Types of defibrillator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 Unidirectional waveform defibrillator</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energy selection is from 0 to 360J, and different energies are selected based on the patient's age and weight adjustmen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2. Bidirectional waveform defibrillator</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energy selection is from 0 to 200J, which is safer and more effective than unidirectional waveform defibrillators. Therefore, bidirectional waveform defibrillators are now commonly used in clinical practice.</a:t>
            </a:r>
            <a:endParaRPr b="0" lang="en-US" sz="1600" spc="-1" strike="noStrike">
              <a:solidFill>
                <a:srgbClr val="000000"/>
              </a:solidFill>
              <a:latin typeface="Calibri"/>
            </a:endParaRPr>
          </a:p>
        </p:txBody>
      </p:sp>
      <p:pic>
        <p:nvPicPr>
          <p:cNvPr id="355" name="Picture 7" descr=""/>
          <p:cNvPicPr/>
          <p:nvPr/>
        </p:nvPicPr>
        <p:blipFill>
          <a:blip r:embed="rId1"/>
          <a:stretch/>
        </p:blipFill>
        <p:spPr>
          <a:xfrm>
            <a:off x="5278320" y="277920"/>
            <a:ext cx="3463920" cy="2574720"/>
          </a:xfrm>
          <a:prstGeom prst="rect">
            <a:avLst/>
          </a:prstGeom>
          <a:ln w="0">
            <a:noFill/>
          </a:ln>
        </p:spPr>
      </p:pic>
      <p:sp>
        <p:nvSpPr>
          <p:cNvPr id="356" name="文本框 4"/>
          <p:cNvSpPr/>
          <p:nvPr/>
        </p:nvSpPr>
        <p:spPr>
          <a:xfrm>
            <a:off x="4705200" y="3040200"/>
            <a:ext cx="46101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Times New Roman"/>
                <a:ea typeface="宋体"/>
              </a:rPr>
              <a:t>Figure 1-1 Physical image of defibrillator(1)</a:t>
            </a:r>
            <a:endParaRPr b="0" lang="en-US" sz="1300" spc="-1" strike="noStrike">
              <a:solidFill>
                <a:srgbClr val="000000"/>
              </a:solidFill>
              <a:latin typeface="Calibri"/>
            </a:endParaRPr>
          </a:p>
        </p:txBody>
      </p:sp>
      <p:pic>
        <p:nvPicPr>
          <p:cNvPr id="357" name="Picture 8" descr=""/>
          <p:cNvPicPr/>
          <p:nvPr/>
        </p:nvPicPr>
        <p:blipFill>
          <a:blip r:embed="rId2"/>
          <a:stretch/>
        </p:blipFill>
        <p:spPr>
          <a:xfrm>
            <a:off x="5743440" y="3351240"/>
            <a:ext cx="2532240" cy="2311200"/>
          </a:xfrm>
          <a:prstGeom prst="rect">
            <a:avLst/>
          </a:prstGeom>
          <a:ln w="0">
            <a:noFill/>
          </a:ln>
        </p:spPr>
      </p:pic>
      <p:sp>
        <p:nvSpPr>
          <p:cNvPr id="358" name="文本框 9"/>
          <p:cNvSpPr/>
          <p:nvPr/>
        </p:nvSpPr>
        <p:spPr>
          <a:xfrm>
            <a:off x="4705200" y="5681520"/>
            <a:ext cx="468648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Times New Roman"/>
                <a:ea typeface="宋体"/>
              </a:rPr>
              <a:t>Figure 1-2 Physical image of defibrillator(2)</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文本框 9"/>
          <p:cNvSpPr/>
          <p:nvPr/>
        </p:nvSpPr>
        <p:spPr>
          <a:xfrm>
            <a:off x="12600" y="263520"/>
            <a:ext cx="45770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0" name="文本框 2"/>
          <p:cNvSpPr/>
          <p:nvPr/>
        </p:nvSpPr>
        <p:spPr>
          <a:xfrm>
            <a:off x="324000" y="750960"/>
            <a:ext cx="828036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Types of defibrilla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 Synchronous defibrilla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t is used for cardioversion of Atrial fibrillation, flutter, supraventricular and ventricular tachycardia. Using the R wave on the patient's electrocardiogram to trigger discharge, the electrical pulse occurs at the descending branch of the R wave. Energy selection starts from low. Monitor the patient's ECG during defibrillation. If it does not revert to Sinus rhythm, it can be increased; Electric power, electric defibrillation agai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2. Non synchronous defibrilla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t is only used for Ventricular fibrillation and flutter. At this time, the patient has lost consciousness, and should be immediately defibrillated. After defibrillation, observe whether the patient's heart rhythm changes to sinus rhythm through the electrocardiograph. Multiple intermittent defibrillation is possible, with energy ranging from low to high.</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 Indication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 Ventricular fibrillation and flutter are absolute evidences of electric cardiovers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2) Atrial fibrillation and flutter with hemodynamic disorder.</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3) Paroxysmal supraventricular tachycardia and ventricular tachycardia that are ineffective or have severe hemodynamic disorders treated with drugs and other methods. Preexcitation syndrome with tachyarrhythmi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2" name="文本框 2"/>
          <p:cNvSpPr/>
          <p:nvPr/>
        </p:nvSpPr>
        <p:spPr>
          <a:xfrm>
            <a:off x="324000" y="598320"/>
            <a:ext cx="8280360" cy="328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2) Contraindications</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1) With a long medical history, there is significant cardiac hypertrophy and fresh thrombus formation in the atrium, or a history of thrombus formation within the past 3 months.</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2) Atrial fibrillation or flutter with high or complete atrioventricular block.</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3) Heterotopic tachyarrhythmia with sick Sinoatrial node syndrome.</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4) When there is a history of digitalis poisoning and Hypokalemia, it is not suitable for electrical cardioversion.</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Times New Roman"/>
                <a:ea typeface="宋体"/>
              </a:rPr>
              <a:t>Use of defibrillators</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Times New Roman"/>
                <a:ea typeface="宋体"/>
              </a:rPr>
              <a:t>1. Non synchronous electric defibrillation</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If the patient experiences ventricular fibrillation or flutter, electric defibrillation should be performed as early as possible. The early onset of ventricular fibrillation is generally coarse fibrillation, and defibrillation is easy to succeed at this time, so it should be attempted within 2 minutes. Defibrillators are commonly used in emergency situations for patients with cardiac arrest, as shown in Figures 1-3. The curve between defibrillation time and patient survival rate is shown in Figures 1-4.</a:t>
            </a:r>
            <a:endParaRPr b="0" lang="en-US" sz="1500" spc="-1" strike="noStrike">
              <a:solidFill>
                <a:srgbClr val="000000"/>
              </a:solidFill>
              <a:latin typeface="Calibri"/>
            </a:endParaRPr>
          </a:p>
        </p:txBody>
      </p:sp>
      <p:pic>
        <p:nvPicPr>
          <p:cNvPr id="363" name="图片 4" descr=""/>
          <p:cNvPicPr/>
          <p:nvPr/>
        </p:nvPicPr>
        <p:blipFill>
          <a:blip r:embed="rId1"/>
          <a:stretch/>
        </p:blipFill>
        <p:spPr>
          <a:xfrm>
            <a:off x="1619280" y="3897360"/>
            <a:ext cx="6715080" cy="2962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5" name="文本框 2"/>
          <p:cNvSpPr/>
          <p:nvPr/>
        </p:nvSpPr>
        <p:spPr>
          <a:xfrm>
            <a:off x="324000" y="598320"/>
            <a:ext cx="8640720" cy="350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Operating Step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 Prepare for defibrillation, and prepare various rescue equipment and drugs: defibrillator, electrocardiograph, oscilloscope, and rescue equipment and drugs required for Cardiopulmonary resuscita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2) The patient is lying flat on a hard bed, with an open venous passage that fully exposes the chest wall.</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3) Perform routine electrocardiogram and electrocardiogram monitoring before surgery. After completing the electrocardiogram recording, remove the lead wire from the electrocardiograph to avoid electric shock damage to the electrocardiograph.</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4) Select a suitable electrode plate and evenly apply conductive adhesive. Clean the skin of the patient's defibrillation site with a piece of physiological saline, water, and gauze. Apply the negative electrode (Apex) to the left midline and three transverse fingers under the armpit (apex of the heart). At the positive electrode (Stenal): at the right edge of the right subclavian sternum (at the base of the heart).</a:t>
            </a:r>
            <a:endParaRPr b="0" lang="en-US" sz="1600" spc="-1" strike="noStrike">
              <a:solidFill>
                <a:srgbClr val="000000"/>
              </a:solidFill>
              <a:latin typeface="Calibri"/>
            </a:endParaRPr>
          </a:p>
        </p:txBody>
      </p:sp>
      <p:pic>
        <p:nvPicPr>
          <p:cNvPr id="366" name="图片 5" descr=""/>
          <p:cNvPicPr/>
          <p:nvPr/>
        </p:nvPicPr>
        <p:blipFill>
          <a:blip r:embed="rId1"/>
          <a:stretch/>
        </p:blipFill>
        <p:spPr>
          <a:xfrm>
            <a:off x="420840" y="4138560"/>
            <a:ext cx="4151160" cy="2205000"/>
          </a:xfrm>
          <a:prstGeom prst="rect">
            <a:avLst/>
          </a:prstGeom>
          <a:ln w="0">
            <a:noFill/>
          </a:ln>
        </p:spPr>
      </p:pic>
      <p:pic>
        <p:nvPicPr>
          <p:cNvPr id="367" name="图片 7" descr=""/>
          <p:cNvPicPr/>
          <p:nvPr/>
        </p:nvPicPr>
        <p:blipFill>
          <a:blip r:embed="rId2"/>
          <a:stretch/>
        </p:blipFill>
        <p:spPr>
          <a:xfrm>
            <a:off x="5076720" y="4019400"/>
            <a:ext cx="3940200" cy="2443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9" name="文本框 5"/>
          <p:cNvSpPr/>
          <p:nvPr/>
        </p:nvSpPr>
        <p:spPr>
          <a:xfrm>
            <a:off x="503280" y="907920"/>
            <a:ext cx="813744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5) Select asynchronous electric cardiovers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6) Choose the appropriate energy: The unidirectional waveform defibrillator is generally chosen for adults at 300-360J, and for children at 2J per kilogram of body weight. Adults generally choose a bidirectional waveform defibrillator of 150-200J, while children weigh 2J per kilogram.</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7) Charging: Before charging, instruct other personnel not to come into contact with the patient, the hospital bed, and the instruments and equipment connected to the patient to avoid electric shock. Then, press the charging switch, and the screen will display the predetermined energy to be fully charged.</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8) After charging, place the two electrodes correctly on the patient's skin according to the diagram on the electrode, and apply appropriate pressure to ensure that the electrode plate is in good contact with someone else's skin. Press the discharge button on the electrode plate with both hands and thumbs at the same tim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9) After defibrillation, immediately observe whether the patient's ECG reverts to Sinus rhythm.</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0) If ventricular fibrillation, flutter, etc. continue to occur and cardioversion fails, it should be recharged and the steps repeated after a certain interval of tim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1) After the operation is completed, reset the energy switch to zero, position the patient, monitor heart rate and rhythm, and follow the doctor's instructions for medica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2) Keep record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1" name="文本框 2"/>
          <p:cNvSpPr/>
          <p:nvPr/>
        </p:nvSpPr>
        <p:spPr>
          <a:xfrm>
            <a:off x="250920" y="598320"/>
            <a:ext cx="8353440" cy="56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2. Synchronous electric cardiovers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f the patient has Atrial fibrillation, flutter, supraventricular and ventricular tachycardia, synchronous cardioversion is feasibl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Operating Step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 Those who chose to have cardioversion stopped using digitalis for 1-3 days before operation and were given drugs to improve heart function and correct Hypokalemia and Acidosi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2) Take quinidine, procainamide and other drugs 1-2 days before cardioversion to prevent arrhythmia recurrence after cardiovers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3) On the day of cardioversion, fast and empty the bladder.</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4) Establish a venous channel, connect an electrocardiogram machine and an electrocardiogram monitor, perform a full lead electrocardiogram before surgery, and select a lead with a larger R wave to test the synchronization of electrical cardiovers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5) Propofol, etomidate and other Anesthetic should be properly used, or Diazepam 0.3-0.5mg/Kg should be slowly injected intravenously until the patient's eyelash reflex begins to disappear during the deep substitute anesthesia process, and breathing should be closely observed. If there is respiratory depression, oxygen should be given to the mask.</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6) Select synchronous electric cardiovers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7) Select appropriate energy, Atrial fibrillation is 150J~200J, Atrial flutter is 80J-100J, and supraventricular tachycardia is 100J.</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8) Charging: Before charging, instruct other personnel not to come into contact with the patient, hospital bed, or instruments connected to the patient to avoid electric shock. Then, press the charging switch, and the screen will display the predetermined energy to indicate full charg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3" name="文本框 3"/>
          <p:cNvSpPr/>
          <p:nvPr/>
        </p:nvSpPr>
        <p:spPr>
          <a:xfrm>
            <a:off x="250920" y="612720"/>
            <a:ext cx="82087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9) After charging, place the two electrodes correctly on the patient's skin according to the diagram on the electrode, and press the discharge button on the electrode board with both hands and thumbs simultaneously.</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10) After discharge, observe whether the patient's ECG has reverted to Sinus rhythm. If it has not reverted to Sinus rhythm, increase the electric power and restore the rhythm agai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11) After the operation is completed, return the energy switch to the zero position, set the patient's A-curve to measure the heart rhythm, and follow the doctor's instructions for medicatio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12) Keep records.</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宋体"/>
              </a:rPr>
              <a:t>Precautions</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1.The defibrillator should be regularly checked for performance, charged in a timely manner, and disinfected after use.</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2.When applying conductive paste to the electrode plate, it is not allowed to rub the two electrode plates against each other. The electrode plate should be in close contact with the patient's skin to ensure good conductivity.</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3.If the patient is thin or has uneven skin, two gauze blocks dipped in physiological saline can be placed directly on the patient's defibrillation site.</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4.During an electric shock, no one should come into contact with the patient or hospital bed to avoid electric shock.</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5" name="文本框 2"/>
          <p:cNvSpPr/>
          <p:nvPr/>
        </p:nvSpPr>
        <p:spPr>
          <a:xfrm>
            <a:off x="395280" y="719280"/>
            <a:ext cx="8353440" cy="252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or patients with fine fibrillation type ventricular fibrillation, cardiac compression, oxygen therapy, and medication should be performed first to turn it into coarse fibrillation, followed by electric shock to improve the success rat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6.The skin at the shock site may have mild erythema, pain, or Myalgia, which can be relieved by itself after 3-5 day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7.During open chest defibrillation, the electrodes are placed directly on the front and rear walls of the heart, and the defibrillation energy is generally 5-10J.</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8.For ventricular tachycardia that can clearly distinguish QRS and T waves, synchronous electrical cardioversion should be performed. For those that cannot be distinguished, asynchronous electrical defibrillation should be used.</a:t>
            </a:r>
            <a:endParaRPr b="0" lang="en-US" sz="1600" spc="-1" strike="noStrike">
              <a:solidFill>
                <a:srgbClr val="000000"/>
              </a:solidFill>
              <a:latin typeface="Calibri"/>
            </a:endParaRPr>
          </a:p>
        </p:txBody>
      </p:sp>
      <p:pic>
        <p:nvPicPr>
          <p:cNvPr id="376" name="图片 5" descr=""/>
          <p:cNvPicPr/>
          <p:nvPr/>
        </p:nvPicPr>
        <p:blipFill>
          <a:blip r:embed="rId1"/>
          <a:stretch/>
        </p:blipFill>
        <p:spPr>
          <a:xfrm>
            <a:off x="179280" y="3429000"/>
            <a:ext cx="4680000" cy="3125880"/>
          </a:xfrm>
          <a:prstGeom prst="rect">
            <a:avLst/>
          </a:prstGeom>
          <a:ln w="0">
            <a:noFill/>
          </a:ln>
        </p:spPr>
      </p:pic>
      <p:pic>
        <p:nvPicPr>
          <p:cNvPr id="377" name="图片 7" descr=""/>
          <p:cNvPicPr/>
          <p:nvPr/>
        </p:nvPicPr>
        <p:blipFill>
          <a:blip r:embed="rId2"/>
          <a:stretch/>
        </p:blipFill>
        <p:spPr>
          <a:xfrm>
            <a:off x="5148360" y="3497400"/>
            <a:ext cx="3711600" cy="3057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2T08:56:59Z</dcterms:created>
  <dc:creator>朱允龙</dc:creator>
  <dc:description/>
  <dc:language>en-US</dc:language>
  <cp:lastModifiedBy>sunny888903 sunny888903</cp:lastModifiedBy>
  <dcterms:modified xsi:type="dcterms:W3CDTF">2024-12-18T15:34:08Z</dcterms:modified>
  <cp:revision>4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