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7F3D35-9724-496F-A881-F4B99ABC43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F3D78-FE70-4D0F-B36C-1307B74FDE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32FA1-9ED3-4AC6-9215-2EF48E55D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1E802A-E6DD-4F56-B447-A4EDAC3AB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30BB5-7B2D-410E-9089-149D1F1F7B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E2B187-01C7-4AB5-A6A5-97452FB5A1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EEBF8-5005-4F14-8DCA-5ADEDFBAE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98C28B-7709-4554-8738-A5A29C86E1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7ED62-5E93-4AF6-A2B9-A54CAD827C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7021A9-654B-4507-A126-38440EBBA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201A0-FF90-4CDE-819C-FDCCF22DC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FA47F-A75E-43E1-9B01-B2FED52D9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9B8536-6747-42B3-AD5C-C9CE84149A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6B5089-C1A5-416F-B0CE-D4C1179F3A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E77DFB-3E68-429C-A7BC-6CDBB6E44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64EDF7E-F04B-4FC5-B3DE-00CA751AC2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A2BBF8-7B4E-4DED-B41F-A5B78B9A45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F432E0-AF8F-47EA-A8C4-D1A349D9B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F8C730-67F5-46E2-9A89-B419EF99F0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AB6A018-4E4B-4EBB-A1A8-31E85054FD5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5EB381-7C42-4542-9E9C-02DBD7DFD0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8330DC4-A5BF-435E-A306-8B188A627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D4CAA-EE7A-420B-8BAE-6BA17F8BB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8B7A82B-4190-47E2-97B5-BF800DCC3E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F2A580-DD28-4B56-BE0B-BDFBD0CCEB2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F128F8-E7A2-49C6-94C8-8607619376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0F8DC-6092-4822-AE10-3AA0040E55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7DF082-A08F-4696-AEB9-3263C66710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2ED160-F80F-40B5-9DCE-6232BB44DD4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6BD00C-7B92-4865-8FEA-3DCA0C56D15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EDFFF58-C13C-40F6-9E84-A7EC37AD96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66A2D-5A17-492A-8E95-530C3E6E2B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2370AFB-D4E1-4120-B600-A240F67B689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2B32CB-0E7D-4EF4-88C3-8DCC31BDF9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1A0F7D-769F-47F8-B8D9-5C28FE711E4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71C9D33-3490-44FC-AC03-2B1985A80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F64932-FAF9-466F-9689-01C72D78876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C67FA-D4DA-4B7B-ADE4-C0C1CA826C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18F54-D168-4E60-8324-C2DC241394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3B721-DE81-46D7-981E-B653982D5D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46B6AA0-7689-4F08-9E27-57308E6382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F2288-F738-4353-A37C-F5227D9AC4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2E543D3-0DE5-4463-9ECE-F85EB2631FC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4DEACD5-D97F-4333-8B9B-B946B0E4326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C1A412-8E8C-47BF-A2CA-E67305E88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5283A10-D2A5-403C-B5D5-B53188583C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AD14DF-FFF2-471C-BA92-8628431FE8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F6BA08-032C-4FA4-A209-A0DFED20138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D943A9-D9D4-4E2A-9C3E-1CCF3B3E0D7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327C701-A975-41F9-818B-E12DF59901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C4BC0E-78D9-495C-A5CF-201BA529AA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DB82B0-C053-4AFC-A6AC-2B11879A52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FC35C-6DDC-4803-A48B-95D24119F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8C1026-0971-4B2B-AC64-7A1FD16028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D825BF-B0D8-469A-A1DC-80727A2A6A0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E0F612-0C37-4A5F-9E06-CC6A6253C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CF30E8-6C2B-43F3-8669-AA463AAAF48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B7D332C-A14A-4905-8EDA-5533F5B36D6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27CC67-873E-4760-A676-A5403F1F90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E95AAE-10C0-48E5-877B-DC7AF04B0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1FD3EB-8CAB-4595-8031-159782180DC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54347-CCF0-4A09-89E7-1FBC8F5FA4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535B55-A68B-41E5-A615-10C015B331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B40E1D-51F4-42C5-B310-897D8E703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C1D35B-D8E7-4092-92D8-CC4B6999F0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85659D8-9C48-4FF9-B2CF-7CC8913ED1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EA0E0E-AE73-4131-AEB9-26F62FB0E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B0FEB8D-3594-4615-B85F-5BFB39786FE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8AF340A-B835-41BC-8A9E-266D8338A11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EF75CD-6A29-4F6A-90A4-65D29AEABA0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D25A69-3D35-40A7-9A4C-33C85C8D82F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61242-4E5F-40E4-87C7-92B6FE82541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448065B-7156-45B2-9F3D-120675DCC3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3D2CFB-2E2E-4B50-9B40-51F94D638B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004AEED-0B0A-4900-989D-9AF5E4F0148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1F2ECD-FE12-4888-8836-F4D90783910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63A435-A787-4BF5-923C-37A7BA05D21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7C4AC-A4B2-47AA-916C-C12A9B076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C8B5B6-3725-4156-9C8C-CA5D43C73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E7DD8C-3F0A-4BD0-B699-9202E7852E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CF86063-ECF4-4F88-B2A2-EA0A4694C8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92263B1-11F4-40E6-A5AE-D4E0944062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1204C00-1864-4D1C-91F5-49BF0476E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C00CD2F-4350-4D67-A733-8F5812E8337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03A4F9-6ACA-41AC-955E-1984B8F200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8D9149-2E9C-473B-8E06-D17D4F14DE7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8C392EF-DEFD-4767-807B-859975216D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93C58F-D614-4B56-AFC4-B351D0A804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D7DBB-DF3F-4BAE-919D-B092A1059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3B41A71-ADEC-4882-AA85-182413850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0ED26-5AA8-4F74-8452-1CE4CD7591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44F478-BAEB-4BA7-ACE8-F38E24EC3D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883F65-FC98-4273-9361-5725A7F0D3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D2D3D3-7357-4B87-A01F-C4C756572F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289727-85BA-466B-B639-BF4CC9C332E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4AD807-C678-4835-8C13-32737010521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D77F12-24CF-44B6-9DF0-F8DFBE1EA61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6C1D2D-6780-4879-990C-2756158EF1D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4A4274-CC88-40E7-8F72-E4F04AEF177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4981D46-F980-43A8-989A-6A3D6766E77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710F03-8DF2-4B2B-AEAF-889138E79B4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FC835D-21F8-46F2-A82B-B784A5856487}"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2F6DDB-1D3E-4CAC-B1EF-24A85304F60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897343-D26B-4DC4-B20C-5A353CE36FD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2 THE INTRODUCTION OF SINGLE CHIP MICROCOMPUTER</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单片机</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68280" y="595440"/>
            <a:ext cx="845172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ith the tremendous advances made in automatic control and automated equipment, the knowledge of Single Chip Microcomputer is very important. We'll introduce some key hardware as follo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Central Processing Uni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CPU is the brain of the microcontrollers reading user's programs and executing the expected task as per instructions stored there in. Its primary elements are an 8 bit Arithmetic Logic Unit (ALU), Accumulator (Acc), few more 8 bit registers, B register, Stack Pointer (SP), Program Status Word (PSW) and 16 bit registers, Program Counter (PC) and Data Pointer Register (DPT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ALU (Acc) performs arithmetic and logic functions on 8 bit input variables. Arithmetic operations include basic addition, subtraction, multiplication and division. Logical operations are AND, OR, Exclusive OR as well as rotate, clear, complement and etc®. Apart from all the above, ALU is responsible in conditional, branching decisions, and provides a temporary place in data transfer operations within the device. B register is mainly used in multiply and divide operations. During execution, B register either keeps one of the two inputs and then retains a portion of the result. For other instructions, it can be used as another general purpose register. Program Status Word keeps the current status of the ALU in different bi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108000" y="598320"/>
            <a:ext cx="4968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Stack Pointer (SP) is an 8 bit register. This pointer keeps track of memory space where the important register information is stored when the program flow gets into executing a subroutine</a:t>
            </a:r>
            <a:r>
              <a:rPr b="0" lang="en-US" sz="1600" spc="-1" strike="noStrike">
                <a:solidFill>
                  <a:srgbClr val="000000"/>
                </a:solidFill>
                <a:latin typeface="宋体"/>
                <a:ea typeface="Times New Roman"/>
              </a:rPr>
              <a:t>②</a:t>
            </a:r>
            <a:r>
              <a:rPr b="0" lang="en-US" sz="1600" spc="-1" strike="noStrike">
                <a:solidFill>
                  <a:srgbClr val="000000"/>
                </a:solidFill>
                <a:latin typeface="Times New Roman"/>
                <a:ea typeface="Times New Roman"/>
              </a:rPr>
              <a:t>. Normally SP is initialized to 07H after a device reset and grows up from the location 08H. The Stack Pointer is automatically incremented or decremented for all PUSH or POP instructions and f</a:t>
            </a:r>
            <a:r>
              <a:rPr b="0" lang="en-US" sz="1600" spc="-1" strike="noStrike">
                <a:solidFill>
                  <a:srgbClr val="000000"/>
                </a:solidFill>
                <a:latin typeface="Times New Roman"/>
                <a:ea typeface="等线"/>
              </a:rPr>
              <a:t>o</a:t>
            </a:r>
            <a:r>
              <a:rPr b="0" lang="en-US" sz="1600" spc="-1" strike="noStrike">
                <a:solidFill>
                  <a:srgbClr val="000000"/>
                </a:solidFill>
                <a:latin typeface="Times New Roman"/>
                <a:ea typeface="Times New Roman"/>
              </a:rPr>
              <a:t>r all subroutine calls and returns®. Program Counter (PC) is the 16 bit register giving address of next instruction to be executed during program execution and it always points to the Program Memory space. Data Pointer Register (DPTR) is another 16 bit addressing register that can be used to fetch any 8 bit data from the data memory space. When it is not being used for this purpose, it can be used as two eight bit register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Fig.1-1 shows the diagram of the 8051 core.</a:t>
            </a:r>
            <a:endParaRPr b="0" lang="en-US" sz="1600" spc="-1" strike="noStrike">
              <a:solidFill>
                <a:srgbClr val="000000"/>
              </a:solidFill>
              <a:latin typeface="Calibri"/>
            </a:endParaRPr>
          </a:p>
        </p:txBody>
      </p:sp>
      <p:pic>
        <p:nvPicPr>
          <p:cNvPr id="357" name="图片 6" descr=""/>
          <p:cNvPicPr/>
          <p:nvPr/>
        </p:nvPicPr>
        <p:blipFill>
          <a:blip r:embed="rId1"/>
          <a:stretch/>
        </p:blipFill>
        <p:spPr>
          <a:xfrm>
            <a:off x="5292720" y="584280"/>
            <a:ext cx="3629160" cy="3524040"/>
          </a:xfrm>
          <a:prstGeom prst="rect">
            <a:avLst/>
          </a:prstGeom>
          <a:ln w="0">
            <a:noFill/>
          </a:ln>
        </p:spPr>
      </p:pic>
      <p:sp>
        <p:nvSpPr>
          <p:cNvPr id="358" name="文本框 8"/>
          <p:cNvSpPr/>
          <p:nvPr/>
        </p:nvSpPr>
        <p:spPr>
          <a:xfrm>
            <a:off x="135000" y="4608360"/>
            <a:ext cx="869796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Input/Output Por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8051 's I/O port structure is extremely versatile and flexible. The device has 32 I/O pins configured as four eight bit parallel ports (P0, Pl, P2 and P3). Each pin can be used as an input or as an output under the software control. These I/O pins can be accessed directly by memory instructions during program execution to get required flexibility. These port lines can be operated in different modes and all the pins can be made to do many different tasks apart from their regular I/O function executions. Instructions, which access external memory, use port P0 as a multiplexed address/data bu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3"/>
          <p:cNvSpPr/>
          <p:nvPr/>
        </p:nvSpPr>
        <p:spPr>
          <a:xfrm>
            <a:off x="358920" y="692280"/>
            <a:ext cx="842616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t the beginning of an external memory cycle, low order 8 bits of the address bus are output on P0. The same pins transfer data byte at the later stage of the instruction execution.</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lso, any instruction that accesses external Program Memory will output the higher order byte on P2 during read cycle. Remaining ports, Pl and P3 are available for standard I/O functions. But all the 8 lines of P3 support special functions: Two external interrupt lines, two read/write control lines, serial port's two data lines and two timer inputs are designed to use P3 port lines. When you don't use these special functions, you can use corresponding port lines as a standard I/O. Even within a single port, I/O operations may be combined in many ways. Different pins can be configured as input or outputs independent of each other or the same pin can be used as an input or as output at different tim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2" name="文本框 3" descr=""/>
          <p:cNvPicPr/>
          <p:nvPr/>
        </p:nvPicPr>
        <p:blipFill>
          <a:blip r:embed="rId1"/>
          <a:stretch/>
        </p:blipFill>
        <p:spPr>
          <a:xfrm>
            <a:off x="291960" y="884160"/>
            <a:ext cx="6542280" cy="458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6"/>
          <p:cNvSpPr/>
          <p:nvPr/>
        </p:nvSpPr>
        <p:spPr>
          <a:xfrm>
            <a:off x="250920" y="612720"/>
            <a:ext cx="8569080" cy="3744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宋体"/>
                <a:ea typeface="Times New Roman"/>
              </a:rPr>
              <a:t>(1) </a:t>
            </a:r>
            <a:r>
              <a:rPr b="0" lang="en-US" sz="1600" spc="-1" strike="noStrike">
                <a:solidFill>
                  <a:srgbClr val="000000"/>
                </a:solidFill>
                <a:latin typeface="Times New Roman"/>
                <a:ea typeface="Times New Roman"/>
              </a:rPr>
              <a:t>Logical operations are AND, OR, Exclusive OR as well as rotate, clear, complement and etc.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逻辑操作包括与、或、异或、移位、清零、补、等等。</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2) This pointer keeps track of memory space where the important register information is stored when the program flow gets into executing a subroutin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ere the important register information is stored</a:t>
            </a:r>
            <a:r>
              <a:rPr b="0" lang="zh-CN" sz="1600" spc="-1" strike="noStrike">
                <a:solidFill>
                  <a:srgbClr val="000000"/>
                </a:solidFill>
                <a:latin typeface="Times New Roman"/>
                <a:ea typeface="宋体"/>
              </a:rPr>
              <a:t>是一个由</a:t>
            </a:r>
            <a:r>
              <a:rPr b="0" lang="en-US" sz="1600" spc="-1" strike="noStrike">
                <a:solidFill>
                  <a:srgbClr val="000000"/>
                </a:solidFill>
                <a:latin typeface="Times New Roman"/>
                <a:ea typeface="Times New Roman"/>
              </a:rPr>
              <a:t>where</a:t>
            </a:r>
            <a:r>
              <a:rPr b="0" lang="zh-CN" sz="1600" spc="-1" strike="noStrike">
                <a:solidFill>
                  <a:srgbClr val="000000"/>
                </a:solidFill>
                <a:latin typeface="Times New Roman"/>
                <a:ea typeface="宋体"/>
              </a:rPr>
              <a:t>引导的定语从句，</a:t>
            </a:r>
            <a:r>
              <a:rPr b="0" lang="en-US" sz="1600" spc="-1" strike="noStrike">
                <a:solidFill>
                  <a:srgbClr val="000000"/>
                </a:solidFill>
                <a:latin typeface="Times New Roman"/>
                <a:ea typeface="Times New Roman"/>
              </a:rPr>
              <a:t>where</a:t>
            </a:r>
            <a:r>
              <a:rPr b="0" lang="zh-CN" sz="1600" spc="-1" strike="noStrike">
                <a:solidFill>
                  <a:srgbClr val="000000"/>
                </a:solidFill>
                <a:latin typeface="Times New Roman"/>
                <a:ea typeface="宋体"/>
              </a:rPr>
              <a:t>在定语从句中作地点状语；</a:t>
            </a:r>
            <a:r>
              <a:rPr b="0" lang="en-US" sz="1600" spc="-1" strike="noStrike">
                <a:solidFill>
                  <a:srgbClr val="000000"/>
                </a:solidFill>
                <a:latin typeface="Times New Roman"/>
                <a:ea typeface="Times New Roman"/>
              </a:rPr>
              <a:t>when the program flow gets into executing a subroutine, </a:t>
            </a:r>
            <a:r>
              <a:rPr b="0" lang="zh-CN" sz="1600" spc="-1" strike="noStrike">
                <a:solidFill>
                  <a:srgbClr val="000000"/>
                </a:solidFill>
                <a:latin typeface="Times New Roman"/>
                <a:ea typeface="宋体"/>
              </a:rPr>
              <a:t>是一个时间状语从句，</a:t>
            </a:r>
            <a:r>
              <a:rPr b="0" lang="en-US" sz="1600" spc="-1" strike="noStrike">
                <a:solidFill>
                  <a:srgbClr val="000000"/>
                </a:solidFill>
                <a:latin typeface="Times New Roman"/>
                <a:ea typeface="Times New Roman"/>
              </a:rPr>
              <a:t>when    </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当</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时候。</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当程序执行子程序时，指针记录重要寄存 器信息存储位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Stack Pointer is automatically incremented or decremented for all PUSH or POP instructions and for all subroutine calls and retur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rement-n.&lt;</a:t>
            </a:r>
            <a:r>
              <a:rPr b="0" lang="zh-CN" sz="1600" spc="-1" strike="noStrike">
                <a:solidFill>
                  <a:srgbClr val="000000"/>
                </a:solidFill>
                <a:latin typeface="Times New Roman"/>
                <a:ea typeface="宋体"/>
              </a:rPr>
              <a:t>正式</a:t>
            </a:r>
            <a:r>
              <a:rPr b="0" lang="en-US" sz="1600" spc="-1" strike="noStrike">
                <a:solidFill>
                  <a:srgbClr val="000000"/>
                </a:solidFill>
                <a:latin typeface="Times New Roman"/>
                <a:ea typeface="宋体"/>
              </a:rPr>
              <a:t>&gt;</a:t>
            </a:r>
            <a:r>
              <a:rPr b="0" lang="zh-CN" sz="1600" spc="-1" strike="noStrike">
                <a:solidFill>
                  <a:srgbClr val="000000"/>
                </a:solidFill>
                <a:latin typeface="Times New Roman"/>
                <a:ea typeface="宋体"/>
              </a:rPr>
              <a:t>（尤指连续、定量的）增长</a:t>
            </a:r>
            <a:r>
              <a:rPr b="0" lang="en-US" sz="1600" spc="-1" strike="noStrike">
                <a:solidFill>
                  <a:srgbClr val="000000"/>
                </a:solidFill>
                <a:latin typeface="Times New Roman"/>
                <a:ea typeface="宋体"/>
              </a:rPr>
              <a:t>; v.</a:t>
            </a:r>
            <a:r>
              <a:rPr b="0" lang="zh-CN" sz="1600" spc="-1" strike="noStrike">
                <a:solidFill>
                  <a:srgbClr val="000000"/>
                </a:solidFill>
                <a:latin typeface="Times New Roman"/>
                <a:ea typeface="宋体"/>
              </a:rPr>
              <a:t>（计算机）使（数字值）各自增加。</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依照所有的入栈或者出栈指令，堆栈指针自动增量或减量，依照子程序调用和返回指令，堆栈指针自动的调用和返回。</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宋体"/>
                <a:ea typeface="宋体"/>
              </a:rPr>
              <a:t>(4) </a:t>
            </a:r>
            <a:r>
              <a:rPr b="0" lang="en-US" sz="1600" spc="-1" strike="noStrike">
                <a:solidFill>
                  <a:srgbClr val="000000"/>
                </a:solidFill>
                <a:latin typeface="Times New Roman"/>
                <a:ea typeface="宋体"/>
              </a:rPr>
              <a:t>Different pins can be configured as input or outputs independent of each other or the same pin can be used as an input or as output at different tim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不同的引脚可以独立地配置作为输入或输出口，而且同一个引脚在不同的时段分别作为输入或者输出口。</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39:11Z</dcterms:modified>
  <cp:revision>2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